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3014-1D11-4EE1-A8A1-0E32F99B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EA70-BFBE-4441-B945-00ACEE23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DE41-DB7C-4FB6-9EA5-BCDFE93B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482-2F9F-4257-AF74-47689298A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D47F-A6A4-4F8C-A503-8C7D1C479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560D-7685-40C9-9C4F-62CD2CEB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CA8EA-34B1-4442-919E-9F3890FF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78DA-7FAC-4ACA-9470-FCD9CB00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939C-17D4-4FD0-B374-71025910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AE67-8B00-42A9-B7C1-9F2930B1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DD00-5E36-4DE5-B198-D948101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58A4-A6F5-4A30-A87D-FBC0B27D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6328-1965-4D91-B4DF-74C2A034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A70E-E4E7-49FC-8FC4-9499864F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47F9-66FC-4584-9765-EFFFA0C8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BBCB-A6D2-4971-998C-BB9F3A06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6073-6F8C-4543-A726-7B7CD71D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D39-4D49-4B24-B080-BA2B90F7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22FB-D5B4-4055-A690-15E7E813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C38-EFFE-4C2C-AF90-62CD46A0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7DC2-F4BD-4016-97FB-B434FF8B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8B26-011D-4201-A886-1E0E523E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B71-D1E9-4E6B-834E-465BEBCF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ACB0-31B8-4C90-A364-6A58EF50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0202-DD84-4792-9ABD-10674578669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146-6F24-47F0-A6E7-1D35D5C0001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an-Baptiste Lully 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WV3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Arial"/>
              </a:rPr>
              <a:t>Jean-Baptiste Lully (Gianbattista Lulli)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28/1632 Floren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3/14 let: Paří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 violons du r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rancouzská 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allets de c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médie-ba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agédies ly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* Král tančí (20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ean-Baptiste_Lully_Nicolas_Mignard"/>
          <p:cNvPicPr/>
          <p:nvPr/>
        </p:nvPicPr>
        <p:blipFill>
          <a:blip r:embed="rId1"/>
          <a:stretch/>
        </p:blipFill>
        <p:spPr>
          <a:xfrm>
            <a:off x="5219640" y="1628640"/>
            <a:ext cx="3554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Duchovní hudb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roku 166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4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Miser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61 (1668) </a:t>
            </a:r>
            <a:r>
              <a:rPr b="0" i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Plaude laetare Gal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677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Te De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Moteto </a:t>
            </a:r>
            <a:r>
              <a:rPr b="0" i="1" lang="cs-CZ" sz="38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tinský text: Pierre Perr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aduj se a zpívej, Franci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auphin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3 části: I. Sympho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. O Jesu vita precanti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II. Vivat regnet princeps fide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lý x velký s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che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800px-Dauphiné"/>
          <p:cNvPicPr/>
          <p:nvPr/>
        </p:nvPicPr>
        <p:blipFill>
          <a:blip r:embed="rId1"/>
          <a:stretch/>
        </p:blipFill>
        <p:spPr>
          <a:xfrm>
            <a:off x="6156360" y="1341360"/>
            <a:ext cx="2436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. Sympho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aude laetare Galli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uj se a zpívej Fran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re caelesti rigantur lilia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lie je umyta nebeskou roso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acro Delphinus fonte lavatu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uphin se očistil 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vátném Pís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t christianus Christo dicatur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řesťan je určen Kris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O Jesu vita precant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se modl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 Jesu vita crede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Ó Ježíši, živote těch, kdo věř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audi vota precantiu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yš modlitbu tvých prosebník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. Vivat regnet princeps fide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vat regnet princeps fid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Princ dlouho žije a vlád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justus, semper victor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správně, vždy vítězně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mper augus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ždy královsk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umphet in cael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éž zvítězí na neb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t sempiterna luceat corona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kéž jeho koruna září navž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arak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étorické fig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ČIC, Ladislav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ějiny hudby III.: Barok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Euromedia Group, k. s. – Ikar, 200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ŇOUROVÁ, Lucie. Skladatel měsíce: Jean-Baptiste Lully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Harmoni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14.12.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EYER, Hajdu Jones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Jean-Baptiste Lully and the music of the French Baroque: essays in honor of James R. Anthon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 Cambridge University Press, 1989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1T15:02:49Z</dcterms:created>
  <dc:creator>Pinkova</dc:creator>
  <dc:description/>
  <dc:language>en-US</dc:language>
  <cp:lastModifiedBy>Jana Perutková</cp:lastModifiedBy>
  <dcterms:modified xsi:type="dcterms:W3CDTF">2016-12-07T22:30:58Z</dcterms:modified>
  <cp:revision>9</cp:revision>
  <dc:subject/>
  <dc:title>Plaude laetare Gallia</dc:title>
</cp:coreProperties>
</file>