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1E0-8879-4E6C-9638-2DB4A1AB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69E-1E13-4C50-B908-03A6509B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B64-B048-4881-84CD-214D6B38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548-3430-4C63-9282-5D0391DF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60D0-1839-4B4E-B3B7-06449639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DB56-0E30-4CA0-A75E-378C50D7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0449-21AA-4817-BB23-62A494BB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9E2A-C9FF-4F1D-98F4-BF7FF370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6D5A-DB92-4F29-B879-D96BBEB5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B972-C69D-4C71-A289-CC458981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D9C-5C18-44AF-B19D-E92228CF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A70-338E-4436-9168-21C61661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C5D2-C5AF-4A3E-8154-D1B4CFA5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2BD1-5659-41D8-8818-BF1FCFC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4410-1AAD-4F2F-9CB6-E3304179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208E-2015-4C86-A108-1C7058EF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669F-D3BA-4F94-9B17-1B4206A5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B2B-60E0-4BF3-95A1-3C94A9A6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777-EEEA-4AED-B33E-C77ABDDF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259-558B-4F44-98BB-4D760DAE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E06-34B0-4D74-BF8C-9CC15FEB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235-8F83-4C14-B742-1C4D449D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D7A-1F12-41A8-9D9E-C0E0C373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2D3-CE48-437B-BF56-2A13EEE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35F5-EC5F-42F4-A067-03D48B41B45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6F86-7C3F-4279-853A-4A4CF6FA255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Baptiste Lully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WV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Jean-Baptiste Lully (Gianbattista Lulli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28/1632 Flore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3/14 let: Pa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 violons du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á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lets de 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édie-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gédies ly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Král tančí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ean-Baptiste_Lully_Nicolas_Mignard"/>
          <p:cNvPicPr/>
          <p:nvPr/>
        </p:nvPicPr>
        <p:blipFill>
          <a:blip r:embed="rId1"/>
          <a:stretch/>
        </p:blipFill>
        <p:spPr>
          <a:xfrm>
            <a:off x="5219640" y="1628640"/>
            <a:ext cx="355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uchovní hud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oku 16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4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iser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1 (1668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laude laetare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77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e D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oteto </a:t>
            </a:r>
            <a:r>
              <a:rPr b="0" i="1" lang="cs-CZ" sz="38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inský text: Pierre Per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uj se a zpívej, Franci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uphi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ásti: I. Sympho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. O Jesu vita precant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I. Vivat regnet princeps fide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x velký s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che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00px-Dauphiné"/>
          <p:cNvPicPr/>
          <p:nvPr/>
        </p:nvPicPr>
        <p:blipFill>
          <a:blip r:embed="rId1"/>
          <a:stretch/>
        </p:blipFill>
        <p:spPr>
          <a:xfrm>
            <a:off x="6156360" y="1341360"/>
            <a:ext cx="2436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Symph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uj se a zpívej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re caelesti rigantur lili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lie je umyta nebeskou ros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cro Delphinus fonte lavatu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uphin se očistil 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vátném Pís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 christianus Christo dicatur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řesťan je určen Kri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O Jesu vita precan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se mod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crede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věř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udi vo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yš modlitbu tvých proseb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Vivat regnet princeps fid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vat regnet princeps fid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Princ dlouho žije a vlád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justus, semper victo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správně, vždy vítězn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augus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královs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umphet in ca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zvítězí na neb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 sempiterna luceat coro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éž jeho koruna září navž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étorické fig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ČIC, Ladislav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ějiny hudby III.: Baro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Euromedia Group, k. s. – Ikar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ŇOUROVÁ, Lucie. Skladatel měsíce: Jean-Baptiste Lully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armon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14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YER, Hajdu Jones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an-Baptiste Lully and the music of the French Baroque: essays in honor of James R. Antho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ambridge University Press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5:02:49Z</dcterms:created>
  <dc:creator>Pinkova</dc:creator>
  <dc:description/>
  <dc:language>en-US</dc:language>
  <cp:lastModifiedBy>Jana Perutková</cp:lastModifiedBy>
  <dcterms:modified xsi:type="dcterms:W3CDTF">2016-12-07T22:30:58Z</dcterms:modified>
  <cp:revision>9</cp:revision>
  <dc:subject/>
  <dc:title>Plaude laetare Gallia</dc:title>
</cp:coreProperties>
</file>