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0D9-E96C-4D6B-AF30-3402A31E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344-446D-410F-9ADB-F09E38F8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2BF1-B571-4FF9-B283-DCE81B6B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A69-6441-4315-949F-8E8C3653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20A2-DE07-4633-9E2E-C3534628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AB0B-B594-4B01-B729-C66CD21B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83E0-5FCE-4413-B04D-6FF777C1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403E-A318-459C-BE54-C3916396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A2C3-3866-4054-AD23-2932C54A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72BB-5F4C-45BA-A356-77F5FEE1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CCCD-447D-4FA7-9191-4798B9F4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36BD-B93F-4380-9568-8201F90A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DE6B-3021-4493-8306-A5C4BE0E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A2F9-CAC6-4164-859F-CB1E08BC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447C-E026-47D2-8DCC-05342AF3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B271-A0A3-4FAC-B184-C264F9A9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63A6-1CA6-43DE-B6BA-1FCB712A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B82-89E2-4DEE-A74F-E06619D5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9BE6-BA34-4F8C-9320-56521018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ECE-BC7C-4D9C-AFEE-8E7B0536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CC1D-F4EC-4357-8057-06B41F5C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4DD2-4BB3-44A6-A461-A565623D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E6D-EA52-4AE9-9412-ED0F07BC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65AF-B46A-4723-96DE-13BC3CA6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21AA-DA81-494D-82C6-13F2F4F70A5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BDD1-634F-41F3-81B9-52F0B1473A7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an-Baptiste Lully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WV3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Jean-Baptiste Lully (Gianbattista Lulli)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28/1632 Floren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3/14 let: Paří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 violons du r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rancouzská 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llets de c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médie-ba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agédies ly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Král tančí (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ean-Baptiste_Lully_Nicolas_Mignard"/>
          <p:cNvPicPr/>
          <p:nvPr/>
        </p:nvPicPr>
        <p:blipFill>
          <a:blip r:embed="rId1"/>
          <a:stretch/>
        </p:blipFill>
        <p:spPr>
          <a:xfrm>
            <a:off x="5219640" y="1628640"/>
            <a:ext cx="35546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uchovní hudb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roku 166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64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iser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61 (1668) </a:t>
            </a: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laude laetare Gal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77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Te D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Moteto </a:t>
            </a:r>
            <a:r>
              <a:rPr b="0" i="1" lang="cs-CZ" sz="38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tinský text: Pierre Per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duj se a zpívej, Franci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uphin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 části: I. Sympho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I. O Jesu vita precant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II. Vivat regnet princeps fidel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lý x velký s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che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800px-Dauphiné"/>
          <p:cNvPicPr/>
          <p:nvPr/>
        </p:nvPicPr>
        <p:blipFill>
          <a:blip r:embed="rId1"/>
          <a:stretch/>
        </p:blipFill>
        <p:spPr>
          <a:xfrm>
            <a:off x="6156360" y="1341360"/>
            <a:ext cx="2436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. Symph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duj se a zpívej Fran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re caelesti rigantur lilia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lie je umyta nebeskou roso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acro Delphinus fonte lavatu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uphin se očistil 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vátném Pís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t christianus Christo dicatur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křesťan je určen Kris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O Jesu vita precan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Jesu vita preca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Ó Ježíši, živote těch, kdo se modl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Jesu vita crede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Ó Ježíši, živote těch, kdo věř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audi vota preca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yš modlitbu tvých prosební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. Vivat regnet princeps fide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vat regnet princeps fidel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éž Princ dlouho žije a vlád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mper justus, semper victor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ždy správně, vždy vítězně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mper august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ždy královs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umphet in cael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éž zvítězí na neb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 sempiterna luceat corona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kéž jeho koruna září navž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arak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étorické fig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ČIC, Ladislav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ějiny hudby III.: Barok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Euromedia Group, k. s. – Ikar, 200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ŇOUROVÁ, Lucie. Skladatel měsíce: Jean-Baptiste Lully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Harmon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14.12.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EYER, Hajdu Jones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Jean-Baptiste Lully and the music of the French Baroque: essays in honor of James R. Antho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Cambridge University Press, 198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1T15:02:49Z</dcterms:created>
  <dc:creator>Pinkova</dc:creator>
  <dc:description/>
  <dc:language>en-US</dc:language>
  <cp:lastModifiedBy>Jana Perutková</cp:lastModifiedBy>
  <dcterms:modified xsi:type="dcterms:W3CDTF">2016-12-07T22:30:58Z</dcterms:modified>
  <cp:revision>9</cp:revision>
  <dc:subject/>
  <dc:title>Plaude laetare Gallia</dc:title>
</cp:coreProperties>
</file>