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86800" cy="100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90204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9040" y="475776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0" y="951372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902040" y="951372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548F7-966D-4E0B-9423-12CC096DB64B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902040" y="951372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9837C-D723-4144-94A8-2AEA80659694}" type="slidenum">
              <a:rPr b="0" lang="cs-CZ" sz="12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9040" y="475776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902040" y="951372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812D3-7A3B-4F29-831E-5D03377CF5E9}" type="slidenum">
              <a:rPr b="0" lang="cs-CZ" sz="12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9040" y="475776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62E0-B0CD-43AD-B52C-CE82C636B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AA72-3BD6-455B-A95B-80889EA91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318D-6EDA-47FB-B922-D9123495A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8B95-0442-4011-8A3A-58A824BDF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1B70D-3DC1-45D7-B600-2B6179040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C6121-90B1-42FF-BBC0-D718C1CD0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11E0D-38F3-486D-81EF-58B5580BB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9B05C-6588-4CE9-9818-0889AA583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37A34-A730-48BF-B942-DE94B2B1B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F862D-AF5A-4EFA-93C3-E092BD49D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C8215-C915-47A5-9FED-9842583F8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045A-F7D4-4A3D-80C9-D7048E60F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F8C83-F99E-4592-A77F-6603FED11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942FD-46D2-4ABE-8CE1-64A014CCB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0FFC6-A906-4B60-820D-58A1CB043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29611-1E98-451B-8866-2A57C6AE5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AFEFC-0800-401C-8513-C2B9A36CA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C1B5-9F2A-443F-8A12-869055278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1E99-4B35-4178-9FC6-629544169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4E6C-5EE1-403F-93FC-CDB33D575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DBA6-EF13-4F1E-8FB9-D5AADF67A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971A-F63A-46E0-BE06-F855879CA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5FDA-408E-43A7-8F2E-5FFACA3F1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A065-0C85-4550-91EA-468B200CC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B5E44-4978-4778-9981-305B6C94071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2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3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4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A89A4-6DF4-4515-AAA5-313142E43BA9}" type="slidenum">
              <a:rPr b="0" lang="cs-CZ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126172@mail.muni.cz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lib.cas.cz/online-katalogy/" TargetMode="External"/><Relationship Id="rId2" Type="http://schemas.openxmlformats.org/officeDocument/2006/relationships/hyperlink" Target="http://www.ncbi.nlm.nih.gov/pubmed/" TargetMode="External"/><Relationship Id="rId3" Type="http://schemas.openxmlformats.org/officeDocument/2006/relationships/hyperlink" Target="http://www.google.com/" TargetMode="External"/><Relationship Id="rId4" Type="http://schemas.openxmlformats.org/officeDocument/2006/relationships/hyperlink" Target="http://www.lib.cas.cz/online-katalogy/" TargetMode="External"/><Relationship Id="rId5" Type="http://schemas.openxmlformats.org/officeDocument/2006/relationships/hyperlink" Target="http://www.ncbi.nlm.nih.gov/pubmed/advanced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050560" y="1371600"/>
            <a:ext cx="709308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IKBA11</a:t>
            </a:r>
            <a:br>
              <a:rPr sz="1600"/>
            </a:br>
            <a:r>
              <a:rPr b="1" lang="cs-CZ" sz="2600" spc="-1" strike="noStrike">
                <a:solidFill>
                  <a:srgbClr val="000000"/>
                </a:solidFill>
                <a:latin typeface="Arial"/>
              </a:rPr>
              <a:t>Selekční jazyk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133360" y="3733920"/>
            <a:ext cx="6476760" cy="27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1. 12. 2017: Přirozený jazyk vs řízený slovník z hlediska věcného vyhledáván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P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FF MU, podzim 20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Mgr. Josef Schwar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 u="sng">
                <a:solidFill>
                  <a:srgbClr val="006666"/>
                </a:solidFill>
                <a:uFillTx/>
                <a:latin typeface="Arial"/>
                <a:hlinkClick r:id="rId1"/>
              </a:rPr>
              <a:t>126172@mail.muni.c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000000"/>
                </a:solidFill>
                <a:latin typeface="Arial"/>
              </a:rPr>
              <a:t>Specifičnost vyhledávaných výrazů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23520" y="1905120"/>
            <a:ext cx="343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řízený slovní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mezená množina lexikálních jednot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097240" y="1905120"/>
            <a:ext cx="343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lný te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šechny specifické výraz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000000"/>
                </a:solidFill>
                <a:latin typeface="Arial"/>
              </a:rPr>
              <a:t>Vzdálenost vyhledávaných výrazů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523520" y="1905120"/>
            <a:ext cx="343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řízený slovní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bvykle (v rámci SOD) není potře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ožnost blízkosti zadaných výrazů (fráz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íkl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97240" y="1905120"/>
            <a:ext cx="343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lný te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ximitní operá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zdálenost výrazů určená počtem slov (příp. se zohlednění pořad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zdálenost výrazů určená segmentem tex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Délka SOD / textu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řízený slovník (SOD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běrová (selective) index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plná (exhaustive) index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495680" y="1905120"/>
            <a:ext cx="4267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lný te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omprimovaný 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bstrakt, anotace, výtah 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ozsah komprimovaného tex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lný text dokumen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304920" y="4648320"/>
            <a:ext cx="88390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SzPct val="1131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6666"/>
                </a:solidFill>
                <a:latin typeface="Tahoma"/>
              </a:rPr>
              <a:t>Extrémy: klasifikace do jedné třídy x plný text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131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6666"/>
                </a:solidFill>
                <a:latin typeface="Tahoma"/>
              </a:rPr>
              <a:t>Vyšší délka -&gt; vyšší úplnost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131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6666"/>
                </a:solidFill>
                <a:latin typeface="Tahoma"/>
              </a:rPr>
              <a:t>Úplná indexace přináší úplnější výsledky vyhledávání než název a  krátký abstrakt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131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6666"/>
                </a:solidFill>
                <a:latin typeface="Tahoma"/>
              </a:rPr>
              <a:t>Krátký abstrakt přináší úplnější výsledky vyhledávání než výběrová indexace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131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6666"/>
                </a:solidFill>
                <a:latin typeface="Tahoma"/>
              </a:rPr>
              <a:t>Dlouhý abstrakt (referát) a plný text přinášejí úplnější výsledky vyhledávání než úplná indexace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131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131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11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Typ uživatel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řízený slovní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yužívá spíše odborník seznámený s pravidly tvorby, strukturou a způsobem práce s 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lasifikace, které nejsou založené na přirozeném jazyce, běžní uživatelé využívají minimáln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097240" y="1905120"/>
            <a:ext cx="343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lný te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e přístupný všem typům uživatel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i nedostatečné znalosti systému však uživatel může být frustrován omezeným nebo naopak nadměrný počtem vyhledaným dokument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Arial"/>
              </a:rPr>
              <a:t>Požadavky na přesnost/úplnos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23520" y="1905120"/>
            <a:ext cx="343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řízený slovní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ůže být lepší z hlediska přes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LE: podle konkrétních podmínek zvyšuje úpl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097240" y="1905120"/>
            <a:ext cx="343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lný te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ůže být lepší z hlediska úpl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LE: v případě vyhledávání specifického výrazu zvyšuje přes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Výsledné hodnocení ŘS vs F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050560" y="1676160"/>
            <a:ext cx="6559560" cy="48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vyhledávání pomocí řízeného slovníku i v plném textu má své výhody i nevýhod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jejich použití je třeba zvažovat podle konkrétních potřeb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hybridní systém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lný text i řízený slovní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ozšiřování uživatelského dotazu pomocí ŘS (query expans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strukturovaný dotaz – systém TOPIC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káz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íklad využit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moderní modely vyhledávání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ektorové vyhledá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latentní sémantické indexo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Typy vyhledávání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699920"/>
            <a:ext cx="784872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nestrukturované vyhledávání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ákladní, jednoduché vyhledá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6666"/>
                </a:solidFill>
                <a:uFillTx/>
                <a:latin typeface="Arial"/>
                <a:hlinkClick r:id="rId1"/>
              </a:rPr>
              <a:t>KNAV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cs-CZ" sz="1800" spc="-1" strike="noStrike" u="sng">
                <a:solidFill>
                  <a:srgbClr val="006666"/>
                </a:solidFill>
                <a:uFillTx/>
                <a:latin typeface="Arial"/>
                <a:hlinkClick r:id="rId2"/>
              </a:rPr>
              <a:t>PubMed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cs-CZ" sz="1800" spc="-1" strike="noStrike" u="sng">
                <a:solidFill>
                  <a:srgbClr val="006666"/>
                </a:solidFill>
                <a:uFillTx/>
                <a:latin typeface="Arial"/>
                <a:hlinkClick r:id="rId3"/>
              </a:rPr>
              <a:t>Goo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strukturované vyhledávání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kročilé, podrobné vyhledá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6666"/>
                </a:solidFill>
                <a:uFillTx/>
                <a:latin typeface="Arial"/>
                <a:hlinkClick r:id="rId4"/>
              </a:rPr>
              <a:t>KNAV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cs-CZ" sz="1800" spc="-1" strike="noStrike" u="sng">
                <a:solidFill>
                  <a:srgbClr val="006666"/>
                </a:solidFill>
                <a:uFillTx/>
                <a:latin typeface="Arial"/>
                <a:hlinkClick r:id="rId5"/>
              </a:rPr>
              <a:t>PubMed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Goo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řízený slovník (tezaurus, seznam předmětových hesel nebo klíčových slov apo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ní dostupný: KN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e dostupný samostatně: NTK (PS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e dostupný při vyhledávání: NK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lnotextové (fulltextové) vyhledávání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nvertovaný rejstří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ekvenční vyhledá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000000"/>
                </a:solidFill>
                <a:latin typeface="Arial"/>
              </a:rPr>
              <a:t>Problémy při věcném vyhledávání</a:t>
            </a:r>
            <a:br>
              <a:rPr sz="3400"/>
            </a:b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s ohledem na přirozený jazyk a řízený slovník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835280" y="1599840"/>
            <a:ext cx="6775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Faktory ovlivňující vyhledávání (výběrově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becné faktor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ubjektivní aspekty zpracová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ícejazyč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Faktory související se slovníke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lexe a tvorba sl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symetrie jazy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implicitní (paradigmatické) vztahy mezi pojmy (obecné vs specifické pojm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ožnost vyhledávání nových termínů (pojmů, téma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ecifičnost vyhledávaných výraz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zdálenost vyhledávaných výraz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Faktory související s délkou SOD nebo tex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Faktory související s uživatele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yp uživate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žadavky na přesnost a/nebo úpl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Subjektivní aspekty zpracování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87280" y="1905120"/>
            <a:ext cx="34610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řízený slovní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vlivnění SOD subjektivním přístupem  indexátora (neplatí, pokud se používá systém automatické indexa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utnost předjímat potřeby uživate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valita a konzistence index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363640" y="1905120"/>
            <a:ext cx="3170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lný te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i vyhledávání bez vliv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le na úrovni textu: různá terminologie, různá reprezentace pojmů, různá ideologická východiska at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Vícejazyčnos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řízený slovní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spokojivě řeší z hlediska textu i z hlediska uživate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deální řešení: texty více jazyků jsou indexovány vícejazyčným řízeným slovníkem nebo klasifikací (nezávislou na přirozeném jazy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00240" y="1905120"/>
            <a:ext cx="39625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lný te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e standardních systémech nutnost formulace několika dotaz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íklad: sněmovní tis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řeší pokročilé metody vyhledávání založené na statistických modelech textu (např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xov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ání latentní sémantik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Flexe a tvorba slov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23520" y="1905120"/>
            <a:ext cx="343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řízený slovní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yřeše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495680" y="1905120"/>
            <a:ext cx="4267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lný te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rácen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bvykle účinné: antropolog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ěkdy však problematické: sen/sny/snová/snivec; kůň/koně/konír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erivátor slovních tvar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íkl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Asymetrie jazyka</a:t>
            </a:r>
            <a:br>
              <a:rPr sz="4200"/>
            </a:b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synonymie, homonymie, polysémie atd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23520" y="1905120"/>
            <a:ext cx="343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řízený slovní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ynonymie a další jazykové jevy vyřešeny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800240" y="190512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lný te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ynonym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e třeba zohlednit při formulaci dotaz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monym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lexikální homonyma (objetí, travička, župan, občank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gramatická homonyma (ženu, je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a obecné úrovni obtížně řešiteln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Paradigmatické vztahy</a:t>
            </a:r>
            <a:br>
              <a:rPr sz="4200"/>
            </a:b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Obecné vs specifické pojm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23520" y="1905120"/>
            <a:ext cx="343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řízený slovní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ztahy mezi pojmy stanovuje struktura řízeného slovníku, která umožňuje vyhledat i další relevantní výraz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LE: i v ŘS problémy s vyjádřením pojm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97240" y="1905120"/>
            <a:ext cx="343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lný te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mplicitní paradigmatické vztahy nemusí uživatel znát nebo si je uvědo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bronz -&gt; slitina kov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uesta -&gt; typ vrcholu kop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Nové termíny, pojmy, témat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523520" y="1905120"/>
            <a:ext cx="343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řízený slovní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 časovým zpožděním, nutnost vyjádřit stávajícími deskriptory nebo jejich kombinac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097240" y="1905120"/>
            <a:ext cx="343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lný te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ez problémů, ovšem s rozptylem daným odlišnostmi mezi jednotlivými autory i terminologickým vývoj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5T21:06:36Z</dcterms:created>
  <dc:creator>J.Schwarz</dc:creator>
  <dc:description/>
  <dc:language>en-US</dc:language>
  <cp:lastModifiedBy>Josef Schwarz</cp:lastModifiedBy>
  <dcterms:modified xsi:type="dcterms:W3CDTF">2017-12-06T09:53:14Z</dcterms:modified>
  <cp:revision>156</cp:revision>
  <dc:subject/>
  <dc:title>Selekční jazyky</dc:title>
</cp:coreProperties>
</file>