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1466-D150-49C9-8A21-183DA62AD3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2339-8915-4AF4-8853-51CF2BC79A6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ECC-A1F3-48C3-9643-87FE4069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723-54C5-43C3-9983-4B809C00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C60-C18F-4736-8C99-2AB4E84C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F13-1A49-45C0-A48D-1F91310C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E67-F7A4-4EED-B954-ADD37988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B782-FF4A-42F1-97BC-719005C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7E7-90AE-464E-B0A6-02E279C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58EC-9935-4627-8273-B957CB5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CD99-D189-4CF5-AA12-44B4397D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6DB0-70F6-4834-9088-BB2426A8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CBA8-FEA2-4790-93AC-87132C6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04A-3B02-498C-A48C-0EEC507D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8B74-FA5D-4535-9265-16FCAB4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FB53-3694-41D8-9DDD-B3B4BE7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1B1C-6687-4027-8D80-1BE1D40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4970-2759-4AA9-B331-16400170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6822-FA28-4382-8C9B-BAF6E76A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AA5-DCEB-45A1-8B0B-92BEF791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B2F-533A-454D-A8FF-8F85C42D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7C2-784A-49C2-9918-A78D3D9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3C5-2338-4BED-BB95-D8BF6197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525-6AE2-4679-8ACA-E3DBBFF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052-E96B-45AB-BA56-1D5B304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E3C-7F08-4B09-A7CB-2F15A06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6146-5793-45B3-AF4F-139BB6CF9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77F-0337-4CC9-83BE-AD60860545DD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trid.trb.org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hyperlink" Target="http://archive.ifla.org/VII/s29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ufind.techlib.cz/" TargetMode="External"/><Relationship Id="rId2" Type="http://schemas.openxmlformats.org/officeDocument/2006/relationships/hyperlink" Target="http://www.obchodnirejstrik.cz/" TargetMode="External"/><Relationship Id="rId3" Type="http://schemas.openxmlformats.org/officeDocument/2006/relationships/hyperlink" Target="http://cz.udc-hub.com/cs/login.php" TargetMode="External"/><Relationship Id="rId4" Type="http://schemas.openxmlformats.org/officeDocument/2006/relationships/hyperlink" Target="https://www.czso.cz/csu/czso/klasifikace_ekonomickych_cinnosti_cz_nace" TargetMode="External"/><Relationship Id="rId5" Type="http://schemas.openxmlformats.org/officeDocument/2006/relationships/hyperlink" Target="http://www.census.gov/eos/www/naics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zdroje.muni.cz/prehled/zdroj.php?lang=cs&amp;id=350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theiet.org/resources/inspec/" TargetMode="External"/><Relationship Id="rId4" Type="http://schemas.openxmlformats.org/officeDocument/2006/relationships/hyperlink" Target="http://eric.ed.gov/" TargetMode="External"/><Relationship Id="rId5" Type="http://schemas.openxmlformats.org/officeDocument/2006/relationships/hyperlink" Target="https://ezdroje.muni.cz/prehled/zdroj.php?lang=cs&amp;id=84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ch.jib.cz/" TargetMode="External"/><Relationship Id="rId2" Type="http://schemas.openxmlformats.org/officeDocument/2006/relationships/hyperlink" Target="http://www.jib.cz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xx.lanl.gov/" TargetMode="External"/><Relationship Id="rId2" Type="http://schemas.openxmlformats.org/officeDocument/2006/relationships/hyperlink" Target="https://ezdroje.muni.cz/prehled/zdroj.php?lang=cs&amp;id=58" TargetMode="External"/><Relationship Id="rId3" Type="http://schemas.openxmlformats.org/officeDocument/2006/relationships/hyperlink" Target="https://ezdroje.muni.cz/prehled/zdroj.php?lang=cs&amp;id=58" TargetMode="External"/><Relationship Id="rId4" Type="http://schemas.openxmlformats.org/officeDocument/2006/relationships/hyperlink" Target="https://ezdroje.muni.cz/prehled/zdroj.php?lang=cs&amp;id=58" TargetMode="External"/><Relationship Id="rId5" Type="http://schemas.openxmlformats.org/officeDocument/2006/relationships/hyperlink" Target="http://www.wipo.int/classifications/ipc/en/" TargetMode="External"/><Relationship Id="rId6" Type="http://schemas.openxmlformats.org/officeDocument/2006/relationships/hyperlink" Target="http://brevets-patents.ic.gc.ca/opic-cipo/cpd/eng/introduction.html" TargetMode="External"/><Relationship Id="rId7" Type="http://schemas.openxmlformats.org/officeDocument/2006/relationships/hyperlink" Target="https://www.j-platpat.inpit.go.jp/web/all/top/BTmTopEnglishPage" TargetMode="External"/><Relationship Id="rId8" Type="http://schemas.openxmlformats.org/officeDocument/2006/relationships/hyperlink" Target="https://www.j-platpat.inpit.go.jp/web/all/top/BTmTopEnglishPage" TargetMode="External"/><Relationship Id="rId9" Type="http://schemas.openxmlformats.org/officeDocument/2006/relationships/hyperlink" Target="https://www.j-platpat.inpit.go.jp/web/all/top/BTmTopEnglishPage" TargetMode="External"/><Relationship Id="rId10" Type="http://schemas.openxmlformats.org/officeDocument/2006/relationships/hyperlink" Target="https://www.j-platpat.inpit.go.jp/web/all/top/BTmTopEnglishPage" TargetMode="External"/><Relationship Id="rId11" Type="http://schemas.openxmlformats.org/officeDocument/2006/relationships/hyperlink" Target="http://www.diss.fu-berlin.de/diss/content/below/index.xml" TargetMode="External"/><Relationship Id="rId12" Type="http://schemas.openxmlformats.org/officeDocument/2006/relationships/hyperlink" Target="http://theses.cz/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12. 2017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lekční jazyky a věcné vyhledávání; standardizace a harmonizace SJ (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TRI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a: bezpečnost železničních přejez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 a harmonizace S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informačních zdrojů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sekundár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přejímaných bbg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ysl a 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měn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pora práce, času a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nadnění věcného přístupu k dokumentům a informa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64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rové zaměření 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ého sl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postkoordinace/prekooord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izace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lex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řevzetí tezauru nebo jeho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MDT-výběr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definice vzta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ravidla pro tvorbu hesel L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form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UNIMARC/Aut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c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IFLA Classification and Indexing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erican Society for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447920"/>
            <a:ext cx="7380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ojitelnost SJ a potažm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 harmon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bi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ti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né sbližování dvou nebo víc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or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převodníku mezi dvěma nebo více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lexikální jedno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po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– mapování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7483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stejný typ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koordinovaný SJ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st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ovaný SJ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směrný nebo obousměrný přev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ovací S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u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- mapování SJ</a:t>
            </a:r>
            <a:br>
              <a:rPr sz="4200"/>
            </a:b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LJ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CSH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spekt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M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rovoc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pojm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MLS Meta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ostup při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3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alýza požadav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dentifikace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anovení rešeršní strategie a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ulace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odnocení/interpretace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523520"/>
            <a:ext cx="707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harmonizace a inte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rmonizace řízených slovníků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ISO 5964 (ČSN 01 0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rovoc (23 jazyků), Eurovoc (26),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verze předmětových h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C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gvistické problémy (překlad/přev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k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0% kompatibilita (+nedeskriptory a poznám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y tezauru pro lokál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správy a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proces aktu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tezauru do A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W pro správu tez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79280" y="1699920"/>
            <a:ext cx="71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s jaz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inantní jazyk/sekundární 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rostředkující jazy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66600" y="1904760"/>
            <a:ext cx="6667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klad/převod teza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zí jazyk – jazyk, ze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řekladu – jazyk, do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lingvistické a intralingvistické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(PSH, řa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6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upeň ekvivalence výraz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ín/více termí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Phys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sj1"/>
          <p:cNvPicPr/>
          <p:nvPr/>
        </p:nvPicPr>
        <p:blipFill>
          <a:blip r:embed="rId1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Ged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4" name="Picture 6" descr="sj2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Wissensch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9" name="Picture 6" descr="sj3"/>
          <p:cNvPicPr/>
          <p:nvPr/>
        </p:nvPicPr>
        <p:blipFill>
          <a:blip r:embed="rId5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fu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79680" y="190512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arb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ombust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4" name="Picture 6" descr="sj4"/>
          <p:cNvPicPr/>
          <p:nvPr/>
        </p:nvPicPr>
        <p:blipFill>
          <a:blip r:embed="rId8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enhanced publica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J: ?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ustálený termí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j5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ruhy vyhledávání podle typu hledané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ikační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náme některé údaje o hledaném dokumentu nebo polož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T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bchodní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ěcné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eznáme požadovaný dokument, hledáme určité té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ledávací výrazy: věcné údaje - klíčová slova z názvu, předmětová hesla, klíčová slova, deskriptory tezauru, klíčová slova z textu dokumentu (redukovaného nebo plného), klasifikac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D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CZ-NAC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NAIC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ceme zjistit konkrétní informa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údaje podle obsahu a struktury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5238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 a zaměření informačního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da, technika, výzkum, standard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á (státní) správa, samospráva, legis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zdroje v oblasti kultury, umění, záb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smédia, zpravodajství, informace „všedního d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chivní informač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z uvedených okruhů 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nároky na rozsah i hloubku věcného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možnosti věcného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523880"/>
            <a:ext cx="677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elmi schematické rozdě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emi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Reaxy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lékařství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technika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INSP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enské a humanitní vědy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ER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roquest - humaniti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bliografická (dokumentografická) databáze/k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otextov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typu adres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bázová centra (funkce CrossSearch, CrossFile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katalogu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Te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metavyhledávačů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JI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ový“ web „hlubok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resp. „neviditeln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ivisi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6846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okumentů/informací v informačním zdroji (záznamy n. plné tex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né zprávy, technické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-Print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ferenční materiály (preprinty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Ulrich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’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Mezinárodní patentové tříd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db: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Canadian Patent Databa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Japan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latform for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atent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national Classification fo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ademické práce (dizertace, habili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Dissertationen online an der FU Ber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Theses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77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poklady úspěšného věcného vyhledávání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obsahem informačního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ý postup věcného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á formulace dotaz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nástře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vhodné rešeršní strat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úspěšném vyhledávání přeformulování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SOD konkrétních dokumentů pro úpravu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12-09T09:41:53Z</dcterms:modified>
  <cp:revision>161</cp:revision>
  <dc:subject/>
  <dc:title>Selekční jazyky</dc:title>
</cp:coreProperties>
</file>