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57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65415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5400" y="65415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A37E-99C6-45D2-B481-EBBC971B4E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75400" y="6541920"/>
            <a:ext cx="4340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45B-0679-4CE0-BA5C-237C98AA69F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5675400" y="6541920"/>
            <a:ext cx="4340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DBAF-9B1B-4B12-A4DC-5487EA35880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F9F-DC45-4821-A1DE-78249223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281-F9E8-418C-97FF-70BA741E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3AC-FE19-4482-A02C-4F261AD3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B0C-6868-4841-80D3-A65A7545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33A4-5A48-4C4B-BD0F-3755B798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80F0-1A83-4F2B-9F8C-5401362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4016-D866-42C5-B6C4-4796DD84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B83C-D205-451F-9183-002CB38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9672-03D9-4726-B901-95F693B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8C6-27F6-41A5-B540-CF2F60BE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C044-4995-4551-BAA6-2171782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AF9-E2D1-49B3-B43E-6ADF577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C770-C769-4DA1-8562-9E58B7E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070-FDFA-452D-AD17-F28F12B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7D5-15CF-4C33-B7BF-E57D7DC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F454-931A-4BCE-B1EE-C45E4AF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85E9-EDA3-43EB-AA07-D59093A6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A8F-3C14-4ED3-AF99-CE914ED9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931-8BF5-42F4-A2C3-EFF4B14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0A6-F512-472B-8693-ADD1C63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BA4-AAC0-4FF0-A5A6-B90DD46A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94E-F7B2-4409-A809-BB5B7CE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001-2EC7-4A0B-A0E8-6C07F4A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D1B-0509-4BF7-AADF-E45A33F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651-E0E4-40C6-A19A-6594A8BC3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7227-2646-41CF-B953-A5F1035B9332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atalog.mkkurim.cz/clavius/c1ta.htm" TargetMode="External"/><Relationship Id="rId2" Type="http://schemas.openxmlformats.org/officeDocument/2006/relationships/hyperlink" Target="http://aleph.nkp.cz/cze/nkc" TargetMode="External"/><Relationship Id="rId3" Type="http://schemas.openxmlformats.org/officeDocument/2006/relationships/hyperlink" Target="http://aleph.nkp.cz/cze/nkc" TargetMode="External"/><Relationship Id="rId4" Type="http://schemas.openxmlformats.org/officeDocument/2006/relationships/hyperlink" Target="file:///tez%20syn%2001.pdf" TargetMode="External"/><Relationship Id="rId5" Type="http://schemas.openxmlformats.org/officeDocument/2006/relationships/hyperlink" Target="file:///tez%20syn%2002.pdf" TargetMode="External"/><Relationship Id="rId6" Type="http://schemas.openxmlformats.org/officeDocument/2006/relationships/hyperlink" Target="file:///tez%20syn%2003.pdf" TargetMode="External"/><Relationship Id="rId7" Type="http://schemas.openxmlformats.org/officeDocument/2006/relationships/hyperlink" Target="file:///tez%20syn%2004.pdf" TargetMode="External"/><Relationship Id="rId8" Type="http://schemas.openxmlformats.org/officeDocument/2006/relationships/hyperlink" Target="file:///tez%20syn%2005%20systematika.pdf" TargetMode="External"/><Relationship Id="rId9" Type="http://schemas.openxmlformats.org/officeDocument/2006/relationships/hyperlink" Target="file:///tez%20syn%2005%20hnizda.pdf" TargetMode="External"/><Relationship Id="rId10" Type="http://schemas.openxmlformats.org/officeDocument/2006/relationships/hyperlink" Target="file:///tezaurus%20inf%2001.pdf" TargetMode="External"/><Relationship Id="rId11" Type="http://schemas.openxmlformats.org/officeDocument/2006/relationships/hyperlink" Target="file:///tezaurus%20inf%2001%20rot%20rejstrik.pdf" TargetMode="External"/><Relationship Id="rId12" Type="http://schemas.openxmlformats.org/officeDocument/2006/relationships/hyperlink" Target="file:///tezaurus%20inf%2002.pdf" TargetMode="External"/><Relationship Id="rId13" Type="http://schemas.openxmlformats.org/officeDocument/2006/relationships/hyperlink" Target="file:///tezaurus%20inf%2002%20hierarchie.pdf" TargetMode="External"/><Relationship Id="rId14" Type="http://schemas.openxmlformats.org/officeDocument/2006/relationships/hyperlink" Target="http://eurovoc.europa.eu/drupal/?q=cs" TargetMode="External"/><Relationship Id="rId15" Type="http://schemas.openxmlformats.org/officeDocument/2006/relationships/hyperlink" Target="file:///MDT%20syst%2001.pdf" TargetMode="External"/><Relationship Id="rId16" Type="http://schemas.openxmlformats.org/officeDocument/2006/relationships/hyperlink" Target="file:///MDT%20abc%2001.pdf" TargetMode="External"/><Relationship Id="rId17" Type="http://schemas.openxmlformats.org/officeDocument/2006/relationships/hyperlink" Target="file:///MDT%20abc%2001.pdf" TargetMode="External"/><Relationship Id="rId18" Type="http://schemas.openxmlformats.org/officeDocument/2006/relationships/hyperlink" Target="file:///MDT%20syst%2002.pdf" TargetMode="External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10. 2018: Základní pojmy, vztahy, terminologie SJ (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y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6266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´Předmětová hes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íklad 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Příklad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ezau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ezaury coby synonymické slovník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Příklad 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Příklad 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říklad 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říklad 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Informační tezaury (tezaury coby řízené slovník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2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Příklad 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3"/>
              </a:rPr>
              <a:t>Příklad 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300" spc="-1" strike="noStrike" u="sng">
                <a:solidFill>
                  <a:srgbClr val="006666"/>
                </a:solidFill>
                <a:uFillTx/>
                <a:latin typeface="Arial"/>
                <a:hlinkClick r:id="rId14"/>
              </a:rPr>
              <a:t>Příklad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MD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5"/>
              </a:rPr>
              <a:t>Příklad 1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7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8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 4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Oborové třídění K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2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1523520"/>
            <a:ext cx="64947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harakter selekčního jazyka z hlediska lingvistik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Základní lingvistické pojmy (výběr)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6266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omunikace, lingvistika, lexikografie, lexikologie, terminologie, sémiotik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azyk 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řirozený jazyk, umělý jazyk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formální jazyk), metajazy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ymbol, znak, pojem (intenze, extenze, denotát), význam, smysl, kód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émantický trojúhelník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arbitrárnost zna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gramatika, morfologie, syn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lexikum, lexikální jednotka, slovo, sousloví, inverze, termí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omonymie, homofonie, homografie, polysémie, synonymie, antonymi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yponymie, hyperonymie, kohyponymie, meronymie, holony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ýklad těchto i dalších termínů, se kterými budeme pracovat, najdete v databázi TDKIV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ý trojúhlení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mezi pojmem, znakem a předmětem (skutečností) vyjadřuje sémantický (sémiotický) trojúhelní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ázek 3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2353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 SJ z hlediska lingvistiky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24000" y="1904760"/>
            <a:ext cx="64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rozený jazyk (PJ) má dvě základní složky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lovník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lexikum) a pravidla, jak s tímto slovníkem nakládat, tedy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gramatik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Součástí gramatiky je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orfologi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edy nauka o tom, jak se slova ohýbají (flexe) nebo tvoří (slovotvorba), a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edy způsob, jakým se slova spojují do vě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obně i SJ má tyto tři složky, tedy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lovník, morfologi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synta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 SJ z hlediska lingvistiky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0560" y="1447920"/>
            <a:ext cx="709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rovnání tří základních složek SJ a PJ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xiku (slovníku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lasifikační tabu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u nebo slovnímu spojení v PJ odpovídá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řádac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je u předmětových SJ vyjádřen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exikální jedno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 systematických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lasifikačních zna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fologii (přesněji její části, slovotvorbě, protože flexi nelze u SJ uplatnit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avidla pro tvorbu pořádacích zna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zde je jednou z podstatných otázek především míra prekoordinace/postkoordinace pořádac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xi (skladbě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avidla pro indexaci (klasifikaci) a formulaci dotazu při vyhledává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edy pravidla pro spojování a kombinaci pořádac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ě v PJ odpovídá v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lekční obraz dokumen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selekční obraz dot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 normativní defin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4803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ČSN 01 0193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„Selekční jazyk je řízený soubor lexikálních jednotek vybraných z přirozeného jazyka a užívaných k vyjádření témat dokumentů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Korigovaná definice (pracovní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„Selekční jazyk je umělý jazyk určený pro vyjádření obsahu dokumentů. Skládá se ze slovníku, tj. řízeného (strukturovaného) souboru pořádacích znaků, dále pravidel jejich tvorby a pravidel jejich užívání při věcném zpracování a vyhledávání dokumentů.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7-09-29T05:15:37Z</cp:lastPrinted>
  <dcterms:modified xsi:type="dcterms:W3CDTF">2018-10-06T02:34:00Z</dcterms:modified>
  <cp:revision>204</cp:revision>
  <dc:subject/>
  <dc:title>Selekční jazyky</dc:title>
</cp:coreProperties>
</file>