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10018713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10018800" cy="68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567648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3287520" y="515520"/>
            <a:ext cx="3444840" cy="258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65415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5676480" y="65415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8810-D23C-4ED9-880B-E7AFAC72ED7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676840" y="6541920"/>
            <a:ext cx="43419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3834-B528-419C-9ED4-27C3A1B62B6E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3287880" y="515880"/>
            <a:ext cx="3444840" cy="2584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5676840" y="6541920"/>
            <a:ext cx="43419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8875-2777-40E0-88BA-52BA3D510ACB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3287880" y="515880"/>
            <a:ext cx="3444840" cy="25844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D781-865B-4B91-990F-D8DDCFF09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8D90-00E4-4C02-BE41-FB1DCC8B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A211-6499-48EB-B174-27DCE630D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DCE4-E58A-404F-8D54-48866EDE4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AA45-8156-4FDE-BAE5-3F71BD90E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34567-A29E-42CA-885A-2CB6F32C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0DDE-E0FA-4947-8F35-1246FBA5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D3A4-90EC-4F22-BC95-50523A9B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540A-3DF1-41CC-8715-D192BACB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97F3-2900-461B-A229-358CB68B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3494-5259-42A2-8916-5D0ECEFC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510C-508F-4527-B987-386D76A3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CBC2-49C0-486C-8B8F-45CC6B9F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305D-0EE6-4051-B765-AE91DE6D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7B3D-7589-465A-AEDD-BAC6141C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D390-D94D-4AA3-821C-4E1286FD0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92BB-38A7-4B68-9B2F-60453799F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621C-E332-40DF-9A4C-86C6A72B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A115-5DF4-49E1-968F-F81BB30E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18A4-2F50-48A1-887C-54B4BFB2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B5E3-A45B-4E42-B67E-ECB2B744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3AA9-ECA5-4D48-A04A-A4329347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12FE-AFBC-4E9D-B61D-33AC7A96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8929-E465-4FAF-8ECF-F63F84F3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FE84-022B-4280-AD07-B4021635EB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0AC2-1AF1-4CE3-8414-6820B93CE880}" type="slidenum">
              <a:rPr b="0" lang="cs-CZ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126172@mail.muni.cz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ib.cas.cz/online-katalogy/" TargetMode="External"/><Relationship Id="rId2" Type="http://schemas.openxmlformats.org/officeDocument/2006/relationships/hyperlink" Target="http://www.ncbi.nlm.nih.gov/pubmed/" TargetMode="External"/><Relationship Id="rId3" Type="http://schemas.openxmlformats.org/officeDocument/2006/relationships/hyperlink" Target="http://www.google.com/" TargetMode="External"/><Relationship Id="rId4" Type="http://schemas.openxmlformats.org/officeDocument/2006/relationships/hyperlink" Target="https://vufind.lib.cas.cz/ustav/KNAV/Search/Advanced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0560" y="1371600"/>
            <a:ext cx="7093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KBA11</a:t>
            </a:r>
            <a:br>
              <a:rPr sz="1600"/>
            </a:b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Selekční jazy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647676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2. 11. 2019: Přirozený jazyk vs řízený slovník z hlediska věcného vyhledáván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P10+K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F MU, podzim 20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gr. Josef Schwar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126172@mail.muni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Specifičnost vyhledávaných výrazů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mezená množina lexikálních jednot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specifické výr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Vzdálenost vyhledávaných výrazů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vykle (v rámci SOD) není potře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žnost blízkosti zadaných výrazů (fráz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ximitní operá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dálenost výrazů určená počtem slov (příp. se zohlednění pořad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dálenost výrazů určená segmentem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Délka SOD / textu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 (SO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běrová (selective) index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lná (exhaustive) index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primovaný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trakt, anotace, výtah 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sah komprimovaného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lný text dokumen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04920" y="4648320"/>
            <a:ext cx="8839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Extrémy: klasifikace do jedné třídy x plný text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Vyšší délka -&gt; vyšší úplnost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Úplná indexace přináší úplnější výsledky vyhledávání než název a  krátký abstrakt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Krátký abstrakt přináší úplnější výsledky vyhledávání než výběrová indexac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Dlouhý abstrakt (referát) a plný text přinášejí úplnější výsledky vyhledávání než úplná indexac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Typ uživate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užívá spíše odborník seznámený s pravidly tvorby, strukturou a způsobem práce s 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lasifikace, které nejsou založené na přirozeném jazyce, běžní uživatelé využívají minimál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přístupný všem typům uživate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nedostatečné znalosti systému však uživatel může být frustrován omezeným nebo naopak nadměrný počtem vyhledaným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Požadavky na přesnost/úplnos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e být lepší z hlediska přes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E: podle konkrétních podmínek zvyšuje úp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e být lepší z hlediska úpl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E: v případě vyhledávání specifického výrazu zvyšuje přes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ýsledné hodnocení ŘS vs F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050560" y="1676160"/>
            <a:ext cx="655956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vyhledávání pomocí řízeného slovníku i v plném textu má své výhody i nevýhod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jejich použití je třeba zvažovat podle konkrétních potře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hybridní systém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lný text i řízený slovn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šiřování uživatelského dotazu pomocí ŘS (query expan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strukturovaný dotaz – systém TOPI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káz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klad využi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moderní modely vyhledáván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ktorové vyhle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atentní sémantické index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Typy vyhledáván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699920"/>
            <a:ext cx="784872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strukturované vyhledává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kladní, jednoduché vyhle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KNA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PubMe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trukturované vyhledává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kročilé, podrobné vyhle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KNA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PubMed, 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ízený slovník (tezaurus, seznam předmětových hesel nebo klíčových slov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ní dostupný: KN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dostupný samostatně: NTK (P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dostupný při vyhledávání: NKP, 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otextové (fulltextové) vyhledává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vertovaný rejstř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kvenční vyhle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Problémy při věcném vyhledávání</a:t>
            </a:r>
            <a:br>
              <a:rPr sz="3400"/>
            </a:b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s ohledem na přirozený jazyk a řízený slovník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835280" y="1599840"/>
            <a:ext cx="677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aktory ovlivňující vyhledávání (výběrově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ecné fakt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ubjektivní aspekty zprac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ícejazyč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aktory související se slovník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lexe a tvorba s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symetrie jazy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mplicitní (paradigmatické) vztahy mezi pojmy (obecné vs specifické pojm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žnost vyhledávání nových termínů (pojmů, tém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fičnost vyhledávaných výraz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dálenost vyhledávaných výraz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aktory související s délkou SOD nebo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aktory související s uživatel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p uživat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žadavky na přesnost a/nebo úpl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ubjektivní aspekty zpracován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7280" y="1905120"/>
            <a:ext cx="3461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vlivnění SOD subjektivním přístupem  indexátora (neplatí, pokud se používá systém automatické index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tnost předjímat potřeby uživa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valita a konzistence index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63640" y="1905120"/>
            <a:ext cx="3170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vyhledávání bez vli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e na úrovni textu: různá terminologie, různá reprezentace pojmů, různá ideologická východiska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ícejazyčnos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spokojivě řeší z hlediska textu i z hlediska uživa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deální řešení: texty více jazyků jsou indexovány vícejazyčným řízeným slovníkem nebo klasifikací (nezávislou na přirozeném jazy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 standardních systémech nutnost formulace několika dotaz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ší pokročilé metody vyhledávání založené na statistických modelech textu (např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ov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ání latentní sémantik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Flexe a tvorba slov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řeš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ác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vykle účinné: antropolog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ěkdy však problematické: sen/sny/snová/snivec; kůň/koně/koní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rivátor slovních tva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symetrie jazyka</a:t>
            </a:r>
            <a:br>
              <a:rPr sz="4200"/>
            </a:b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synonymie, homonymie, polysémie at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nonymie a další jazykové jevy vyřešen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nony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řeba zohlednit při formulaci dot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mony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xikální homonyma (objetí, travička, župan, občank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ramatická homonyma (ženu, je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obecné úrovni obtížně řešitel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aradigmatické vztahy</a:t>
            </a:r>
            <a:br>
              <a:rPr sz="4200"/>
            </a:b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Obecné vs specifické pojm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tahy mezi pojmy stanovuje struktura řízeného slovníku, která umožňuje vyhledat i další relevantní výr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E: i v ŘS problémy s vyjádřením poj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mplicitní paradigmatické vztahy nemusí uživatel znát nebo si je uvědo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ronz -&gt; slitina kov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uesta -&gt; typ vrcholu kop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Nové termíny, pojmy, témat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časovým zpožděním, nutnost vyjádřit stávajícími deskriptory nebo jejich kombin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ez problémů, ovšem s rozptylem daným odlišnostmi mezi jednotlivými autory i terminologickým vývoj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cp:lastPrinted>2019-11-22T11:16:17Z</cp:lastPrinted>
  <dcterms:modified xsi:type="dcterms:W3CDTF">2019-11-25T16:23:07Z</dcterms:modified>
  <cp:revision>172</cp:revision>
  <dc:subject/>
  <dc:title>Selekční jazyky</dc:title>
</cp:coreProperties>
</file>