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6CAF-855C-4FA2-86BD-4C7A27E1157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9178-305B-405C-9F7F-FE2A55A41A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40AE-D280-4DC2-AAA0-C3A5EF6852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E2E8-B62B-4C66-9C6A-6CD00AE297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C2A8-0F40-4343-8CB7-722CC39954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66E9-38AD-4A99-8A39-FFC0D86C5A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1D9E-7712-423D-917D-975EAEDAF3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2321-5976-4BBA-AF65-CE9E7B0DB3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0643-97A8-4799-A308-2A6A56C4A7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96B7-7FEA-4383-A5BA-E864757BEB4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CBF4-A8AE-4BF6-95A2-4FFEBFF1C1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89EC-26B5-4C90-AD55-A52CD4B3AD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AA0E-795F-472F-8B94-0CEC22BEE78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FF5E-7646-4D8D-903E-95426DC98A0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AEC-228D-4609-8C10-704AD77C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3A78-7ED9-493B-B875-3E690F60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E77-D234-4FD5-A3C6-F1E351DF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316D-726A-4AA2-9BC4-D94250D4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4CD7-039F-4315-9283-B6E66376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434-B523-4699-892A-C60F95EC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AC7-9FCD-49CE-9866-88510613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38C1-85C4-4D2B-8945-637D64CB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DC65-C1B3-4CC7-A68D-6D5DCEC6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E96-6C28-4E37-9715-B374CE27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78D-BEDE-434C-B55D-D541BC4B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0C43-94DE-4809-8E11-1E32E223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7015-173B-4A10-91CE-88795CEE529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Výsledek obrázku pro CONSTRUCTION OF REALITY"/>
          <p:cNvPicPr/>
          <p:nvPr/>
        </p:nvPicPr>
        <p:blipFill>
          <a:blip r:embed="rId1"/>
          <a:stretch/>
        </p:blipFill>
        <p:spPr>
          <a:xfrm>
            <a:off x="1619280" y="2276640"/>
            <a:ext cx="5565600" cy="5135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-387360"/>
            <a:ext cx="9144000" cy="2735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OCIÁLNÍ KONSTRUKTIVISM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-468360" y="476280"/>
            <a:ext cx="10009080" cy="1081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51640" y="836640"/>
            <a:ext cx="79545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VÝCHODISKA KONSTRUKTIVISMU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ENOMEN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DŮRAZ NA INTERPRETACI, ŽITÝ SVĚ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AGMATIS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DŮSLEDNĚ HUMANISTICKÉ HLEDISK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SOCIOLOGIE VĚD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IDEOLOGIE, POHLED NA SVĚ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24000" y="0"/>
            <a:ext cx="8569080" cy="75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AGMATIS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h. S. Pierce, W. James, J. Dewe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konec 19. a počátek 20. stolet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obně jako pozitivismus odmítá abstraktní spekulace a hledání absolutní pravdy bez vztahu k žitému svě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náší do epistemologie kontext v němž se vědecké poznání odehráv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avda je závislá na podmínkách v nichž je získá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itériem pravdivosti není korespondence výroku s realitou, ale očekávané důsledky. -&gt; od korespondenční přes koherenční k ppragmatické teorii prav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24000" y="0"/>
            <a:ext cx="856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SOCIOLOGIE VĚD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ARL MANNHEIM (1893  - 19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IDEOLOGIE – ZÁPAS O VEŘEJNÝ VÝKLAD SVĚ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LE INTELIGENCE JAKO SOCIÁLNÍ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ALFRED SCHÜTZ (1899 – 19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ENOMENOLOGICKÁ SOCIOLOGIE – PŘIPISOVÁNÍ SMYSLU KAŽDODENNÍMU ŽITÉMU SVĚ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TERSUBJEKT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JEKTIVITA / OBJEKT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RUČNÍ BALÍK VĚDĚ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95280" y="33336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ZÁVĚRU 20. STOLETÍ ZÍSKÁVÁ KONSTRUKTIV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ROVSKÝ VLIV A INSPIRUJE VZNIK CELÝCH DISCIPLÍN NAP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DER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CIENCE AND TECHNOLOGY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ZNAMNĚ OVLIVŇUJE PŘÍSTUP K MNOHA ZKOUMANÝM FENOMÉNŮ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ROD, ETNICITA, SOCIÁLNÍ TŘÍDA, VĚKOVÉ KATEGORIE, VSTUP DO DOSPĚLOSTI, LÁSKA, PARTNERSTVÍ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Ž TAKÉ ZNAMENÁ ROZŠÍ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 DEZINTERPRETACI POJ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KONSTRUKT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Výsledek obrázku pro batman social construct"/>
          <p:cNvPicPr/>
          <p:nvPr/>
        </p:nvPicPr>
        <p:blipFill>
          <a:blip r:embed="rId1"/>
          <a:stretch/>
        </p:blipFill>
        <p:spPr>
          <a:xfrm>
            <a:off x="6227640" y="4282920"/>
            <a:ext cx="26067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68360" y="19162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CO JE TO SOCIÁLNÍ KONSTRUK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Výsledek obrázku pro batman social construct"/>
          <p:cNvPicPr/>
          <p:nvPr/>
        </p:nvPicPr>
        <p:blipFill>
          <a:blip r:embed="rId1"/>
          <a:stretch/>
        </p:blipFill>
        <p:spPr>
          <a:xfrm>
            <a:off x="6227640" y="4282920"/>
            <a:ext cx="26067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11280" y="333360"/>
            <a:ext cx="7561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MĚNY POHLEDU NA DVA DŮLEŽITÉ POJMY EPISTEMOLOG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RAV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respondenční teorie prav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pravda je to, co koresponduje s realit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herenční teorie prav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pravda je to, co je konzistentní a logicky propojené s dosavadním vědě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gmatická teorie prav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pravda je to, co má důsledky, jež při platnosti teorie očekává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E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edmoderní pohled – realita pozorova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derní pohled – realita za intersubjektivním pozná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moderní pohled – realita neexistuje, nebo nemá smy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933-Rene-Magritte-The-Human-Condition"/>
          <p:cNvPicPr/>
          <p:nvPr/>
        </p:nvPicPr>
        <p:blipFill>
          <a:blip r:embed="rId1"/>
          <a:stretch/>
        </p:blipFill>
        <p:spPr>
          <a:xfrm>
            <a:off x="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5439960" y="6216120"/>
            <a:ext cx="24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René Magri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La condition humain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614920" y="189000"/>
            <a:ext cx="352908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ENOMÉN (JEV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. fainomenon / fa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NTITA (JSOUC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t. entitas/e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novení zájmu o zkušenost a proží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blém přirozeného/žitého světa (Patoč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á formulace problému reality (kategorie význa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en ze zdrojů postmoderních a konstruktivistických smě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spirace: fenome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539640" y="1197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dmund Husserl  (1859 – 1938) *Prostě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1310283-Edmund_Husserl"/>
          <p:cNvPicPr/>
          <p:nvPr/>
        </p:nvPicPr>
        <p:blipFill>
          <a:blip r:embed="rId1"/>
          <a:stretch/>
        </p:blipFill>
        <p:spPr>
          <a:xfrm>
            <a:off x="6372360" y="907920"/>
            <a:ext cx="2165040" cy="2808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4248360" cy="3054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667440" y="2440080"/>
            <a:ext cx="31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aťme se k alegorii jesky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68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3910320" y="4889520"/>
            <a:ext cx="490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tón – alegorie jes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afora, která na dlouhou dobu ovlivnila teo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ní – realita „za horizontem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 2"/>
          <p:cNvSpPr/>
          <p:nvPr/>
        </p:nvSpPr>
        <p:spPr>
          <a:xfrm>
            <a:off x="179280" y="494172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"/>
          <p:cNvSpPr/>
          <p:nvPr/>
        </p:nvSpPr>
        <p:spPr>
          <a:xfrm>
            <a:off x="179280" y="2924280"/>
            <a:ext cx="788508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0" y="112536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ipomeňme východiska interpretativních smě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755640" y="134136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še, co existuje a je mysliteln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e opředeno význa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yto významy věcem přikládají samotní sociální aktéř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znik, sdílení a udržování těchto významů je třeba zko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7740720" y="2349360"/>
            <a:ext cx="718920" cy="1150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179280" y="4292640"/>
            <a:ext cx="576360" cy="1152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48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terpretativní pří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24000" y="1125360"/>
            <a:ext cx="820872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í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ymbolický interakcionismu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G. H. Mead, C. H. Coo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droje: sociální psychologie, pragmat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probíhají symbolické výmě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tnometodolog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H. Garfin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droje: fenome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je konstruován řád světa, který vnímáme jako samozřejmý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kroteori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1"/>
          <p:cNvSpPr/>
          <p:nvPr/>
        </p:nvSpPr>
        <p:spPr>
          <a:xfrm>
            <a:off x="324000" y="404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VÝCHOZÍ BODY SYMBOLICKÉHO INTERAKCIONIS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324000" y="1844640"/>
            <a:ext cx="86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Lidské bytosti jednají na základě významů, které přikládají věcem, jež je obklop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Tyto významy nejsou vlastností samotných věc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Jsou produktem sociální interakce probíhající mezi členy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Tyto významy nejsou stabilní, mohou být neustále proměňovány a redefinovány v průběhu nových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HARLES H. COL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4 - 19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365360" y="3068640"/>
            <a:ext cx="4278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ZRCADLOVÉ JÁ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RIMÁRNÍ SKUP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OCI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Zájem o roli sociálního prostřed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V utváření osob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Výsledek obrázku pro C H COOLEY"/>
          <p:cNvPicPr/>
          <p:nvPr/>
        </p:nvPicPr>
        <p:blipFill>
          <a:blip r:embed="rId1"/>
          <a:stretch/>
        </p:blipFill>
        <p:spPr>
          <a:xfrm>
            <a:off x="324000" y="1341360"/>
            <a:ext cx="2819160" cy="40100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EORG 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E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3 - 19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17640" y="2997360"/>
            <a:ext cx="3623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niha </a:t>
            </a:r>
            <a:r>
              <a:rPr b="1" i="1" lang="cs-CZ" sz="2000" spc="-1" strike="noStrike">
                <a:solidFill>
                  <a:srgbClr val="000000"/>
                </a:solidFill>
                <a:latin typeface="Tahoma"/>
              </a:rPr>
              <a:t>Mind, Self and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19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áze soci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LAY  / 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ELF:  I /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Výsledek obrázku pro h mead"/>
          <p:cNvPicPr/>
          <p:nvPr/>
        </p:nvPicPr>
        <p:blipFill>
          <a:blip r:embed="rId1"/>
          <a:stretch/>
        </p:blipFill>
        <p:spPr>
          <a:xfrm>
            <a:off x="395280" y="1341360"/>
            <a:ext cx="2990880" cy="381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Výsledek obrázku pro MIND SELF AND SOCIETY"/>
          <p:cNvPicPr/>
          <p:nvPr/>
        </p:nvPicPr>
        <p:blipFill>
          <a:blip r:embed="rId2"/>
          <a:stretch/>
        </p:blipFill>
        <p:spPr>
          <a:xfrm>
            <a:off x="6948360" y="3860640"/>
            <a:ext cx="18972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ERV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OFFM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22 -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427640" y="3027240"/>
            <a:ext cx="474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The Presentation of Self in Everyday Lif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9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esky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Všichni hrajeme divadl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ramaturgický příst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DSTUP OD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OTÁLNÍ INSTIT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Výsledek obrázku pro ERVING GOFFMAN"/>
          <p:cNvPicPr/>
          <p:nvPr/>
        </p:nvPicPr>
        <p:blipFill>
          <a:blip r:embed="rId1"/>
          <a:stretch/>
        </p:blipFill>
        <p:spPr>
          <a:xfrm>
            <a:off x="0" y="1052640"/>
            <a:ext cx="384480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HARO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ARFINK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7 -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452480" y="2997360"/>
            <a:ext cx="3884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ahoma"/>
              </a:rPr>
              <a:t>Studies in Ethno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procesy konstru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ociálního řád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metody udrž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aždodenní rea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Výsledek obrázku pro HAROLD GARFINKEL"/>
          <p:cNvPicPr/>
          <p:nvPr/>
        </p:nvPicPr>
        <p:blipFill>
          <a:blip r:embed="rId1"/>
          <a:stretch/>
        </p:blipFill>
        <p:spPr>
          <a:xfrm>
            <a:off x="0" y="1413000"/>
            <a:ext cx="3924360" cy="2354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Výsledek obrázku pro HAROLD GARFINKEL"/>
          <p:cNvPicPr/>
          <p:nvPr/>
        </p:nvPicPr>
        <p:blipFill>
          <a:blip r:embed="rId2"/>
          <a:stretch/>
        </p:blipFill>
        <p:spPr>
          <a:xfrm>
            <a:off x="250920" y="3860640"/>
            <a:ext cx="1828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The Social Construction of Reality, first edition.jpg"/>
          <p:cNvPicPr/>
          <p:nvPr/>
        </p:nvPicPr>
        <p:blipFill>
          <a:blip r:embed="rId1"/>
          <a:stretch/>
        </p:blipFill>
        <p:spPr>
          <a:xfrm>
            <a:off x="0" y="476280"/>
            <a:ext cx="3848040" cy="5686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"/>
          <p:cNvSpPr/>
          <p:nvPr/>
        </p:nvSpPr>
        <p:spPr>
          <a:xfrm>
            <a:off x="3884760" y="476280"/>
            <a:ext cx="525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EC 60. LET 20.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RGER, LUCK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KONSTRUKCE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19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Výsledek obrázku pro SOCIÁLNÍ KONSTRUKCE REALITY"/>
          <p:cNvPicPr/>
          <p:nvPr/>
        </p:nvPicPr>
        <p:blipFill>
          <a:blip r:embed="rId2"/>
          <a:stretch/>
        </p:blipFill>
        <p:spPr>
          <a:xfrm>
            <a:off x="5724360" y="2838600"/>
            <a:ext cx="25020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8T05:26:37Z</dcterms:created>
  <dc:creator>x</dc:creator>
  <dc:description/>
  <dc:language>en-US</dc:language>
  <cp:lastModifiedBy>Petr Fučík</cp:lastModifiedBy>
  <dcterms:modified xsi:type="dcterms:W3CDTF">2017-10-30T16:54:36Z</dcterms:modified>
  <cp:revision>16</cp:revision>
  <dc:subject/>
  <dc:title>Snímek 1</dc:title>
</cp:coreProperties>
</file>