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150-2107-47F9-8B81-982CB522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649-2891-4ECA-978A-89614220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B56-0759-4FE6-82F9-29EABF8C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3FF-8BE5-4D2F-BCD0-62310E3C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E26-D80E-4D22-A699-E9748D46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23A-9046-4EF7-80A9-CBAB5A32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9BE-EB6A-40B2-BF20-0C9558F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543-4413-4125-947E-BAE61317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C78-609E-42E6-BEAB-25CBEF21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927-FB1D-4929-A0CA-CE6FC29E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CFB-CADB-46A4-A0E4-DDE8B6B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E30-F4D1-477E-BECF-F40B3041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B6EC-2C20-4D1A-8E87-AFBF4615F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000" y="0"/>
            <a:ext cx="5654880" cy="1312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Literatura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13000"/>
            <a:ext cx="8661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á četba ze čtyř kni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IDDENS, Anthony. 2013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. Aktualizované a rozšířené vydání revidované Philipem W. Suttone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Ar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RRINGTON, Austin. 2006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oderní sociální teorie: základní témata a myšlenkové prou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Port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LLER, Jan. 1997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vod do soci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Sociologické nakladatels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TUCCELLI, Danilo. 2008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 modernity: itinerář 20. stolet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Brno: Centrum pro studium demokracie a kultury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Výsledek obrázku pro giddens sociologie"/>
          <p:cNvPicPr/>
          <p:nvPr/>
        </p:nvPicPr>
        <p:blipFill>
          <a:blip r:embed="rId1"/>
          <a:stretch/>
        </p:blipFill>
        <p:spPr>
          <a:xfrm>
            <a:off x="611280" y="1052640"/>
            <a:ext cx="3786120" cy="528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Výsledek obrázku pro giddens sociologie"/>
          <p:cNvPicPr/>
          <p:nvPr/>
        </p:nvPicPr>
        <p:blipFill>
          <a:blip r:embed="rId2"/>
          <a:stretch/>
        </p:blipFill>
        <p:spPr>
          <a:xfrm>
            <a:off x="5292720" y="1052640"/>
            <a:ext cx="3645000" cy="532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79480" y="176040"/>
            <a:ext cx="27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jnovějš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7080" y="20484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š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Výsledek obrázku pro harrington moderní sociální teorie"/>
          <p:cNvPicPr/>
          <p:nvPr/>
        </p:nvPicPr>
        <p:blipFill>
          <a:blip r:embed="rId1"/>
          <a:srcRect l="20157" t="6299" r="17638" b="6299"/>
          <a:stretch/>
        </p:blipFill>
        <p:spPr>
          <a:xfrm>
            <a:off x="395280" y="692280"/>
            <a:ext cx="4168800" cy="585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Výsledek obrázku pro danilo Martuccelli – Sociologie  modernity: Itinerář 20. století"/>
          <p:cNvPicPr/>
          <p:nvPr/>
        </p:nvPicPr>
        <p:blipFill>
          <a:blip r:embed="rId2"/>
          <a:stretch/>
        </p:blipFill>
        <p:spPr>
          <a:xfrm>
            <a:off x="4932360" y="333360"/>
            <a:ext cx="386064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Výsledek obrázku pro keller úvod do sociologie"/>
          <p:cNvPicPr/>
          <p:nvPr/>
        </p:nvPicPr>
        <p:blipFill>
          <a:blip r:embed="rId1"/>
          <a:stretch/>
        </p:blipFill>
        <p:spPr>
          <a:xfrm>
            <a:off x="2585880" y="571680"/>
            <a:ext cx="39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4:08:30Z</dcterms:created>
  <dc:creator>x</dc:creator>
  <dc:description/>
  <dc:language>en-US</dc:language>
  <cp:lastModifiedBy>x</cp:lastModifiedBy>
  <dcterms:modified xsi:type="dcterms:W3CDTF">2016-09-20T05:00:50Z</dcterms:modified>
  <cp:revision>2</cp:revision>
  <dc:subject/>
  <dc:title>Snímek 1</dc:title>
</cp:coreProperties>
</file>