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4C5-4A81-4BAD-BEEB-14C887A7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14E-A112-4758-9141-84625F0A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AE8-4443-4D02-AD50-5368CC20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F39-476A-458A-A538-EF5802BA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4AF-96BD-441D-B541-FC961300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0A7-A386-4017-8D4A-7CC644D8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685-8AAD-439A-BCAC-86BD9BBA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2E8-DA44-4074-AD42-20EB5802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444-DCF3-49DB-83D9-656F3F18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8F7-024E-4661-B08A-38418520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9FE-FB47-4751-926F-D40DA0BA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6DE-92C0-42B6-8E42-5A147318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ED89-A284-40A9-8192-D85DA99D82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Výsledek obrázku pro VŘSR"/>
          <p:cNvPicPr/>
          <p:nvPr/>
        </p:nvPicPr>
        <p:blipFill>
          <a:blip r:embed="rId1"/>
          <a:stretch/>
        </p:blipFill>
        <p:spPr>
          <a:xfrm>
            <a:off x="-20520" y="-14400"/>
            <a:ext cx="91645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1197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ŮŽEME TEDY HOVOŘIT O STRUKTUŘ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Ě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DLE POHL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T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ÁBOŽEN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 TAKÉ TŘÍ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2010"/>
          <p:cNvPicPr/>
          <p:nvPr/>
        </p:nvPicPr>
        <p:blipFill>
          <a:blip r:embed="rId1"/>
          <a:stretch/>
        </p:blipFill>
        <p:spPr>
          <a:xfrm>
            <a:off x="3851280" y="2467080"/>
            <a:ext cx="45338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Výsledek obrázku pro social classes"/>
          <p:cNvPicPr/>
          <p:nvPr/>
        </p:nvPicPr>
        <p:blipFill>
          <a:blip r:embed="rId1"/>
          <a:stretch/>
        </p:blipFill>
        <p:spPr>
          <a:xfrm>
            <a:off x="0" y="10461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434520" y="33336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ŮZNORODOST POSTOJŮ, ŽIVOTNÍCH STYLŮ, ŽIVOTNÍCH ŠANCÍ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A JEDNÍM Z NEJČASTĚJI UŽÍVANÝCH ZPŮSOBŮ, JAK SPOLEČNOST ROZČLEŇOV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TEORIE STRAT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HIERARCHICKY USPOŘÁDANÝCH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900000" y="4221000"/>
            <a:ext cx="19656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délník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1403280" y="-82440"/>
            <a:ext cx="518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DLIŠ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ROV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(NE)SPRAVEDL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997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51840" y="3448080"/>
            <a:ext cx="758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IONÁLNÍ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DŮSLEDKEM MERITOKRATICKÝCH PRINCI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MOTIVUJE K VÝK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ALOKUJE TY SPRÁVNÉ JEDINCE NA SPRÁVNÁ MÍ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FLIKTUALISTICKÝ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VÝSLEDKEM Ú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OMEZUJE ŽIVOTNÍ Š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HISTORICKÉ TYPY SOCIÁLNÍ STRUKTURY (STRAT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68360" y="2421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TROKÁŘ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STAROVĚKÁ SPOLEČNOST + KOLONI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S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NÁBOŽENSKY DEFINOVANÉ SKUP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FEUDÁLNÍ SPOLEČ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ODERNÍ STRATIF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91628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TŘÍD JE PROSTUPNĚJŠÍ NEŽ OSTATNÍ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FLEXIBILNĚJŠÍ – VYHOVUJE LÉPE INDUSTRIÁLNÍ KAPITALISTICK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Výsledek obrázku pro ČESKÝ SELFMADEMAN"/>
          <p:cNvPicPr/>
          <p:nvPr/>
        </p:nvPicPr>
        <p:blipFill>
          <a:blip r:embed="rId1"/>
          <a:stretch/>
        </p:blipFill>
        <p:spPr>
          <a:xfrm>
            <a:off x="0" y="4795920"/>
            <a:ext cx="3780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Výsledek obrázku pro AMERICAN DREAM"/>
          <p:cNvPicPr/>
          <p:nvPr/>
        </p:nvPicPr>
        <p:blipFill>
          <a:blip r:embed="rId2"/>
          <a:stretch/>
        </p:blipFill>
        <p:spPr>
          <a:xfrm>
            <a:off x="3924360" y="4797360"/>
            <a:ext cx="5219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299736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ODVOZENÉ OD VZTAHU K VÝROBNÍM PROSTŘEDK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ÍCI PROSTŘEDKŮ: BURŽOA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YKONÁVAJÍCÍ NÁMEZDNÍ PRÁCI: PROLETARI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WEBER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A (EKONOMIC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TUS (PRESTIŽ, UZN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ANA (ZÁJMY, KUL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ŘÍDY PODLE E.O.WRIGH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8360" y="2997360"/>
            <a:ext cx="8207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vesticemi nebo finančním kapit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fyzickými výrobními prostředky (půda, továrny, kancelář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3.  pracovními silami (najatý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problém s manaž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02600" y="191628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rozlišovány podle toho, zda příslušní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isponuj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CO JE NEROV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LZE NEROVNOST ODSTRAN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JAKÝ JE VZTAH JINAKOSTI A NEROVNOS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SKUSE O ZÁNIKU TŘÍ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NZUMERISMUS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DENTITA / KULTURA / SUBKULTURA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DIVIDUALIZACE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NEVIDITĚLNĚNÍ JINÝCH NEROVNOSTÍ (GENDER, ETNICITA…)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JSOU TŘÍDY ZASTOUPE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90800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619280" y="263700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332000" y="2997360"/>
            <a:ext cx="1727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116000" y="3357720"/>
            <a:ext cx="21607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630072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724360" y="263700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5581800" y="2997360"/>
            <a:ext cx="201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229440" y="3718080"/>
            <a:ext cx="7189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826920" y="3716280"/>
            <a:ext cx="2808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724360" y="335772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763640" y="429264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116000" y="4941720"/>
            <a:ext cx="2160720" cy="792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63640" y="573408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292720" y="6093000"/>
            <a:ext cx="2592360" cy="217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5796000" y="5516640"/>
            <a:ext cx="158436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156360" y="5157720"/>
            <a:ext cx="863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372360" y="4797360"/>
            <a:ext cx="431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436360" y="645336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ČET PŘÍSLUŠNÍKŮ TŘÍ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H="1">
            <a:off x="5148360" y="659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7740720" y="659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 rot="16200000">
            <a:off x="7327080" y="5211720"/>
            <a:ext cx="19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HIERARCHICKÁ POZ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MĚŘIT SOCIÁLNÍ POZI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66720" y="1687680"/>
            <a:ext cx="69717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KATEGORIZOV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ÍKLAD -  E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TYP ZAMĚSTNÁNÍ, POČET PODŘÍZENÝCH, MÍRA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ŠKÁLOVĚ (KONTINUÁL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OEKONOMICKÝ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DĚLÁNÍ – PROFESE - PŘÍ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U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SEBEZAŘ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ŮZNÁ POJETÍ NEROVNOSTI A ZNEVÝHODNĚ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92640" y="2708280"/>
            <a:ext cx="774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IERARCHIE – CHUDOBA / DEP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JÁDRO/PERIFERIE - MARGIN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ARTICIPACE – EXKLUZE/INKL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SOCIÁLNÍ MOBI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IMENZE MOBILITY: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ORIZONTÁLNÍ / VERTIKÁL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UVNITŘ VRSTVY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MEZI VRSTVAMI</a:t>
            </a:r>
            <a:br>
              <a:rPr sz="18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TERGENERAČNÍ / INTRAGENERAČ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ŮČI RODIČŮM (PŘEDKŮM)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 RÁMCI KARIÉ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PAKEM MOBILITY JE SOCIÁLNÍ RE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39640" y="292428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PRODUKCE = PŘENOS KAPITÁLŮ Z JEDNÉ GENERACE NA DRU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YMBOL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At-risk-of-poverty_rate_and_threshold%2C_2014_YB16bis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8680" y="20808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236000" y="537372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33360" y="1341360"/>
            <a:ext cx="855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e příjmové chud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vivalizovaný disponibilní příjem (po zdanění a přepočtený na spotřební jednot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 % mediánu příjmového 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í míra porovnávající pozici vůči celkovému příjmové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Material_deprivation_rate_%E2%80%94_proportion_of_persons_who_cannot_afford_to_pay_for_selected_items%2C_20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617040" y="260280"/>
            <a:ext cx="57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materiální deprivací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4859280" y="5516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eople_aged_less_than_60_living_in_households_with_very_low_work_intensity%2C_2013%E2%80%93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4240" y="260280"/>
            <a:ext cx="86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mladších 60 let žijících v domácnostech s velmi nízkou pracovní aktiv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6084720" y="558972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délní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ouvisející obrázek"/>
          <p:cNvPicPr/>
          <p:nvPr/>
        </p:nvPicPr>
        <p:blipFill>
          <a:blip r:embed="rId1"/>
          <a:stretch/>
        </p:blipFill>
        <p:spPr>
          <a:xfrm>
            <a:off x="1835280" y="0"/>
            <a:ext cx="508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Distribution_of_population_by_tenure_status%2C_2014_%28%25_of_population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373080" y="4869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ypy byd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3708360" y="486900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363000" y="5157720"/>
            <a:ext cx="261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regulova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tržní c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– úvě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-  bez úv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onvience of flying private"/>
          <p:cNvPicPr/>
          <p:nvPr/>
        </p:nvPicPr>
        <p:blipFill>
          <a:blip r:embed="rId1"/>
          <a:stretch/>
        </p:blipFill>
        <p:spPr>
          <a:xfrm>
            <a:off x="1042920" y="2286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0"/>
            <a:ext cx="9144000" cy="3095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933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STRUKTURA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A STRATIFIK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1916280"/>
            <a:ext cx="9144000" cy="30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VLASTNĚ STRUKTUR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34920" y="1341360"/>
            <a:ext cx="4394160" cy="4016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4560840" y="1844640"/>
            <a:ext cx="45831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29920" y="3068640"/>
            <a:ext cx="328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29920" y="3068640"/>
            <a:ext cx="328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  <p:sp>
        <p:nvSpPr>
          <p:cNvPr id="69" name="Oval 9"/>
          <p:cNvSpPr/>
          <p:nvPr/>
        </p:nvSpPr>
        <p:spPr>
          <a:xfrm>
            <a:off x="-108000" y="2565360"/>
            <a:ext cx="4859280" cy="4464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UŽŠÍM SLOVA SMYSLU TEDY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Tahoma"/>
              </a:rPr>
              <a:t>SOCIÁLNÍ STRKUTUR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ZNAMEN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299736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OZČLENĚNÍ SPOLEČNOSTI DO ČÁ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TOŽE SPOLEČNOST JAKO CELEK JE PŘÍLIŠ HETEROGEN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LEDÁME JAK URČIT SKUPINY (ČÁSTI), KTERÉ MAJÍ VÍCE SPOLEČNÝCH RY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04:35:55Z</dcterms:created>
  <dc:creator>x</dc:creator>
  <dc:description/>
  <dc:language>en-US</dc:language>
  <cp:lastModifiedBy>Petr Fučík</cp:lastModifiedBy>
  <cp:lastPrinted>2017-11-21T10:14:17Z</cp:lastPrinted>
  <dcterms:modified xsi:type="dcterms:W3CDTF">2017-11-28T09:11:31Z</dcterms:modified>
  <cp:revision>47</cp:revision>
  <dc:subject/>
  <dc:title>ETIKA VE VÝZKUMU</dc:title>
</cp:coreProperties>
</file>