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CF1-366F-4941-B5BF-32A765E8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D08-6C27-457D-8F5E-B62C0FB4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3BA-E5AB-46C1-A130-9A1050A6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C93-DAE3-47C1-B167-95AD3B40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34E-E105-42EB-A64E-04C0E510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591-F6DA-4AE7-8C15-9C4FB961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AD8-2230-49A7-91E7-B906985B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125-B831-4A1D-80A6-F525F14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FF2-5149-4BBB-B998-2150B4FD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1C3-82C4-492F-B1DB-4EDCDF2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4D8-7A9D-4501-906B-C73B64F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775-78F9-48B3-8800-9C328B7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B674-531E-4288-AEB9-0932E406AF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2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-2520" y="6021360"/>
            <a:ext cx="90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George H. Mead         Talcott Parson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Robert K. Merton        Peierre Bourdieu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Anthony Gidd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" y="6381720"/>
            <a:ext cx="80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863-193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02-1979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10-200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30-200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*19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1"/>
          <p:cNvSpPr/>
          <p:nvPr/>
        </p:nvSpPr>
        <p:spPr>
          <a:xfrm>
            <a:off x="68400" y="0"/>
            <a:ext cx="435132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87960" y="1700280"/>
            <a:ext cx="709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ování (reprodukce)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a,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ŘI OPORY SOCIÁLNÍHO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áska, nápodoba  (morfostatická institu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Á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nergické jednání (donu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BOŽEN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telekt, ducho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52400" y="547560"/>
            <a:ext cx="58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 vzoru přírodních věd rozlišil Com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ociální statiku a dynam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3640" y="1844640"/>
            <a:ext cx="520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dílení významů, historická pamě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ržování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8400" y="83664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rámci těchto systémů umožňují řád udržovat zejmén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84360" y="4762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 JAKO ZDROJ POZDĚJŠÍCH SOCIOLOGICKÝCH PŘÍ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 tradice tzv. KONSENSUÁLNÍCH SMĚ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oumají faktory, které udržují soudržnost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ímají si zejména prvků kooperace, udržování stability, dů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inspirace p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CISMUS, FUNKCIO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nost jako struktura propojených systémů, které navzájem plní funkce nezbytné pro pře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11280" y="620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ě  vzato, Comte předznamenal trvalý zájem sociologů o rovnováhu mezi řádem a změnou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otázka filozofie (zejména německého idealismu)  zně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m směřují dějiny?  Jaký je smysl histor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sociologii je klíčová otázka formulována méně obec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je možná sociální změna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edy jak je možné, že přes všechny mechanismy udržování stability se ve společnosti něco zm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11280" y="62064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te formuloval velmi obecně tzv. zákon tří stád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LOGICKÉ:  fetišistické, polyteistické, monoteis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AFYZICKÉ: (1300 – 1800) speku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NÍ:  vědecky, empiricky zakotvené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A HIERARCHIE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Výsledek obrázku pro HIERARCHIE VĚD COMTE"/>
          <p:cNvPicPr/>
          <p:nvPr/>
        </p:nvPicPr>
        <p:blipFill>
          <a:blip r:embed="rId1"/>
          <a:stretch/>
        </p:blipFill>
        <p:spPr>
          <a:xfrm>
            <a:off x="826920" y="1628640"/>
            <a:ext cx="75963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Výsledek obrázku pro karl marx"/>
          <p:cNvPicPr/>
          <p:nvPr/>
        </p:nvPicPr>
        <p:blipFill>
          <a:blip r:embed="rId1"/>
          <a:stretch/>
        </p:blipFill>
        <p:spPr>
          <a:xfrm>
            <a:off x="395280" y="1916280"/>
            <a:ext cx="3409920" cy="428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ýsledek obrázku pro karl marx kapital"/>
          <p:cNvPicPr/>
          <p:nvPr/>
        </p:nvPicPr>
        <p:blipFill>
          <a:blip r:embed="rId2"/>
          <a:stretch/>
        </p:blipFill>
        <p:spPr>
          <a:xfrm>
            <a:off x="3995640" y="2997360"/>
            <a:ext cx="1905120" cy="32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Výsledek obrázku pro karl marx communist manifesto original"/>
          <p:cNvPicPr/>
          <p:nvPr/>
        </p:nvPicPr>
        <p:blipFill>
          <a:blip r:embed="rId3"/>
          <a:stretch/>
        </p:blipFill>
        <p:spPr>
          <a:xfrm>
            <a:off x="6084720" y="2997360"/>
            <a:ext cx="2141640" cy="3213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070880" y="852480"/>
            <a:ext cx="3897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o-filosofické rukop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stický manifest (S Engels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it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Výsledek obrázku pro marx young"/>
          <p:cNvPicPr/>
          <p:nvPr/>
        </p:nvPicPr>
        <p:blipFill>
          <a:blip r:embed="rId1"/>
          <a:stretch/>
        </p:blipFill>
        <p:spPr>
          <a:xfrm>
            <a:off x="2484360" y="2022480"/>
            <a:ext cx="5446800" cy="483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Výsledek obrázku pro marx young"/>
          <p:cNvPicPr/>
          <p:nvPr/>
        </p:nvPicPr>
        <p:blipFill>
          <a:blip r:embed="rId2"/>
          <a:stretch/>
        </p:blipFill>
        <p:spPr>
          <a:xfrm>
            <a:off x="179280" y="2492280"/>
            <a:ext cx="2359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Výsledek obrázku pro utopic socialism"/>
          <p:cNvPicPr/>
          <p:nvPr/>
        </p:nvPicPr>
        <p:blipFill>
          <a:blip r:embed="rId1"/>
          <a:stretch/>
        </p:blipFill>
        <p:spPr>
          <a:xfrm>
            <a:off x="5364000" y="1916280"/>
            <a:ext cx="4108680" cy="2260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68440" y="808200"/>
            <a:ext cx="5979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koho Marx navazo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Utopický) soc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nri de Saint Si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les Fou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bert 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ěmecký klasický idealism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gel, Feuerb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lasická Ekonomi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Ric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Výsledek obrázku pro hegel duch dějin"/>
          <p:cNvPicPr/>
          <p:nvPr/>
        </p:nvPicPr>
        <p:blipFill>
          <a:blip r:embed="rId2"/>
          <a:stretch/>
        </p:blipFill>
        <p:spPr>
          <a:xfrm>
            <a:off x="7020000" y="4454640"/>
            <a:ext cx="180324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9640" y="1484280"/>
            <a:ext cx="741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tvářejí-li člověka okolnosti, je třeba dát okolnostem lidskou podobu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y, koncepce a vědomí, se na první pohled přímo prolínají s materiální činností a materiálními styky, jsou jazykem reálného život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boženství je opium lidstv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e všech dosud existujících společností je historií třídních bojů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ozofové doposud svět vysvětlovali, jde však o to - změnit h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karl-marx/?q=2710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Výsledek obrázku pro french revolution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OČÁTKY MODERNÍHO SOCIOLOGICKÉHO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61480" y="6553080"/>
            <a:ext cx="46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Eugène Delacroix – Svoboda vede lid na barikády (1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71640" y="1341360"/>
            <a:ext cx="7416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BURŽOA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ICTVÍ VÝROBNÍ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OLETARI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UTNOST PRODÁVAT SVOJ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age of bourgeoisie and proletariat"/>
          <p:cNvPicPr/>
          <p:nvPr/>
        </p:nvPicPr>
        <p:blipFill>
          <a:blip r:embed="rId1"/>
          <a:stretch/>
        </p:blipFill>
        <p:spPr>
          <a:xfrm>
            <a:off x="1547640" y="0"/>
            <a:ext cx="6000840" cy="937260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1979640" y="23493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979640" y="55897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979640" y="57927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659640" y="539748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908000" y="2565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050920" y="65419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050920" y="6742080"/>
            <a:ext cx="252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940360" y="6351480"/>
            <a:ext cx="115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836640"/>
            <a:ext cx="820908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stratifikační soci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A se stala jedním z nejčastěji používaných koncep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use o zániku tříd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určuje v současnosti pozici ve společ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, nebo spotřeb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Výsledek obrázku pro social classes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1341360"/>
            <a:ext cx="820908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tzv. KONFLIKTUALISTICKÉ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m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polupráce, solida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enulovým součtem = každý může získ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r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ouboj, konfl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ulovým součtem = zisk je ztráta druhé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00000" y="1916280"/>
            <a:ext cx="741708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ZICE VE SPOLEČNOSTI OVLIVŇUJE ZPŮSOB NÁHLEDU NA SV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ozice vůči klasickému idealis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„duch dějin“ - Heg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2987640" y="1916280"/>
            <a:ext cx="1728720" cy="79200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57080" y="1557360"/>
            <a:ext cx="7918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ulgarizované pojetí: základna – nadstavba – mater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spirace: sociologie vědění (ideologie), postmoderna (nemožnost objektivity, mocenské zdroje diskurzu) a feminismus (poziční te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762280" y="157464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71640" y="1341360"/>
            <a:ext cx="74167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KAPITÁ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SPI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KAPITÁL (PUTN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KULTURNÍ KAPITÁL (BOURDI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Úvod do studia hipstrů"/>
          <p:cNvPicPr/>
          <p:nvPr/>
        </p:nvPicPr>
        <p:blipFill>
          <a:blip r:embed="rId1"/>
          <a:stretch/>
        </p:blipFill>
        <p:spPr>
          <a:xfrm>
            <a:off x="0" y="1052640"/>
            <a:ext cx="5867280" cy="39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Výsledek obrázku pro hipster kulturní kapitál"/>
          <p:cNvPicPr/>
          <p:nvPr/>
        </p:nvPicPr>
        <p:blipFill>
          <a:blip r:embed="rId2"/>
          <a:stretch/>
        </p:blipFill>
        <p:spPr>
          <a:xfrm>
            <a:off x="5986440" y="1055520"/>
            <a:ext cx="3157560" cy="192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Výsledek obrázku pro stolování"/>
          <p:cNvPicPr/>
          <p:nvPr/>
        </p:nvPicPr>
        <p:blipFill>
          <a:blip r:embed="rId3"/>
          <a:stretch/>
        </p:blipFill>
        <p:spPr>
          <a:xfrm>
            <a:off x="5986440" y="2998800"/>
            <a:ext cx="3241800" cy="2432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Výsledek obrázku pro víno"/>
          <p:cNvPicPr/>
          <p:nvPr/>
        </p:nvPicPr>
        <p:blipFill>
          <a:blip r:embed="rId4"/>
          <a:stretch/>
        </p:blipFill>
        <p:spPr>
          <a:xfrm>
            <a:off x="0" y="5084640"/>
            <a:ext cx="3017880" cy="2154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Výsledek obrázku pro pivo"/>
          <p:cNvPicPr/>
          <p:nvPr/>
        </p:nvPicPr>
        <p:blipFill>
          <a:blip r:embed="rId5"/>
          <a:stretch/>
        </p:blipFill>
        <p:spPr>
          <a:xfrm>
            <a:off x="3049560" y="5611680"/>
            <a:ext cx="2936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Související obrázek"/>
          <p:cNvPicPr/>
          <p:nvPr/>
        </p:nvPicPr>
        <p:blipFill>
          <a:blip r:embed="rId1"/>
          <a:stretch/>
        </p:blipFill>
        <p:spPr>
          <a:xfrm>
            <a:off x="338040" y="1125360"/>
            <a:ext cx="8248680" cy="5153040"/>
          </a:xfrm>
          <a:prstGeom prst="rect">
            <a:avLst/>
          </a:prstGeom>
          <a:ln w="0">
            <a:noFill/>
          </a:ln>
        </p:spPr>
      </p:pic>
      <p:sp>
        <p:nvSpPr>
          <p:cNvPr id="155" name="Obdélník 1"/>
          <p:cNvSpPr/>
          <p:nvPr/>
        </p:nvSpPr>
        <p:spPr>
          <a:xfrm>
            <a:off x="338040" y="6278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8888"/>
                </a:solidFill>
                <a:latin typeface="Telesans Text Regular"/>
              </a:rPr>
              <a:t>Roy Lichtenstein’s Whaam! 1963, acrylic and oil canva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2"/>
          <p:cNvSpPr/>
          <p:nvPr/>
        </p:nvSpPr>
        <p:spPr>
          <a:xfrm>
            <a:off x="4716360" y="62784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95959"/>
                </a:solidFill>
                <a:latin typeface="Arial"/>
              </a:rPr>
              <a:t>http://www.telegraph.co.uk/art/what-to-see/the-new-tate-modern-is-infuriating-and-exhilarating-in-equal-me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95280" y="1341360"/>
            <a:ext cx="842472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Odcizení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ní fetišismu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Í REPREZENTUJE SOCIÁLNÍ VZTA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Výsledek obrázku pro time axis french revolution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230280"/>
          </a:xfrm>
          <a:prstGeom prst="rect">
            <a:avLst/>
          </a:prstGeom>
          <a:ln w="0">
            <a:noFill/>
          </a:ln>
        </p:spPr>
      </p:pic>
      <p:sp>
        <p:nvSpPr>
          <p:cNvPr id="62" name="Line 8"/>
          <p:cNvSpPr/>
          <p:nvPr/>
        </p:nvSpPr>
        <p:spPr>
          <a:xfrm>
            <a:off x="3780000" y="4508640"/>
            <a:ext cx="439236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419640" y="494172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5435640" y="551664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71960" y="42926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cqu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484360" y="472428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716360" y="530064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20" y="6093000"/>
            <a:ext cx="90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GENERACE SOCIOLOGICKÝCH MYSLITELŮ V KONTEXTU DĚJIN 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Výsledek obrázku pro kolik opravdu stojí tričko"/>
          <p:cNvPicPr/>
          <p:nvPr/>
        </p:nvPicPr>
        <p:blipFill>
          <a:blip r:embed="rId1"/>
          <a:stretch/>
        </p:blipFill>
        <p:spPr>
          <a:xfrm>
            <a:off x="395280" y="0"/>
            <a:ext cx="48546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Výsledek obrázku pro i phone"/>
          <p:cNvPicPr/>
          <p:nvPr/>
        </p:nvPicPr>
        <p:blipFill>
          <a:blip r:embed="rId2"/>
          <a:srcRect l="46620" t="0" r="-391" b="0"/>
          <a:stretch/>
        </p:blipFill>
        <p:spPr>
          <a:xfrm>
            <a:off x="6012000" y="1197000"/>
            <a:ext cx="3073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68360" y="141300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ak jiné jsou světy v nichž žije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ONFLIKTUALISTICKÉ SMĚ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rovnováha konflik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RITICKÁ SOCI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lepší společn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VLIVY A INSPIRACE  -  SHR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Výsledek obrázku pro alexis de tocqueville"/>
          <p:cNvPicPr/>
          <p:nvPr/>
        </p:nvPicPr>
        <p:blipFill>
          <a:blip r:embed="rId1"/>
          <a:stretch/>
        </p:blipFill>
        <p:spPr>
          <a:xfrm>
            <a:off x="250920" y="3068640"/>
            <a:ext cx="31082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478080" y="333360"/>
            <a:ext cx="6022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lexis de Tocquevi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05-18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rý režim a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mokracie v Ame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Výsledek obrázku pro alexis de tocqueville ancien regime"/>
          <p:cNvPicPr/>
          <p:nvPr/>
        </p:nvPicPr>
        <p:blipFill>
          <a:blip r:embed="rId2"/>
          <a:stretch/>
        </p:blipFill>
        <p:spPr>
          <a:xfrm>
            <a:off x="3995640" y="3068640"/>
            <a:ext cx="200052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3" descr="Výsledek obrázku pro De la démocratie en Amérique"/>
          <p:cNvPicPr/>
          <p:nvPr/>
        </p:nvPicPr>
        <p:blipFill>
          <a:blip r:embed="rId3"/>
          <a:srcRect l="6810" t="8883" r="10215" b="8883"/>
          <a:stretch/>
        </p:blipFill>
        <p:spPr>
          <a:xfrm>
            <a:off x="6588000" y="3068640"/>
            <a:ext cx="236880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1268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značně směřujeme k demokracii, netvrdím však, že je to dobře. To, co vidím v této zemi (Americe), mě naopak přesvědčuje, že tento politický systém se pro Francii nehodí. Této síle však nejsme s to se ubránit. Nic ji nedokáže zastavit, a pokud ano, jen nakrátk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potismus, ze své vlastní povahy velmi podezíravý, považuje izolaci lidí za nejlepší záruku svého vlastního trvání… Despota snadno promine svým poddaným, že ho nemají rádi – ovšem za předpokladu, že ani poddaní navzájem se nebudou mít rádi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n již neříká: ‘Buď budeš myslet stejně jako já, nebo zemřeš.’ Říká však: ‘Máš svobodu nemyslet stejně jako já – můžeš si ponechat svůj život, majetek a vše co máš. Ale od dnešního dne jsi mezi námi cizincem… Když se přiblížíš ke svým bližním, budou se ti vyhýbat jako nečisté bytosti… Jdi v pokoji. Ponechal jsem ti tvůj život, ale je to život horší než smrt’.“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alexis-de-tocqueville/?q=266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exis de Tocqueville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Výsledek obrázku pro starý režim a revoluce"/>
          <p:cNvPicPr/>
          <p:nvPr/>
        </p:nvPicPr>
        <p:blipFill>
          <a:blip r:embed="rId1"/>
          <a:stretch/>
        </p:blipFill>
        <p:spPr>
          <a:xfrm>
            <a:off x="1017720" y="2487600"/>
            <a:ext cx="2114280" cy="33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Výsledek obrázku pro starý režim a revoluce"/>
          <p:cNvPicPr/>
          <p:nvPr/>
        </p:nvPicPr>
        <p:blipFill>
          <a:blip r:embed="rId2"/>
          <a:stretch/>
        </p:blipFill>
        <p:spPr>
          <a:xfrm>
            <a:off x="0" y="620640"/>
            <a:ext cx="3132000" cy="17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Výsledek obrázku pro ivo možný"/>
          <p:cNvPicPr/>
          <p:nvPr/>
        </p:nvPicPr>
        <p:blipFill>
          <a:blip r:embed="rId3"/>
          <a:stretch/>
        </p:blipFill>
        <p:spPr>
          <a:xfrm>
            <a:off x="5981760" y="620640"/>
            <a:ext cx="3127320" cy="176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Výsledek obrázku pro ivo možný proč tak snadno"/>
          <p:cNvPicPr/>
          <p:nvPr/>
        </p:nvPicPr>
        <p:blipFill>
          <a:blip r:embed="rId4"/>
          <a:stretch/>
        </p:blipFill>
        <p:spPr>
          <a:xfrm>
            <a:off x="5981760" y="2513160"/>
            <a:ext cx="2352600" cy="3371760"/>
          </a:xfrm>
          <a:prstGeom prst="rect">
            <a:avLst/>
          </a:prstGeom>
          <a:ln w="0">
            <a:noFill/>
          </a:ln>
        </p:spPr>
      </p:pic>
      <p:sp>
        <p:nvSpPr>
          <p:cNvPr id="79" name="TextovéPole 3"/>
          <p:cNvSpPr/>
          <p:nvPr/>
        </p:nvSpPr>
        <p:spPr>
          <a:xfrm>
            <a:off x="3368520" y="333360"/>
            <a:ext cx="23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L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. DE TOCQUEVILLE (*18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ŽNÝ (*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O VÝ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ECNĚJ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LEČENS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N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JAKO ODHALENÍ ZÁKLADNÍCH SOLEČENSKÝCH MECH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Výsledek obrázku pro SOCIAL CAPITAL"/>
          <p:cNvPicPr/>
          <p:nvPr/>
        </p:nvPicPr>
        <p:blipFill>
          <a:blip r:embed="rId1"/>
          <a:stretch/>
        </p:blipFill>
        <p:spPr>
          <a:xfrm>
            <a:off x="3708360" y="4518000"/>
            <a:ext cx="3828960" cy="2371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SOUČASNÉ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Výsledek obrázku pro PUTNAM BOWLING ALONE"/>
          <p:cNvPicPr/>
          <p:nvPr/>
        </p:nvPicPr>
        <p:blipFill>
          <a:blip r:embed="rId2"/>
          <a:stretch/>
        </p:blipFill>
        <p:spPr>
          <a:xfrm>
            <a:off x="395280" y="1052640"/>
            <a:ext cx="2800440" cy="3971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443040" y="1123920"/>
            <a:ext cx="4224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ociál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sociálních sí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 vzájemné důvě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ěry v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NDING  po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IDGING  přemosť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66000" y="48164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O R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089240" y="333360"/>
            <a:ext cx="4310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uguste Co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798-18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Výsledek obrázku pro auguste comte stamp"/>
          <p:cNvPicPr/>
          <p:nvPr/>
        </p:nvPicPr>
        <p:blipFill>
          <a:blip r:embed="rId1"/>
          <a:stretch/>
        </p:blipFill>
        <p:spPr>
          <a:xfrm>
            <a:off x="250920" y="1557360"/>
            <a:ext cx="3333600" cy="506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Výsledek obrázku pro auguste comte books"/>
          <p:cNvPicPr/>
          <p:nvPr/>
        </p:nvPicPr>
        <p:blipFill>
          <a:blip r:embed="rId2"/>
          <a:stretch/>
        </p:blipFill>
        <p:spPr>
          <a:xfrm>
            <a:off x="3780000" y="3429000"/>
            <a:ext cx="1714320" cy="2924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Výsledek obrázku pro auguste comte systeme positive politics"/>
          <p:cNvPicPr/>
          <p:nvPr/>
        </p:nvPicPr>
        <p:blipFill>
          <a:blip r:embed="rId3"/>
          <a:stretch/>
        </p:blipFill>
        <p:spPr>
          <a:xfrm>
            <a:off x="5580000" y="3429000"/>
            <a:ext cx="1849680" cy="2949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4066920" y="1844640"/>
            <a:ext cx="26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filoso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poli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1268280"/>
            <a:ext cx="7417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absolutním smyslu není nic dobré a nic špatné; všechno je relativní, tohle je jediné absolutní tvrzení.“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enže duchovní zmatek umožňuje rozvoj korupce, on si ho přímo vynucuje jako jediný prostředek, jak dosáhnout určité shody, bez níž se sociální řád neobejde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GUSTE COMTE  - citá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6:38:27Z</dcterms:created>
  <dc:creator>x</dc:creator>
  <dc:description/>
  <dc:language>en-US</dc:language>
  <cp:lastModifiedBy>Doricakova</cp:lastModifiedBy>
  <cp:lastPrinted>2017-10-17T07:08:37Z</cp:lastPrinted>
  <dcterms:modified xsi:type="dcterms:W3CDTF">2019-11-25T15:04:34Z</dcterms:modified>
  <cp:revision>33</cp:revision>
  <dc:subject/>
  <dc:title>Snímek 1</dc:title>
</cp:coreProperties>
</file>