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056F-5394-4F5C-B0BA-052CF4FA7C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9DA1-5A04-40ED-B588-3ACA0DD5C15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E4D2-68E5-435F-A1C2-2AB170A5336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877-AA3B-45E5-B20E-95B6FEAA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303-F2C8-4069-90B5-4ABB59A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067-C151-4872-B35A-A23E267E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E99-5BB7-4088-B7F6-A5BF3E90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AC6-23C3-421D-8C3D-05A08658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9A6B-B9A3-498D-8135-01A6C13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0C3D-AD99-4731-91DF-47BD93D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C91A-E5C0-4E8E-9DCA-BCABA4E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BC8A-8887-4DB8-A4A6-5F104AA1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3551-82B4-4EC5-8D39-F4E2D373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5935-3B50-46EA-B633-D81538E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C82-5A65-4339-A264-C1EBF16F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352B-AC5F-46DB-B7B4-F4934A3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63D3-CE04-4FD1-835D-0ACE513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FAA-CDC7-4001-9908-0DC9A8F3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6FED-033F-4B53-B8CD-FB5DACC3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C9A5-A056-4C98-8489-CFB283E6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262-9AA9-4DCE-81CB-F838CE8A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9C7-65E2-4863-82D8-EF402F05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9D4-8A29-4372-9C93-591663BC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D98-6952-4609-B2F7-1B1A9F65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659-EED3-47DA-8944-4E20351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296-0935-43D0-859E-0D46D3F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0D7-6DF9-40C7-BD75-EC60D1A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0724-3385-4176-8B91-9CBD0EBF8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94EC-2484-4486-8C5E-A982D28C383F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10. 2023: ČÍM třídíme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stkoordinace a prekoordinace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47280" y="1196640"/>
            <a:ext cx="714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úrovni slovníku postkoordinace/prekoordinace vyjadřuje míru složení pořádacího znaku. Pokud jsou jako pořádací znaky použity jednoduché pojmy, hovoří se o postkoordinaci, pokud jsou použity složené pojmy, hovoří se o prekoordina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o příklad vezměme složený pojem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dovozní daně na ojeté osobní automobily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stkoordinovaném SJ bude takový složený pojem rozložen do jednotlivých pojmových složek a vyjádřen několika pořádacími znaky (lexikálními jednotkami), např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dovozní daň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osobní automobi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použité zboží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rekoordinovaném SJ bude daný pojem zařazen jako jeden pořádací znak, např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dovozní daň—ojeté osobní automob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chozí příklad se týkal předmětových SJ, u systematických SJ však prekoordinace a postkoordinace funguje podobně. Mějme složený pojem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merická poezie 19. stolet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Zatímco prekoordinovaný systematický SJ jej vyjádří jediným znakem (např. 971.1), postkoordinovaný systematický SJ jej rozloží např. do tří různých znaků, např. A5 (poezie), G89 (Amerika) a T19 (19. stolet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stkoordinace a prekoordinace 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920" y="1447560"/>
            <a:ext cx="6788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koordinovaný nebo postkoordinovaný charakter pořádacích znaků ovlivňuje samozřejmě i indexaci (klasifikaci) a vyhledávání. U postkoordinovaného SJ je složený pojem popsán dílčími pořádací znaky, které jsou k dokumentu přiřazovány samostatně a koordinovány (kombinovány) až při vyhledávání. U prekoordinovaného SJ je naopak složený pojem vyjádřen jediným pořádacím znakem, který se použije jak pro indexaci, tak pro vyhledá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d4633"/>
                </a:solidFill>
                <a:latin typeface="Arial"/>
              </a:rPr>
              <a:t>Zamyslete se na tím, jaké výhody a nevýhody má princip prekoordinace a princip postkoordin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 / postkoordin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2514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nná ré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kou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tř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vropská u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gis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90760" y="1905120"/>
            <a:ext cx="25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vání chmele – spotřeba piva – Če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ěstování vinné révy – výroba vína – Rakousko – legislativa Evropské u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33520" y="152388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postkoordinace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          prekoordinac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200400" y="1905120"/>
            <a:ext cx="2514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Tahoma"/>
              </a:rPr>
              <a:t>pěstování chmel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Tahoma"/>
              </a:rPr>
              <a:t>pěstování vinné rév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Tahoma"/>
              </a:rPr>
              <a:t>výroba vín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Tahoma"/>
              </a:rPr>
              <a:t>spotřeba piv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Tahoma"/>
              </a:rPr>
              <a:t>Česk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Tahoma"/>
              </a:rPr>
              <a:t>Rakousk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Tahoma"/>
              </a:rPr>
              <a:t>legislativa Evropské uni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609480" y="1828800"/>
            <a:ext cx="822960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743200" y="1981080"/>
            <a:ext cx="0" cy="4419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638680" y="2057400"/>
            <a:ext cx="0" cy="4343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360" y="190440"/>
            <a:ext cx="6842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voj selekčních jazyk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chronní (historický) pohled na selekční jazy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jem „selekční jazyk“ pochází z 50./60. let 20. století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(u nás první rozsáhlejší teoretická práce O. Sechser, J. Mojžíšek, M. Königová: Selekční jazyk a jeho popis. Praha, 196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istorii systémů, které dnes označujeme jako selekční jazyky, lze však sledovat až do antik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190440"/>
            <a:ext cx="6842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voj selekčních jazyk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90512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ilozofické klasifikace jako základ univerzálních knihovních klasifikací 19. a začátku 20. stol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znik a vývoj velký klasifikačních systém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weyho desetinné třídění (DDC, D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řídění Kongresové knihovny (L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desetinné třídění (M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ojtečkové třídění (CC; S. R. Ranganath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lissovo bibliografické třídění (BC; H. E. Bl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190440"/>
            <a:ext cx="6842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voj selekčních jazyk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57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stémy založené na přirozeném jazyce jako odlišný a pro uživatele přijatelnější přístup k fondů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nik a vývoj předmětových selečních jazyků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ová he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čová slova z názvů dokumentů (rejstříky typu KWIC, KW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termy jako předchůdce tezau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za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ační systémy (systematické selekční jazy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23640" y="1905120"/>
            <a:ext cx="641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weyho desetinné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Dewey decimal clas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lvil Dewey, 1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gmaticky orientovaný systém enumerativního charakt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á se po celém svě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charakteristika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třídy (DDC Summa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ační systémy (systematické selekční jazy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69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weyho desetinné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00 Natural sciences and mathema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10 Mathema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6 Geom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16.3 Analytic geome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16.37 Metric differential geome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16.375 Finsler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ační systémy (systematické selekční jazy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řídění Kongresové knihov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Library of Congress Class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gresová knihovna, přelom 19. a 20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gmatický, enumerativní systém orientovaný na americké reá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obory jsou rozpracovány v různém rozsahu podle původních potřeb Kongresové kniho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ační systémy (systematické selekční jazy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zinárodní desetinné třídě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niversal Decimal Class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ul Otlet, Henri La Fontaine, začátek 20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em D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binace hierarchického a fazetového pří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šířeno celosvětově v mnoha institu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é MDT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ky 1. dílčího úkol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h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ační systémy (systematické selekční jazy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vojtečkové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olon Clas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iyali Ramamrita Ranganathan, 19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zetový přístup (základní formulace PM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íváno velmi omezeně, teoreticky však velmi přínos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tří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ační systémy (systematické selekční jazy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lissovo bibliografické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liss Bibliographical Clas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nry Evelyn Bliss, 1940-19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ě verze systému (BC1, BC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loženo na filozofickém přístu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zetový pří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eticky fundované, ale rozšířilo se minimál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tří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mětové selekční jazy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ubject head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íjela se na řadě míst nezávisle na sobě, později dílčí standardizace a harmonizace, v současnosti rozšířená Předmětová hesla Kongresové knihovny (Library of Congress Subject Headings), s úpravami používá i Národní knihovna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očátku silný princip prekoordinace byl postupně osl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ná pravidla pro tvorbu lexikálních jedno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říve ČSN 01 01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mětové selekční jazy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eywo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volně tvořená klíčová slova s oslabenou (nebo žádnou) strukturou a omezeně řízeným slov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ou flexibilita, nevýhodou nepřehlednost z důvodu neřízeného slovní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mětové selekční jazy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líčová slova z náz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itle keywo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rychlejší přístup k obsahu dokumentů (není nutné vytvářet apriorní slovní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a: závislost na jazy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tované rejstříky (KWAC, KWIC, KW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mětové selekční jazy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niter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uni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rtimer Taube, 50. léta 20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lná postkoordinace (v původním systému jen jednotlivá sl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ději systém obohacen o gramatické prostředky a strukturu a stal se předchůdcem tezau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ypologie selekčních jazyků</a:t>
            </a:r>
            <a:br>
              <a:rPr sz="38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mětové selekční jazy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eza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hesa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vní tezaury: přelom 50. a 60. let 20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obrazem tezauru jako SJ pojmové slovníky (např. Rogetův tezaur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koordinovaný systém s řízeným slovníkem s hierarchií a dalšími typy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zaměřen na konkrétní obor nebo oblast, jazykové bariéry překonávají vícejazyčné teza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01 0193 (jednojazyčné t.), ČSN 01 0172 (vícejazyčné 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ástroje organizace informac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4600" y="1628640"/>
            <a:ext cx="65595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6666"/>
              </a:buClr>
              <a:buSzPct val="7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bibliografický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datový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databázový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publikační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66"/>
              </a:buClr>
              <a:buSzPct val="7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přirozený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umělý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ccccc"/>
              </a:buClr>
              <a:buFont typeface="Calibri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informační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336666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algoritmický informační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336666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logický informační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databázový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dotazovací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336666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strukturní informační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značkovací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336666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selekční jazy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identifikační S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věcný S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66"/>
              </a:buClr>
              <a:buSzPct val="7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for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ukládací for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zobrazovací for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vyhledávací for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cccc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Calibri"/>
              </a:rPr>
              <a:t>výměnný for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8920" y="2924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ologie SJ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74600" y="1341000"/>
            <a:ext cx="6559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-44280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krétní typologie vždy záleží na tom, jaké zvolíme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principium divisionis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kritérium třídě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 můžeme třídit pod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řád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ně formalizace pořádacích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ířky tematického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anz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dalších hledis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 vymezení základních typů SJ se užívá dvou hledisek, a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10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harakter pořádacích znaků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4428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10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spořádání slovníku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ologie SJ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68000" y="1523520"/>
            <a:ext cx="6342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harakter pořádacích znaků SJ je určen mírou postkoordinace, resp. prekoordinace, takže SJ se dělí n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10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stkoordinované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10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ekoordinované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řádací znaky lze ve slovníku SJ uspořádat abecedně, nebo tematicky, takže SJ se dělí n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10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ové SJ (abecední princ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10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ystematické SJ (tematický princ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ologie SJ 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0560" y="1523520"/>
            <a:ext cx="65595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kem tohoto třídění jsou celkem čtyři typy S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rekoordinované systematické S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ostkoordinované systematické S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rekoordinované předmětové S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ostkoordinované předmětové S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ologie SJ 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124000" y="1523880"/>
            <a:ext cx="6486480" cy="53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6666"/>
                </a:solidFill>
                <a:latin typeface="Arial"/>
              </a:rPr>
              <a:t>Jako příklady jednotlivých typů můžeme uvést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66"/>
                </a:solidFill>
                <a:latin typeface="Arial"/>
              </a:rPr>
              <a:t>prekoordinované systematické SJ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Mezinárodní desetinné třídění, Deweyho desetinné třídění, Třídění Kongresové knihovny, Cutterova expanzivní klasifikace, číselníky, rubrikátor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66"/>
                </a:solidFill>
                <a:latin typeface="Arial"/>
              </a:rPr>
              <a:t>postkoordinované systematické SJ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Dvojtečkové třídění (Ranghanatan), Blissovo bibliografické tříděn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66"/>
                </a:solidFill>
                <a:latin typeface="Arial"/>
              </a:rPr>
              <a:t>prekoordinované předmětové SJ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předmětová hesl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66"/>
                </a:solidFill>
                <a:latin typeface="Arial"/>
              </a:rPr>
              <a:t>postkoordinované předmětové SJ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66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deskriptorové SJ, volně tvořená klíčová slova, permutované (rotované) rejstříky (</a:t>
            </a:r>
            <a:r>
              <a:rPr b="0" lang="cs-CZ" sz="1600" spc="-1" strike="noStrike">
                <a:solidFill>
                  <a:srgbClr val="336666"/>
                </a:solidFill>
                <a:latin typeface="Arial"/>
              </a:rPr>
              <a:t>KWIC, KWOC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stkoordinace a prekoordinace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95640" y="1600200"/>
            <a:ext cx="664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stkoordinace a prekoordinace jsou principy, které ovlivňují morfologii a syntax SJ – uplatňují se tedy při tvorbě pořádacích znaků ve slovníku SJ a při indexaci (klasifikaci) a vyhledává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čistě postkoordinovaný nebo čistě prekoordinovaný SJ. Postkoordinace a prekoordinace se uplatňuje v každém SJ; podle toho, který princip v daném SJ převažuje, označujeme jej jako prekoordinovaný nebo jako postkoordinovaný SJ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f</dc:creator>
  <dc:description/>
  <dc:language>en-US</dc:language>
  <cp:lastModifiedBy>Josef Schwarz</cp:lastModifiedBy>
  <dcterms:modified xsi:type="dcterms:W3CDTF">2023-10-06T09:50:04Z</dcterms:modified>
  <cp:revision>18</cp:revision>
  <dc:subject/>
  <dc:title>VIKBA11 Selekční jazyky</dc:title>
</cp:coreProperties>
</file>