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6480" y="-3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75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6480" y="6541560"/>
            <a:ext cx="43419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0842-775C-42D0-BDD4-057CCD69D91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5676840" y="6541920"/>
            <a:ext cx="4341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9414-8E77-4917-A65F-A93DF597470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2878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1520" y="3271320"/>
            <a:ext cx="801684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29C-13E2-4D08-AB52-30B990B7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D9A-D66F-4C89-AA3D-CD17CAA8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D7E-5472-4F5A-9E15-97062982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BF6-802D-446D-9E95-4897F2AE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FD49-520F-4AEA-ADEE-E0FC9676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4B1B-FE86-4E61-AF2D-DE4ECD99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46DC-77B3-4516-93D8-E5AA77C6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93EE-0A66-47AE-8327-12F3014E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569C-61BB-4214-9629-4710ECB1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E08C-CAE3-4689-86FB-2302595A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20AF-8A16-4585-9F92-60189269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4B0-204D-453B-B784-8C406F84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A81A-AFF8-49FD-B912-41586BF5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5A56-919E-46A7-A63A-156AD186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0ED3-1AFE-4BFF-9C97-26F67BC2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F60D-3288-4434-A8A3-95F886D1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B912-5273-49C2-94CD-DB4FF395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B65-DCF6-44E9-96E6-9849D04C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26F-7E2E-43F0-810E-CF7FB495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C74-65C0-4BEF-8FBF-4C69B0DB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E3C-24BE-4954-AD31-03B78998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48B6-CB7D-4F27-B140-6A93F8C9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A50E-4663-48A8-8D2F-1AFF818E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82A-3806-4A04-8581-CFE55E12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029C-E64A-4750-9CE3-C0FDA2F806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2101-C324-419C-891B-B4F7B0BCFD1E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B18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Organizace informac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7. 10. 2023: JAK třídíme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ISK FF MU, podzim 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Faktory ovlivňující indexac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63320" y="1302840"/>
            <a:ext cx="627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á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.: zkušenost a znalost SJ, znalost oboru, porozumění textu, systematické myšlení, racionální č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ubj.: soustř., pečlivost, nálada, únava, motiv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lita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kument/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or, struktura, délka, styl, žánr, pomocný aparát, jaz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acovní podmín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. doba, produktivita práce, prac. prostředí, technické prostřed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7640" y="190440"/>
            <a:ext cx="6626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trola a hodnocení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40000" y="1523880"/>
            <a:ext cx="627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rocesu index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ní s obsahem databá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uperv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rávnost a úplnost obsahové analý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cná i formální správnost přiřazených pořádacích zna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exační chy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ční experi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 vyhledá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levance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lnost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a přesnost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ecis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Relevance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plnost (recall)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vyhledaných relevantních dokumentů / počet všech relevantní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snost (precision) 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vyhledaných relevantních dokumentů / počet všech vyhledaný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měr mezi úplností a přesnost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ndexační chyb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8000" y="1523520"/>
            <a:ext cx="6778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ata: kontrola indexace UK-ETF 1998-9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 případová stu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jčastější typy chy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pominutí hledisek (18,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právné stanovení významu nebo rozsahu deskriptoru (12,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ybějící jednotlivé deskriptory (11,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ypy chyb podle ovlivnění úplnost a přesnost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xní chyby snižující úplnost (23,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chyby snižující úplnost (22,1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chyby snižující úplnost i přesnost (14,9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ndexační chyby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8000" y="1828800"/>
            <a:ext cx="6778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typy chyb podle fáze index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bsahová analýza (18,1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chyb: index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dentifikace pojmů (42,3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chyb: indexační pravidla, index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častěji: opominutí hledi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běr deskriptorů z tezauru (20,8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chyb: indexátor, indexační pravidla, řízený slov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ndexační experimen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08000" y="1905120"/>
            <a:ext cx="6702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rovnávání různých typů selekčních jazyk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 vzorku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ovnání formou rešeršních dotaz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nzistence indexáto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perimentální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a nebo více index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orek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pretace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-4294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ípadová stud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91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yužití hodnocení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8000" y="1905120"/>
            <a:ext cx="6342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exá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 lexika n.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 poznámek o rozsa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ční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kumen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4600" y="190440"/>
            <a:ext cx="65595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559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a konzistence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ační vlivy a ome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valuace výsledků inde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valita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0560" y="1700280"/>
            <a:ext cx="6945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litní indexace – taková indexace, která zajistí (ne)vyhledání dokumentu v rámci konkrétního informačního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plnost (hlediska, faze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snost (specifič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oub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de o relativní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l a zaměření informačního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třeby a požadavky uži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lze hodnotit kvantitativními metod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ktory ovlivňující kvalitu 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LAN03, kap. Quality of Index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559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kumenty stejného obsahu by měly být indexovány ste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ra shody dvou nebo více S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y konz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zi indexátory (interindexer consist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hoda indexace mezi dvěma nebo více indexá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dexátora (intraindexer consist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indexace jednoho indexá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z hlediska hloubky inde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pořádacích znaků vyjadřujících hlavní 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zistence pořádacích znaků vyjadřujících vedlejší t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LAN03, Consistency of Index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br>
              <a:rPr sz="42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tematické vyjád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79280" y="1599840"/>
            <a:ext cx="663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očet 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vojice indexátorů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zv. konzistenční pár (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onsistency pai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 = a /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 počet pořádacích znaků, které shodně zvolili oba indexát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celkový počet přidělených jedinečných pořádacích zn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908000" y="2673000"/>
            <a:ext cx="30052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ndexátor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mořní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troskot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stro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Robinson Cruso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brodružné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rom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851280" y="1819440"/>
            <a:ext cx="380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Příklad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896000" y="2583000"/>
            <a:ext cx="3809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66"/>
                </a:solidFill>
                <a:latin typeface="Tahoma"/>
              </a:rPr>
              <a:t>Indexátor 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Arial"/>
              </a:rPr>
              <a:t>trosečníci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6666"/>
                </a:solidFill>
                <a:uFillTx/>
                <a:latin typeface="Arial"/>
                <a:ea typeface="Arial"/>
              </a:rPr>
              <a:t>ostrov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336666"/>
                </a:solidFill>
                <a:uFillTx/>
                <a:latin typeface="Arial"/>
                <a:ea typeface="Arial"/>
              </a:rPr>
              <a:t>dobrodružné </a:t>
            </a:r>
            <a:r>
              <a:rPr b="1" lang="cs-CZ" sz="2000" spc="-1" strike="noStrike" u="sng">
                <a:solidFill>
                  <a:srgbClr val="336666"/>
                </a:solidFill>
                <a:uFillTx/>
                <a:latin typeface="Arial"/>
              </a:rPr>
              <a:t>román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Arial"/>
              </a:rPr>
              <a:t>anglická literatura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66"/>
                </a:solidFill>
                <a:latin typeface="Arial"/>
              </a:rPr>
              <a:t>18. století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56000" y="5084640"/>
            <a:ext cx="5867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a = 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b = 8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 = a / b = 2 / 8 = 0,25 = 25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br>
              <a:rPr sz="42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tematické vyjádření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835280" y="1599840"/>
            <a:ext cx="677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očet I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 než dva indexát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 = průměr konzistenčních pá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</a:t>
            </a:r>
            <a:br>
              <a:rPr sz="42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tematické vyjádření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onzistence indexace (pokr.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980720"/>
            <a:ext cx="2256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ndexátor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ámořní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troskot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binson Cruso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276720" y="12952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Příklad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780000" y="1946160"/>
            <a:ext cx="2666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66"/>
                </a:solidFill>
                <a:latin typeface="Tahoma"/>
              </a:rPr>
              <a:t>Indexátor 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trosečníc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anglická literatur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18. století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5800" y="4724280"/>
            <a:ext cx="7696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</a:t>
            </a:r>
            <a:r>
              <a:rPr b="1" lang="cs-CZ" sz="2400" spc="-1" strike="noStrike" baseline="-25000">
                <a:solidFill>
                  <a:srgbClr val="336666"/>
                </a:solidFill>
                <a:latin typeface="Tahoma"/>
              </a:rPr>
              <a:t>1,2</a:t>
            </a: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 = 2 / 8 = 0,25 = 25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</a:t>
            </a:r>
            <a:r>
              <a:rPr b="1" lang="cs-CZ" sz="2400" spc="-1" strike="noStrike" baseline="-25000">
                <a:solidFill>
                  <a:srgbClr val="336666"/>
                </a:solidFill>
                <a:latin typeface="Tahoma"/>
              </a:rPr>
              <a:t>1,3</a:t>
            </a: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 = 5 / 7 = 0,71 = 71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</a:t>
            </a:r>
            <a:r>
              <a:rPr b="1" lang="cs-CZ" sz="2400" spc="-1" strike="noStrike" baseline="-25000">
                <a:solidFill>
                  <a:srgbClr val="336666"/>
                </a:solidFill>
                <a:latin typeface="Tahoma"/>
              </a:rPr>
              <a:t>2,3</a:t>
            </a: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 = 3 / 9 = 0,33 = 33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336666"/>
                </a:solidFill>
                <a:latin typeface="Tahoma"/>
              </a:rPr>
              <a:t>C = (0,25+0,71+0,33)/3 = 0,43 = 43 %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134040" y="2008080"/>
            <a:ext cx="2971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66"/>
                </a:solidFill>
                <a:latin typeface="Tahoma"/>
              </a:rPr>
              <a:t>Indexátor 3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námořníci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ztroskotání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ostrov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Robinson Crusoe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  <a:ea typeface="Arial"/>
              </a:rPr>
              <a:t>dobrodružné </a:t>
            </a: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román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Páte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Arial"/>
              </a:rPr>
              <a:t>anglická literatur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Kvalita vs konzistence index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35280" y="1905120"/>
            <a:ext cx="677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ztah kvality a konzistence není bezprostřed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zistentní indexace neznamená kvalitní index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ní indexace zahrnuje i konzistentní indexa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zistence indexace zlepšuje efektivitu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 hlediska správy databáze je konzistence kvali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y konzistence z pra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9-11-15T11:20:14Z</cp:lastPrinted>
  <dcterms:modified xsi:type="dcterms:W3CDTF">2023-10-27T14:44:54Z</dcterms:modified>
  <cp:revision>175</cp:revision>
  <dc:subject/>
  <dc:title>Selekční jazyky</dc:title>
</cp:coreProperties>
</file>