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3AB-A6D3-4792-AAD7-3823F43CFA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924-2E18-47D1-AEC5-9F05C5DC2FB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2ED-8D17-4AE2-95FC-82E0392A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13E-6785-41B2-9142-9AB89247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B14-7169-4A5E-ABE0-E6556828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760-2C79-4F7E-8192-7663290D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618F-0D1A-4A7B-9ABE-31CFF0AE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CD0-0C5D-4765-8924-380689F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5743-C4E7-44A3-A7F1-F812002A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70CD-7441-4079-AFF4-02C9952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29AB-19EB-4F82-87E7-8591511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2D26-C147-4211-B82B-2954C8B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E13-483C-430A-A392-7F267366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350-443E-446D-8FC3-3F13D75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752E-C6BA-4C60-B4DA-B7FFD39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ED0-3D70-4FA1-A876-80B39CC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22F0-3323-42A2-8724-961209CB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EE6-63E1-4978-8616-1D18659B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511-AF91-479E-8538-96D236CE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75A-F5B5-4503-BF71-B389AAD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754-B69E-45AB-A2FD-27A4D0E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ECE-6712-4604-A825-B9D6AEC5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80C-5EE1-4065-BE75-AE7F192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2CD-6971-48DD-8FEF-15BD691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543-DC6B-4934-9EB7-FBCF29D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DE6-D151-4524-B251-BFE8974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41E2-93F0-4D00-A44A-00835A40E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F8ED-C252-476C-A789-6359A2B181F1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7. 10. 2023: JAK třídím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aktory ovlivňující indexa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3320" y="1302840"/>
            <a:ext cx="627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bj.: soustř., pečlivost, nálada, únava, moti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/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r, struktura, délka, styl, žánr, pomocný aparát,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190440"/>
            <a:ext cx="6626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trola a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523880"/>
            <a:ext cx="627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ocesu index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s obsahem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ost a úplnost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l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přes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(recall)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snost (precision)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ěr mezi úplností a přes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677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ata: kontrola indexace UK-ETF 1998-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případová stu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jčastější typy chy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ominutí hledisek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rávné stanovení významu nebo rozsahu deskriptoru (12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ějící jednotlivé deskriptory (11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ovlivnění úplnost a přesnost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xní chyby snižující úplnost (23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(22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i přesnost (14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8000" y="18288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fáze index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sahová analýza (18,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pojmů (42,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ační pravidla,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: opominutí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běr deskriptorů z tezauru (20,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, indexační pravidla,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8000" y="1905120"/>
            <a:ext cx="670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rovnávání různých typů selekčních jazy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vzorku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vnání formou rešeršních dot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istence index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erimentál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a nebo více index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orek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pretace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ípadová stu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užití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1905120"/>
            <a:ext cx="634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lexika n.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poznámek o roz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4600" y="190440"/>
            <a:ext cx="65595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vlivy a om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aluace výsledků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560" y="1700280"/>
            <a:ext cx="69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indexace – taková indexace, která zajistí (ne)vyhledání dokumentu v rámci konkrétního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ost (hlediska, faz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nost (specifi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relativní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 a zaměření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y a požadavky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hodnotit kvantitativními meto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ovlivňující kvalitu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LAN03, kap. Quality of Index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stejného obsahu by měly být indexovány ste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shody dvou nebo více 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nz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indexátory (inter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oda indexace mezi dvěma nebo více index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átora (intra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indexace jednoho index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z hlediska hloubky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hlavn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vedlejš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N03, Consistency of Ind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63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ice indexátor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konzistenční pár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nsistency pa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a 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08000" y="2673000"/>
            <a:ext cx="3005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51280" y="181944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896000" y="258300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56000" y="508464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dv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průměr konzistenčních pá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2256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80000" y="1946160"/>
            <a:ext cx="2666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2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2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134040" y="2008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vs 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77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tah kvality a konzistence není bezprostře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tní indexace neznamená kvali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ní indexace zahrnuje i konzisten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ce indexace zlepšuje efektivitu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hlediska správy databáze je konzistence kval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konzistence z pr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15T11:20:14Z</cp:lastPrinted>
  <dcterms:modified xsi:type="dcterms:W3CDTF">2023-10-27T14:44:54Z</dcterms:modified>
  <cp:revision>175</cp:revision>
  <dc:subject/>
  <dc:title>Selekční jazyky</dc:title>
</cp:coreProperties>
</file>