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CE11-1071-4E4C-BAEA-F3F7AF53CE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618-143E-460D-9E0D-E2B0C6354F7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C67-CB6A-4B61-A2C6-6FB3A58B4D9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968-1429-4CBA-86BA-8CE1DAB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0B0-D026-4F8E-95E0-22DC54B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C8-2344-4A06-8C23-868124FA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3F4-308D-425C-99BD-EBBC0FB5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98B6-06F2-475E-A2F0-8EBC1FF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239-227A-4508-83DB-A7EE6CD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16FC-3050-4BE9-8A24-706138D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2657-88C1-4841-A145-DAF7FE5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1C4-AA6C-4962-8999-D3813C9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B42-9228-49E4-BA86-9F29199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1895-7BDB-406D-9D2C-76EDF83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157-F4F6-430B-B34C-D70CAC9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4A0C-DEF6-46D9-87C6-1A717DC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1730-D988-4FC8-AFCC-0D04B61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EF59-3612-43F7-83D8-D22B7CBC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9425-C00A-495F-9797-7C5E0D4D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1A2D-97BB-4116-A530-33B9DE89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779-794A-4535-85F5-A37E95E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E2B-DEDE-4C8B-A4E2-6BC65D8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40B-D7B0-499E-9F52-B857E96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A27-02D7-4F70-A571-9F22670A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999-1D6F-4C80-95FF-2AEB978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EFE-9268-45C1-ABE0-A06A4954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361-E355-4976-A19F-6DDAB13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152D-8AA3-4903-90BF-710D33EDC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015-779B-46C0-9A93-E531BC8336A0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. 11. 2023: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 s tříděnými informacemi NAKLÁD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stupní a výstupní proced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AV, PubMed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11-30T07:09:33Z</cp:lastPrinted>
  <dcterms:modified xsi:type="dcterms:W3CDTF">2023-11-10T14:47:44Z</dcterms:modified>
  <cp:revision>173</cp:revision>
  <dc:subject/>
  <dc:title>Selekční jazyky</dc:title>
</cp:coreProperties>
</file>