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487F-A62B-4A3B-B65E-026528EBB4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1DC4-E3FE-4884-8BE8-E069F1B5CE1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9BE-BC68-432C-99BF-AB2EC842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340-D217-4496-9B38-C8C6C598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7EF-81C9-4D46-B481-A478674A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1CE-387F-4C68-BB13-0BD126EE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80E7-6CF9-4ADE-927C-36F9F4F2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4021-176D-43C5-9B4F-70103E1F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F8FA-88F2-4BD7-91BA-61C78EF9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77C9-3E12-47FC-84B6-FBE19C48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A7AF-8758-40DF-9489-6F7AB117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4DF2-56B9-483F-9763-D0CA3449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E737-D14F-4356-AB35-65DFA57C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1DF-6DBE-4DD5-834C-07AD96B0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D0BF-65EF-465A-B603-3F5EB0B9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152C-094E-437E-8C07-7082A9E5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DE21-DE35-4C28-9FB4-32F0C955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79E6-245B-4135-BE71-7C488D8A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2C17-3388-4E36-ABBE-E9BA5A91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A1A-9BDF-4C42-BDE4-02CBD86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831-D5C5-4D6D-8D9C-8AD32F8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77C-93AE-4228-BC1E-529FF33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F81-27B0-4094-BB91-D34619AE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0E1-C98D-4800-A74A-F939174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A8C-1713-416B-A8BB-93D6D75B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5F4-3E1C-43E6-BF67-831E3C83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D3E3-4BCB-4650-A68C-D4A780F85C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1251-093C-4FA4-953C-4B4D5E55A61F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Ukol02/OI_ukol2.doc" TargetMode="External"/><Relationship Id="rId2" Type="http://schemas.openxmlformats.org/officeDocument/2006/relationships/hyperlink" Target="file:///../Ukol02/OIukol2-stud.xlsx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vocabularyserver.com/tee/en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dcsummary.info/php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czso.cz/csu/czso/seznam_vyrobku_cz_prodco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etris.nkp.cz/Catalog?sigla=ABE323&amp;catalogId=zmccas%20%20%20%20&amp;caseId=1&amp;drawerId=1&amp;recordId=10990&amp;bookmarkId=null&amp;filterId=&amp;page=nu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aleph.nkp.cz/F/?func=direct&amp;doc_number=000036607&amp;local_base=KKL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 11. 2020: Morfologie a struktura selekčních jazy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588000" y="1447920"/>
            <a:ext cx="255600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6" name="Obrázek 3" descr="Obsah obrázku snímek obrazovky, text&#10;&#10;Popis byl vytvořen automaticky"/>
          <p:cNvPicPr/>
          <p:nvPr/>
        </p:nvPicPr>
        <p:blipFill>
          <a:blip r:embed="rId1"/>
          <a:stretch/>
        </p:blipFill>
        <p:spPr>
          <a:xfrm>
            <a:off x="-57240" y="1773360"/>
            <a:ext cx="8967960" cy="505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76720" y="1447920"/>
            <a:ext cx="406728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Obrázek 3" descr="Obsah obrázku snímek obrazovky&#10;&#10;Popis byl vytvořen automaticky"/>
          <p:cNvPicPr/>
          <p:nvPr/>
        </p:nvPicPr>
        <p:blipFill>
          <a:blip r:embed="rId1"/>
          <a:stretch/>
        </p:blipFill>
        <p:spPr>
          <a:xfrm>
            <a:off x="468360" y="2411280"/>
            <a:ext cx="9855000" cy="416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443640" y="1447920"/>
            <a:ext cx="2700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4" name="Obrázek 2" descr="Obsah obrázku snímek obrazovky&#10;&#10;Popis byl vytvořen automaticky"/>
          <p:cNvPicPr/>
          <p:nvPr/>
        </p:nvPicPr>
        <p:blipFill>
          <a:blip r:embed="rId1"/>
          <a:stretch/>
        </p:blipFill>
        <p:spPr>
          <a:xfrm>
            <a:off x="108000" y="103320"/>
            <a:ext cx="4322880" cy="665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875640" y="1447920"/>
            <a:ext cx="2268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8" name="Obrázek 3" descr=""/>
          <p:cNvPicPr/>
          <p:nvPr/>
        </p:nvPicPr>
        <p:blipFill>
          <a:blip r:embed="rId1"/>
          <a:stretch/>
        </p:blipFill>
        <p:spPr>
          <a:xfrm>
            <a:off x="-28440" y="33480"/>
            <a:ext cx="7954920" cy="656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Morfologie a struktura S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ořádací znak (P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stematické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ční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ní vyjád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ové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J typu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ové hes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ový prv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kriptorové SJ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jedno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kriptor (preferovaná 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eskriptor (nepreferovaná 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4120" y="18288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áklad: kó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553.068.9 Metamorfovaná ložisk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004.354.5 Myš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180 Středověká filozof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áklad: přirozený jazy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ožiska metamorfovaná – těž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ši (hlodavci) – škody na úrodě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ředověká filozofie – důkazy boha teleologick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etamorfovaná ložisk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š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ředověká filozof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S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35280" y="1676160"/>
            <a:ext cx="677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ematické SJ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klasifikační znak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řída -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kupina klasifikovaných pojmů vzniklá na základě shodných charakteristik za účelem definování sémantických vztahů mezi nimi, která je označená notací. Tvoří základní prvek klasifikačního systému označující základní kategorii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tační systém (n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druhu použitých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fabetická notace (KK, Odee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Ж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КЛ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merická notace (III.V, 4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etinná notace (656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fanumerická notace (smíšená notace) (A65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Ж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II.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počtu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nární notace (06-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S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676160"/>
            <a:ext cx="64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ematické S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anzivní notace (pohostinnost not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neární notace (A11, A12, A13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ká notace (A11, A11.1, A11.1.01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nemotechničnost not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L1.0 – literární teo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parátor n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P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8000" y="1125360"/>
            <a:ext cx="6702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ová hes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ky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a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čle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slo (vstupní prvek) – hlavní téma doku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ícečlenné PH (řetězec 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slo (vstupní prvek) – hlavní téma dokumentu (+doplněk he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heslo (specifikuje význam hesla) – vedlejší téma dokumentu (+doplněk podhe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lo (doplněk hesla) – 1. podheslo (doplněk 1. podhesla) – 2. podheslo (doplněk 2.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e souslo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SN 0101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vořák, Antonín (dramatik) – hry divadelní - bibli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P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79280" y="1268280"/>
            <a:ext cx="6630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skriptorové S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xikální jednotky (deskriptory, nedeskriptory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tez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ízení slovní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ocabulary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koordinace/postkoordin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émantický/syntaktický roz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rozený/invertovaný slovos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deskriptoru, nedeskriptorů (řešení synonymie, kvazisynonymie, hierarchizace vztahu ekviva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mografy, polysémy -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elá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urál/singul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a lexikální jednotky (pravopis, zkratky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kriptorový odst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SN 010193 (jednojazyčné tezaury), ČSN 010172 (vícejazyčné teza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Výsledek 2. úkol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360" y="3357360"/>
            <a:ext cx="64767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ad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řehled řeš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190440"/>
            <a:ext cx="741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émantický rozklad – nedoporučuje se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(př.: barometr = tlak + měření + přístroj 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ntaktický rozklad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(př.: knihovnické časopisy = knihovnictví + časopis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ekoordin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je běžné a užíva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informační zdroje, invalidní vozí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klad vede ke ztrátě významu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filozofie dějin, letadlová lo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obsahuje vlastní jméno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Bradfordův zákon, Planckova konstant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átor ztratil původní význam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lehký průmys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átor bez přímého vztahu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stromová struk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se „středním členem“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benzinový moto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kategorematická substantiv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umělé květiny, čokoládová vejce, světelný ro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tkoordin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/část x modifiká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sit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cel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př.: lodní motor = lodě + motory; knihovní personál = knihovny + personá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/objekt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př.: signování knih = signování + knihy; indexace článků = indexace + články; stěhování ptáků = stěhování + ptác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pravidel pro souslov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ppendix A – AAT compound term rules. In Aichison, J., Gilchrist, A., Bawden, D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hesaurus construction and use : a practical manua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4th ed. Chicago : Fitzroy Dearborn Publishers, c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istika slovníku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40000" y="1600200"/>
            <a:ext cx="680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ložen n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klasifik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oborové termi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vykle strukturován pomocí sémantických vzta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ovník SJ se nazývá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klasifikační tabu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H: předmětový heslá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J: tez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lavní část uspořádá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systema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ční sché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abece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istika slovníku SJ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7020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mocná část uspořádán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abece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abecední nebo rotovaný (permutovaný) rejstř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systema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urus: kategorie – mikrotezaury (tematické obla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raf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užití faz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fazetový klasifikač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J: fazetový tezaurus (thesaurofac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ruktura slovníku SJ (vztahy mezi PZ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7640" y="1905120"/>
            <a:ext cx="66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ec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adigmatické/syntagmatické vztahy (apriorní/aposterior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titivní vztah (celek-část), generický vztah (rod-druh), logický vztah (příčina-následek apod.) 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hie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vi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lná“ 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 (viz té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ruktura slovníku SJ (vztahy mezi PZ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339640" y="1905120"/>
            <a:ext cx="619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asociace (viz té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ekvivalence (v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SJ (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řazený deskriptor (ND/B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řazený deskriptor (PD/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vivalence (nedeskrip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IZ/USE – EKV/U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buzný deskriptor (AD/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yntax (pravidla pro užívání slovníku SJ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ohierarchický/fasetový klasifikační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zna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né znaky (pomocné tabul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obecné pz (např. pomocný znak místa, času, jazyka, formy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cké p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inuté znaky (hlavní z.+pomocný 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žené znaky (hlavní z.+hlavní 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ovací symboly (přiřazení, rozšíření, vzt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yntax (pokr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77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lo (doplněk hesla) – podheslo (doplněk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binace prvků předmětového he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íjení předmětového he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SJ (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deskriptor-&gt;desk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koordi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matické pr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le – A (X), B (Z)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e – A (1), B (2), C (1), D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Morfologie a struktura S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káz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651640" y="1671480"/>
            <a:ext cx="360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2" name="Obrázek 3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0" y="-19080"/>
            <a:ext cx="2376360" cy="689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76720" y="1643040"/>
            <a:ext cx="359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6" name="Obrázek 2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34920" y="58680"/>
            <a:ext cx="2665440" cy="671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515280" y="1643040"/>
            <a:ext cx="2160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0" name="Obrázek 3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179280" y="38160"/>
            <a:ext cx="6856560" cy="614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75640" y="1447920"/>
            <a:ext cx="2268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4" name="Obrázek 2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0" y="1628640"/>
            <a:ext cx="8008920" cy="516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Ukázka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907920"/>
            <a:ext cx="3961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rázek 2" descr="Obsah obrázku text, noviny&#10;&#10;Popis byl vytvořen automaticky"/>
          <p:cNvPicPr/>
          <p:nvPr/>
        </p:nvPicPr>
        <p:blipFill>
          <a:blip r:embed="rId1"/>
          <a:stretch/>
        </p:blipFill>
        <p:spPr>
          <a:xfrm>
            <a:off x="0" y="-14400"/>
            <a:ext cx="4643280" cy="6872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5651640" y="1671480"/>
            <a:ext cx="360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516720" y="1643040"/>
            <a:ext cx="215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Obrázek 2" descr="Obsah obrázku text&#10;&#10;Popis byl vytvořen automaticky"/>
          <p:cNvPicPr/>
          <p:nvPr/>
        </p:nvPicPr>
        <p:blipFill>
          <a:blip r:embed="rId1"/>
          <a:stretch/>
        </p:blipFill>
        <p:spPr>
          <a:xfrm>
            <a:off x="-25560" y="2060640"/>
            <a:ext cx="9714240" cy="454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0-18T09:57:11Z</cp:lastPrinted>
  <dcterms:modified xsi:type="dcterms:W3CDTF">2023-10-13T15:56:19Z</dcterms:modified>
  <cp:revision>181</cp:revision>
  <dc:subject/>
  <dc:title>Selekční jazyky</dc:title>
</cp:coreProperties>
</file>