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4.wmf" ContentType="image/x-wmf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88D-30BA-485E-9BCC-739ABB6D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768-17B0-4A16-89B6-5B4FE1E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299-D738-4A4A-B815-297BFF5E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2F5-4D33-4D41-98DC-07F600F3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55C-39FB-4499-9740-40B1DE4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CBB-F1B1-4593-9E03-E623BBB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EEB-0AED-4EDB-9BDA-C27F251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FC0-31DD-4F08-A540-05630BD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C30-FC7E-46A8-8A80-0018666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620-AC30-46D9-96EA-4703FCF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1D1-66BB-40FC-90A8-EA3B6FC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260-1CED-4070-AA2D-2130E07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AD1-1B95-48E4-9261-67B788724B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r Zboř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vlivnění spek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vlivy – elektronová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xidoredu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cidobazické dě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ější vl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e s prostředím – polarita, io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RESPIRACE-ETC+Fp-UQ"/>
          <p:cNvPicPr/>
          <p:nvPr/>
        </p:nvPicPr>
        <p:blipFill>
          <a:blip r:embed="rId1"/>
          <a:stretch/>
        </p:blipFill>
        <p:spPr>
          <a:xfrm>
            <a:off x="250920" y="907920"/>
            <a:ext cx="7962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C-NAD-k20o20"/>
          <p:cNvPicPr/>
          <p:nvPr/>
        </p:nvPicPr>
        <p:blipFill>
          <a:blip r:embed="rId1"/>
          <a:stretch/>
        </p:blipFill>
        <p:spPr>
          <a:xfrm>
            <a:off x="826920" y="549360"/>
            <a:ext cx="76266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1" descr=""/>
          <p:cNvPicPr/>
          <p:nvPr/>
        </p:nvPicPr>
        <p:blipFill>
          <a:blip r:embed="rId1"/>
          <a:stretch/>
        </p:blipFill>
        <p:spPr>
          <a:xfrm>
            <a:off x="549360" y="1227240"/>
            <a:ext cx="80452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iv polarity na absorpční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5"/>
          <p:cNvSpPr/>
          <p:nvPr/>
        </p:nvSpPr>
        <p:spPr>
          <a:xfrm>
            <a:off x="4643280" y="165276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"/>
          <p:cNvSpPr/>
          <p:nvPr/>
        </p:nvSpPr>
        <p:spPr>
          <a:xfrm>
            <a:off x="5292720" y="170028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3995640" y="328464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43280" y="321300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2240" y="3589200"/>
            <a:ext cx="32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dr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n páru sniž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nergii n orbit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429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60600" y="2004840"/>
            <a:ext cx="36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excitovan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ižuje jeho energ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7164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znam spektrofo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koncentrace lá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změn koncentrace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nt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elný 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šlé a přicházející svět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éž I a 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mber-Beerův zá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84200" y="17175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c .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beeranim"/>
          <p:cNvPicPr/>
          <p:nvPr/>
        </p:nvPicPr>
        <p:blipFill>
          <a:blip r:embed="rId1"/>
          <a:stretch/>
        </p:blipFill>
        <p:spPr>
          <a:xfrm>
            <a:off x="3780000" y="1700280"/>
            <a:ext cx="2171520" cy="120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826920" y="3448080"/>
            <a:ext cx="41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pro kvantitativní analýz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znalost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c = A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librační přím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99564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3995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067280" y="4797000"/>
            <a:ext cx="1584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77692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18000" y="452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otometr1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1" descr=""/>
          <p:cNvPicPr/>
          <p:nvPr/>
        </p:nvPicPr>
        <p:blipFill>
          <a:blip r:embed="rId1"/>
          <a:stretch/>
        </p:blipFill>
        <p:spPr>
          <a:xfrm>
            <a:off x="1270080" y="1778040"/>
            <a:ext cx="66038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euterium"/>
          <p:cNvPicPr/>
          <p:nvPr/>
        </p:nvPicPr>
        <p:blipFill>
          <a:blip r:embed="rId1"/>
          <a:stretch/>
        </p:blipFill>
        <p:spPr>
          <a:xfrm>
            <a:off x="5292720" y="1700280"/>
            <a:ext cx="2743200" cy="2133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59880" y="1866960"/>
            <a:ext cx="407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alogenová žárovka – viditelné spekt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90920" y="400536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uteriová lamp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xenon"/>
          <p:cNvPicPr/>
          <p:nvPr/>
        </p:nvPicPr>
        <p:blipFill>
          <a:blip r:embed="rId2"/>
          <a:stretch/>
        </p:blipFill>
        <p:spPr>
          <a:xfrm>
            <a:off x="684360" y="3933720"/>
            <a:ext cx="2876400" cy="216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60240" y="611496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 – UV + viditelné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Zástupný symbol pro obsah 3" descr="325px-Franck-Condon-diagram.png"/>
          <p:cNvPicPr/>
          <p:nvPr/>
        </p:nvPicPr>
        <p:blipFill>
          <a:blip r:embed="rId1"/>
          <a:stretch/>
        </p:blipFill>
        <p:spPr>
          <a:xfrm>
            <a:off x="3924360" y="1557360"/>
            <a:ext cx="3714840" cy="458316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4"/>
          <p:cNvSpPr/>
          <p:nvPr/>
        </p:nvSpPr>
        <p:spPr>
          <a:xfrm>
            <a:off x="250920" y="134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ké množ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ých přechod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anck-Condonů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euterium"/>
          <p:cNvPicPr/>
          <p:nvPr/>
        </p:nvPicPr>
        <p:blipFill>
          <a:blip r:embed="rId1"/>
          <a:stretch/>
        </p:blipFill>
        <p:spPr>
          <a:xfrm>
            <a:off x="900000" y="1268280"/>
            <a:ext cx="6769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ercury"/>
          <p:cNvPicPr/>
          <p:nvPr/>
        </p:nvPicPr>
        <p:blipFill>
          <a:blip r:embed="rId1"/>
          <a:stretch/>
        </p:blipFill>
        <p:spPr>
          <a:xfrm>
            <a:off x="2340000" y="1413000"/>
            <a:ext cx="3986280" cy="475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564000" y="62064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xenon lamp"/>
          <p:cNvPicPr/>
          <p:nvPr/>
        </p:nvPicPr>
        <p:blipFill>
          <a:blip r:embed="rId1"/>
          <a:stretch/>
        </p:blipFill>
        <p:spPr>
          <a:xfrm>
            <a:off x="1547640" y="1484280"/>
            <a:ext cx="5811840" cy="4348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67480" y="7142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ktrofotometrické kyv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kyvplast"/>
          <p:cNvPicPr/>
          <p:nvPr/>
        </p:nvPicPr>
        <p:blipFill>
          <a:blip r:embed="rId1"/>
          <a:stretch/>
        </p:blipFill>
        <p:spPr>
          <a:xfrm>
            <a:off x="2411280" y="3573360"/>
            <a:ext cx="2230560" cy="249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kyvtransp"/>
          <p:cNvPicPr/>
          <p:nvPr/>
        </p:nvPicPr>
        <p:blipFill>
          <a:blip r:embed="rId2"/>
          <a:stretch/>
        </p:blipFill>
        <p:spPr>
          <a:xfrm>
            <a:off x="5342040" y="1674720"/>
            <a:ext cx="2651040" cy="203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emikyv"/>
          <p:cNvPicPr/>
          <p:nvPr/>
        </p:nvPicPr>
        <p:blipFill>
          <a:blip r:embed="rId3"/>
          <a:stretch/>
        </p:blipFill>
        <p:spPr>
          <a:xfrm>
            <a:off x="1476360" y="3429000"/>
            <a:ext cx="371520" cy="116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kyv1"/>
          <p:cNvPicPr/>
          <p:nvPr/>
        </p:nvPicPr>
        <p:blipFill>
          <a:blip r:embed="rId4"/>
          <a:stretch/>
        </p:blipFill>
        <p:spPr>
          <a:xfrm>
            <a:off x="2050920" y="1844640"/>
            <a:ext cx="36216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yv"/>
          <p:cNvPicPr/>
          <p:nvPr/>
        </p:nvPicPr>
        <p:blipFill>
          <a:blip r:embed="rId5"/>
          <a:stretch/>
        </p:blipFill>
        <p:spPr>
          <a:xfrm>
            <a:off x="1403280" y="1844640"/>
            <a:ext cx="399960" cy="118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plastkyv"/>
          <p:cNvPicPr/>
          <p:nvPr/>
        </p:nvPicPr>
        <p:blipFill>
          <a:blip r:embed="rId6"/>
          <a:stretch/>
        </p:blipFill>
        <p:spPr>
          <a:xfrm>
            <a:off x="5176800" y="3938760"/>
            <a:ext cx="297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ouště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ozpouštědla"/>
          <p:cNvPicPr/>
          <p:nvPr/>
        </p:nvPicPr>
        <p:blipFill>
          <a:blip r:embed="rId1"/>
          <a:stretch/>
        </p:blipFill>
        <p:spPr>
          <a:xfrm>
            <a:off x="1393920" y="1600200"/>
            <a:ext cx="63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te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fotonasobic"/>
          <p:cNvPicPr/>
          <p:nvPr/>
        </p:nvPicPr>
        <p:blipFill>
          <a:blip r:embed="rId1"/>
          <a:stretch/>
        </p:blipFill>
        <p:spPr>
          <a:xfrm>
            <a:off x="1763640" y="2637000"/>
            <a:ext cx="5496120" cy="283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033640" y="1290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tonásobi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fotokatoda"/>
          <p:cNvPicPr/>
          <p:nvPr/>
        </p:nvPicPr>
        <p:blipFill>
          <a:blip r:embed="rId1"/>
          <a:stretch/>
        </p:blipFill>
        <p:spPr>
          <a:xfrm>
            <a:off x="826920" y="907920"/>
            <a:ext cx="7371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tometr s diodovým po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mDiodarray"/>
          <p:cNvPicPr/>
          <p:nvPr/>
        </p:nvPicPr>
        <p:blipFill>
          <a:blip r:embed="rId1"/>
          <a:stretch/>
        </p:blipFill>
        <p:spPr>
          <a:xfrm>
            <a:off x="457200" y="2719440"/>
            <a:ext cx="4475160" cy="25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diodarray2"/>
          <p:cNvPicPr/>
          <p:nvPr/>
        </p:nvPicPr>
        <p:blipFill>
          <a:blip r:embed="rId2"/>
          <a:stretch/>
        </p:blipFill>
        <p:spPr>
          <a:xfrm>
            <a:off x="5148360" y="2205000"/>
            <a:ext cx="3379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ozlišení1"/>
          <p:cNvPicPr/>
          <p:nvPr/>
        </p:nvPicPr>
        <p:blipFill>
          <a:blip r:embed="rId1"/>
          <a:stretch/>
        </p:blipFill>
        <p:spPr>
          <a:xfrm>
            <a:off x="1403280" y="1844640"/>
            <a:ext cx="5834160" cy="25891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00280" y="4962600"/>
            <a:ext cx="67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rozlišení – schopnost rozlišit dvě těsně přilehlé vlnové dél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98840" y="143352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šířka přístroje – šířka pásu světla opouštějícího monochromá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á v polovině výšky píku (SBW), závisí na šířce štěrbin a disperzi mřížk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vyk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01360" y="2514600"/>
            <a:ext cx="75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šířka pásu vzorku - šířka absorpčního pásu vzorku měřená v polovin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šky píku (NBW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rozlišení2"/>
          <p:cNvPicPr/>
          <p:nvPr/>
        </p:nvPicPr>
        <p:blipFill>
          <a:blip r:embed="rId1"/>
          <a:stretch/>
        </p:blipFill>
        <p:spPr>
          <a:xfrm>
            <a:off x="2411280" y="3500280"/>
            <a:ext cx="3673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délník 1"/>
          <p:cNvSpPr/>
          <p:nvPr/>
        </p:nvSpPr>
        <p:spPr>
          <a:xfrm>
            <a:off x="909720" y="1890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blonskiho 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pěvky vibrací a rotací v molek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vibrace"/>
          <p:cNvPicPr/>
          <p:nvPr/>
        </p:nvPicPr>
        <p:blipFill>
          <a:blip r:embed="rId1"/>
          <a:stretch/>
        </p:blipFill>
        <p:spPr>
          <a:xfrm>
            <a:off x="909720" y="1197000"/>
            <a:ext cx="6624720" cy="32814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3"/>
          <p:cNvSpPr/>
          <p:nvPr/>
        </p:nvSpPr>
        <p:spPr>
          <a:xfrm>
            <a:off x="1403280" y="4781520"/>
            <a:ext cx="4572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pás"/>
          <p:cNvPicPr/>
          <p:nvPr/>
        </p:nvPicPr>
        <p:blipFill>
          <a:blip r:embed="rId1"/>
          <a:stretch/>
        </p:blipFill>
        <p:spPr>
          <a:xfrm>
            <a:off x="2411280" y="1484280"/>
            <a:ext cx="4392720" cy="2989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088280" y="47466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ost měření závisí na poměru SBW/NBW = 0.1 a menší (přesnost 99.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BW 2 nm postačuje pro NBW 2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a m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rror"/>
          <p:cNvPicPr/>
          <p:nvPr/>
        </p:nvPicPr>
        <p:blipFill>
          <a:blip r:embed="rId1"/>
          <a:stretch/>
        </p:blipFill>
        <p:spPr>
          <a:xfrm>
            <a:off x="1979640" y="1557360"/>
            <a:ext cx="496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biuret2"/>
          <p:cNvPicPr/>
          <p:nvPr/>
        </p:nvPicPr>
        <p:blipFill>
          <a:blip r:embed="rId1"/>
          <a:stretch/>
        </p:blipFill>
        <p:spPr>
          <a:xfrm>
            <a:off x="468360" y="1844640"/>
            <a:ext cx="4105080" cy="1886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859280" y="177336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uretová met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0 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některé aminokyseli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witerio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998960" y="3933720"/>
            <a:ext cx="39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owryho metoda (595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louhavost (2kro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sulfát amonný., glyc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H reagenty, ED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bicinchon1"/>
          <p:cNvPicPr/>
          <p:nvPr/>
        </p:nvPicPr>
        <p:blipFill>
          <a:blip r:embed="rId1"/>
          <a:stretch/>
        </p:blipFill>
        <p:spPr>
          <a:xfrm>
            <a:off x="1476360" y="1844640"/>
            <a:ext cx="5400720" cy="1606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308960" y="4170240"/>
            <a:ext cx="367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cinchonin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cná metoda – 2 kro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EDTA, SH reage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289280" y="3162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6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oomasai1"/>
          <p:cNvPicPr/>
          <p:nvPr/>
        </p:nvPicPr>
        <p:blipFill>
          <a:blip r:embed="rId1"/>
          <a:stretch/>
        </p:blipFill>
        <p:spPr>
          <a:xfrm>
            <a:off x="1979640" y="2060640"/>
            <a:ext cx="4857840" cy="1542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380960" y="4241880"/>
            <a:ext cx="365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podle Brafordov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á metoda (náročná na pečliv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Triton X-100, S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ilně bazické puf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803280" y="23493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un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e 465 na 59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381680" y="1649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 v UV oblasti (Tyr, Try)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 5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mi rychlá metoda, nedestruktiv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NK, zák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5600" y="3809880"/>
            <a:ext cx="3267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1,55.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0,76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703120" y="35179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l/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SA = 0,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g = 1,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lbumin = 0,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41964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738800" y="395460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05928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738440" y="3954600"/>
            <a:ext cx="51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nepolárním prostřed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5292720" y="242100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paprskový fotometr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ouble-b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doubleBeam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4140360" y="249228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délník 1"/>
          <p:cNvSpPr/>
          <p:nvPr/>
        </p:nvSpPr>
        <p:spPr>
          <a:xfrm>
            <a:off x="2499120" y="54936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ásová spektra molek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5"/>
          <p:cNvSpPr/>
          <p:nvPr/>
        </p:nvSpPr>
        <p:spPr>
          <a:xfrm rot="10800000">
            <a:off x="4140000" y="335772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995640" y="1447920"/>
            <a:ext cx="863640" cy="190980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3995640" y="2349360"/>
            <a:ext cx="1008000" cy="100836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3635280" y="148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3635280" y="2708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3995640" y="167652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256200" y="14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416200" y="280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4211640" y="170028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3728880" y="355140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3728880" y="47750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24"/>
          <p:cNvSpPr/>
          <p:nvPr/>
        </p:nvSpPr>
        <p:spPr>
          <a:xfrm rot="10800000">
            <a:off x="3995280" y="4797360"/>
            <a:ext cx="360360" cy="40968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3133800" y="350028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5510160" y="486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27"/>
          <p:cNvSpPr/>
          <p:nvPr/>
        </p:nvSpPr>
        <p:spPr>
          <a:xfrm>
            <a:off x="4356000" y="4292640"/>
            <a:ext cx="360360" cy="50652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3995640" y="2781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35600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211640" y="177336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4"/>
          <p:cNvSpPr/>
          <p:nvPr/>
        </p:nvSpPr>
        <p:spPr>
          <a:xfrm flipV="1">
            <a:off x="4500720" y="1773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471636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3255840" y="641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3976560" y="1362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4357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4068720" y="3645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diference"/>
          <p:cNvPicPr/>
          <p:nvPr/>
        </p:nvPicPr>
        <p:blipFill>
          <a:blip r:embed="rId1"/>
          <a:stretch/>
        </p:blipFill>
        <p:spPr>
          <a:xfrm>
            <a:off x="468360" y="1700280"/>
            <a:ext cx="5327640" cy="4429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64920" y="1938240"/>
            <a:ext cx="8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Ty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- P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38036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7380360" y="2492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8030520" y="206064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M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64200" y="3594240"/>
            <a:ext cx="24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Absorp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ematické ope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rivace spe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překry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826920" y="2276640"/>
          <a:ext cx="1019520" cy="70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101952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7" descr="prechody1"/>
          <p:cNvPicPr/>
          <p:nvPr/>
        </p:nvPicPr>
        <p:blipFill>
          <a:blip r:embed="rId3"/>
          <a:stretch/>
        </p:blipFill>
        <p:spPr>
          <a:xfrm>
            <a:off x="2843280" y="2060640"/>
            <a:ext cx="554364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971640" y="2492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5780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33380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bdélník 1"/>
          <p:cNvSpPr/>
          <p:nvPr/>
        </p:nvSpPr>
        <p:spPr>
          <a:xfrm>
            <a:off x="987480" y="544500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ce pásu –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 = hc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ergie přech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79480" y="172080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klad C-H: vysoké energie ,  12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187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jobvyklejší případ 200 – 700 nm  Mol.abs. koef.= 10 – 100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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. abs. Koef = 1000-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73360" y="25812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éně časté, energie 150 – 25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187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61128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11280" y="44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63480" y="53229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arge transfer přechody – anorganické komplexy, interakce mezi elektron. Donorem a akceptorem – vysoký Mol.abs. koe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6" descr="prechody1"/>
          <p:cNvPicPr/>
          <p:nvPr/>
        </p:nvPicPr>
        <p:blipFill>
          <a:blip r:embed="rId1"/>
          <a:stretch/>
        </p:blipFill>
        <p:spPr>
          <a:xfrm>
            <a:off x="5796000" y="1700280"/>
            <a:ext cx="305424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bdélník 2"/>
          <p:cNvSpPr/>
          <p:nvPr/>
        </p:nvSpPr>
        <p:spPr>
          <a:xfrm>
            <a:off x="52056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jugované systémy – štěpení hla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MO"/>
          <p:cNvPicPr/>
          <p:nvPr/>
        </p:nvPicPr>
        <p:blipFill>
          <a:blip r:embed="rId1"/>
          <a:stretch/>
        </p:blipFill>
        <p:spPr>
          <a:xfrm>
            <a:off x="2001960" y="1268280"/>
            <a:ext cx="51433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aussovský tvar absorbční křiv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tnost přechodů – velikost absorbce ≈ pravděpod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-23760" y="3016080"/>
            <a:ext cx="277956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"/>
          <p:cNvPicPr/>
          <p:nvPr/>
        </p:nvPicPr>
        <p:blipFill>
          <a:blip r:embed="rId2"/>
          <a:stretch/>
        </p:blipFill>
        <p:spPr>
          <a:xfrm>
            <a:off x="3348000" y="2979720"/>
            <a:ext cx="275292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5" descr=""/>
          <p:cNvPicPr/>
          <p:nvPr/>
        </p:nvPicPr>
        <p:blipFill>
          <a:blip r:embed="rId3"/>
          <a:stretch/>
        </p:blipFill>
        <p:spPr>
          <a:xfrm>
            <a:off x="6227640" y="301608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chemicky významné chromof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hromofory1"/>
          <p:cNvPicPr/>
          <p:nvPr/>
        </p:nvPicPr>
        <p:blipFill>
          <a:blip r:embed="rId1"/>
          <a:stretch/>
        </p:blipFill>
        <p:spPr>
          <a:xfrm>
            <a:off x="2411280" y="816120"/>
            <a:ext cx="417996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08:23Z</dcterms:created>
  <dc:creator>Mikeš</dc:creator>
  <dc:description/>
  <dc:language>en-US</dc:language>
  <cp:lastModifiedBy>Zbořil</cp:lastModifiedBy>
  <dcterms:modified xsi:type="dcterms:W3CDTF">2011-03-02T09:25:08Z</dcterms:modified>
  <cp:revision>30</cp:revision>
  <dc:subject/>
  <dc:title>Elektronová absorpční spektra</dc:title>
</cp:coreProperties>
</file>