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2.gif" ContentType="image/gif"/>
  <Override PartName="/ppt/media/image5.png" ContentType="image/png"/>
  <Override PartName="/ppt/media/image9.png" ContentType="image/png"/>
  <Override PartName="/ppt/media/image13.png" ContentType="image/png"/>
  <Override PartName="/ppt/media/image19.jpeg" ContentType="image/jpe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7.gif" ContentType="image/gif"/>
  <Override PartName="/ppt/media/image15.png" ContentType="image/png"/>
  <Override PartName="/ppt/media/image6.png" ContentType="image/png"/>
  <Override PartName="/ppt/media/image3.png" ContentType="image/png"/>
  <Override PartName="/ppt/media/image4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CC2-63F2-48D1-9742-86FC0196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DD83-4C3E-46A7-83EB-575A1BBC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A56D-DAFC-449C-9ACA-D0720781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3955-6C23-4A61-AA3D-BEEC9CEC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58C4-F500-449E-886B-1D1D2489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3461-EC8E-44AE-B8E6-A26FCD2E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F13-3A22-427C-8763-23814378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76F-895A-4959-8646-333BA221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68E-5F71-4694-889C-3F8F37C0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C78-7926-4A7D-8C67-8A2ABB6D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16FD-D123-4C90-986D-835FCB7E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3B75-6E83-42BB-82DF-DC730F48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ED5F-F854-4356-8017-A8E73C15AC5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spersní met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ředí mění rychlost šíření elektromagnetického zá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de prakticky o zpoma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ředí izotropní – refraktome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ředí anizotropní – chirální metody (vč. absorpční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cd"/>
          <p:cNvPicPr/>
          <p:nvPr/>
        </p:nvPicPr>
        <p:blipFill>
          <a:blip r:embed="rId1"/>
          <a:stretch/>
        </p:blipFill>
        <p:spPr>
          <a:xfrm>
            <a:off x="3214800" y="2043000"/>
            <a:ext cx="27144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5629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Cirkulární dichroism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25600" y="1413000"/>
            <a:ext cx="7508880" cy="13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irkulárně polarizované svět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ůzná absorbance pro levou a pravou složku (chirální chromof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1" descr="polar-CD"/>
          <p:cNvPicPr/>
          <p:nvPr/>
        </p:nvPicPr>
        <p:blipFill>
          <a:blip r:embed="rId1"/>
          <a:stretch/>
        </p:blipFill>
        <p:spPr>
          <a:xfrm>
            <a:off x="1403280" y="3141720"/>
            <a:ext cx="61041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irkulární dichrois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70880" y="155736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strojové vybavení -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schema"/>
          <p:cNvPicPr/>
          <p:nvPr/>
        </p:nvPicPr>
        <p:blipFill>
          <a:blip r:embed="rId1"/>
          <a:stretch/>
        </p:blipFill>
        <p:spPr>
          <a:xfrm>
            <a:off x="1301760" y="1893960"/>
            <a:ext cx="6540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spektrometr"/>
          <p:cNvPicPr/>
          <p:nvPr/>
        </p:nvPicPr>
        <p:blipFill>
          <a:blip r:embed="rId1"/>
          <a:stretch/>
        </p:blipFill>
        <p:spPr>
          <a:xfrm>
            <a:off x="1938240" y="2033640"/>
            <a:ext cx="5267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78720" y="14320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ipti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787120" y="1989000"/>
            <a:ext cx="29631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3298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= 3298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ektrum CD: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f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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3059280" y="3141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3059280" y="4797360"/>
            <a:ext cx="26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9"/>
          <p:cNvSpPr/>
          <p:nvPr/>
        </p:nvSpPr>
        <p:spPr>
          <a:xfrm>
            <a:off x="3348000" y="3392640"/>
            <a:ext cx="1944720" cy="1428480"/>
          </a:xfrm>
          <a:custGeom>
            <a:avLst/>
            <a:gdLst/>
            <a:ahLst/>
            <a:rect l="l" t="t" r="r" b="b"/>
            <a:pathLst>
              <a:path w="1225" h="900">
                <a:moveTo>
                  <a:pt x="0" y="885"/>
                </a:moveTo>
                <a:cubicBezTo>
                  <a:pt x="121" y="884"/>
                  <a:pt x="242" y="884"/>
                  <a:pt x="317" y="839"/>
                </a:cubicBezTo>
                <a:cubicBezTo>
                  <a:pt x="392" y="794"/>
                  <a:pt x="400" y="741"/>
                  <a:pt x="453" y="613"/>
                </a:cubicBezTo>
                <a:cubicBezTo>
                  <a:pt x="506" y="485"/>
                  <a:pt x="582" y="136"/>
                  <a:pt x="635" y="68"/>
                </a:cubicBezTo>
                <a:cubicBezTo>
                  <a:pt x="688" y="0"/>
                  <a:pt x="711" y="83"/>
                  <a:pt x="771" y="204"/>
                </a:cubicBezTo>
                <a:cubicBezTo>
                  <a:pt x="831" y="325"/>
                  <a:pt x="922" y="688"/>
                  <a:pt x="998" y="794"/>
                </a:cubicBezTo>
                <a:cubicBezTo>
                  <a:pt x="1074" y="900"/>
                  <a:pt x="1187" y="832"/>
                  <a:pt x="1225" y="8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058000" y="488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2557440" y="3213000"/>
            <a:ext cx="4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2"/>
          <p:cNvSpPr/>
          <p:nvPr/>
        </p:nvSpPr>
        <p:spPr>
          <a:xfrm rot="11113200">
            <a:off x="3492360" y="4796640"/>
            <a:ext cx="1873440" cy="1446120"/>
          </a:xfrm>
          <a:custGeom>
            <a:avLst/>
            <a:gdLst/>
            <a:ahLst/>
            <a:rect l="l" t="t" r="r" b="b"/>
            <a:pathLst>
              <a:path w="1225" h="900">
                <a:moveTo>
                  <a:pt x="0" y="885"/>
                </a:moveTo>
                <a:cubicBezTo>
                  <a:pt x="121" y="884"/>
                  <a:pt x="242" y="884"/>
                  <a:pt x="317" y="839"/>
                </a:cubicBezTo>
                <a:cubicBezTo>
                  <a:pt x="392" y="794"/>
                  <a:pt x="400" y="741"/>
                  <a:pt x="453" y="613"/>
                </a:cubicBezTo>
                <a:cubicBezTo>
                  <a:pt x="506" y="485"/>
                  <a:pt x="582" y="136"/>
                  <a:pt x="635" y="68"/>
                </a:cubicBezTo>
                <a:cubicBezTo>
                  <a:pt x="688" y="0"/>
                  <a:pt x="711" y="83"/>
                  <a:pt x="771" y="204"/>
                </a:cubicBezTo>
                <a:cubicBezTo>
                  <a:pt x="831" y="325"/>
                  <a:pt x="922" y="688"/>
                  <a:pt x="998" y="794"/>
                </a:cubicBezTo>
                <a:cubicBezTo>
                  <a:pt x="1074" y="900"/>
                  <a:pt x="1187" y="832"/>
                  <a:pt x="1225" y="83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>
            <a:off x="4427640" y="47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421380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D spektra – Cottonův efe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8295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332000" y="1484280"/>
            <a:ext cx="570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D spektra proteinů – UV o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eptidová vazb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0 – 230 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azebné elektrony. karbonylu, 220 n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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ny karbonylu,190 nm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nzita a energie přechodů závisí na úhl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oční řetězce aminokysel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he, Tyr, Trp, disulfidy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30 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mínky: koncentrace 0.2 – 0.5 mg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peptvazba"/>
          <p:cNvPicPr/>
          <p:nvPr/>
        </p:nvPicPr>
        <p:blipFill>
          <a:blip r:embed="rId1"/>
          <a:stretch/>
        </p:blipFill>
        <p:spPr>
          <a:xfrm>
            <a:off x="7308720" y="3933720"/>
            <a:ext cx="132408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spektra"/>
          <p:cNvPicPr/>
          <p:nvPr/>
        </p:nvPicPr>
        <p:blipFill>
          <a:blip r:embed="rId1"/>
          <a:stretch/>
        </p:blipFill>
        <p:spPr>
          <a:xfrm>
            <a:off x="1042920" y="2133720"/>
            <a:ext cx="2743200" cy="4000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prototypyCD"/>
          <p:cNvPicPr/>
          <p:nvPr/>
        </p:nvPicPr>
        <p:blipFill>
          <a:blip r:embed="rId2"/>
          <a:stretch/>
        </p:blipFill>
        <p:spPr>
          <a:xfrm>
            <a:off x="4648320" y="2455920"/>
            <a:ext cx="4038480" cy="2814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474480" y="1265400"/>
            <a:ext cx="61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D spektr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helixu.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skl.listu, smyčky, náhodného klub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struktury"/>
          <p:cNvPicPr/>
          <p:nvPr/>
        </p:nvPicPr>
        <p:blipFill>
          <a:blip r:embed="rId1"/>
          <a:stretch/>
        </p:blipFill>
        <p:spPr>
          <a:xfrm>
            <a:off x="395280" y="1916280"/>
            <a:ext cx="3816360" cy="1304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596160" y="136044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a reálných protei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743760" y="3860640"/>
            <a:ext cx="27684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 triosofosfátisomeras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:0.52, S:0.14, T:0.11, O:0.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: lysozy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:0.36, S:0.09, T:0.32, O: 0.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: myoglo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:0.78, S:0, T:0.12, O:0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: chymotryps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:0.10, S:0.34, T:0.20, O:0,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CDspektra"/>
          <p:cNvPicPr/>
          <p:nvPr/>
        </p:nvPicPr>
        <p:blipFill>
          <a:blip r:embed="rId2"/>
          <a:stretch/>
        </p:blipFill>
        <p:spPr>
          <a:xfrm>
            <a:off x="4500720" y="1989000"/>
            <a:ext cx="40320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sperzní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pole"/>
          <p:cNvPicPr/>
          <p:nvPr/>
        </p:nvPicPr>
        <p:blipFill>
          <a:blip r:embed="rId1"/>
          <a:stretch/>
        </p:blipFill>
        <p:spPr>
          <a:xfrm>
            <a:off x="1403280" y="2133720"/>
            <a:ext cx="6588360" cy="2604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330920" y="5105520"/>
            <a:ext cx="356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is fotonu – šipkou směr ší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- vektor elektrického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 – vektor magnetického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1280" y="1197000"/>
            <a:ext cx="7003800" cy="54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ěření CD spekter protei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hodné klub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y-L-lysin při pH 7.0, (Pro-Lys-Leu-Lys-Leu)n, slabá iontová sí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h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y-L-lysin při pH 10.2, nebo myoglo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skl.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y-L-lysin při pH 11.2 , zahřátí na 50°C, ochlazení, nebo (Lys-Leu)n v 0.1 M NaF při pH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um neznámého prote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 = f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 + f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 + f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Arial"/>
              </a:rPr>
              <a:t>RC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Arial"/>
              </a:rPr>
              <a:t>RC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R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jsou hodnoty získané z referentních bílkovina f frak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sepktrum rekombinantu"/>
          <p:cNvPicPr/>
          <p:nvPr/>
        </p:nvPicPr>
        <p:blipFill>
          <a:blip r:embed="rId1"/>
          <a:stretch/>
        </p:blipFill>
        <p:spPr>
          <a:xfrm>
            <a:off x="0" y="2060640"/>
            <a:ext cx="5162400" cy="40482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830880" y="134136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ití metody: CD spektrum mutantního prote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gdhcd"/>
          <p:cNvPicPr/>
          <p:nvPr/>
        </p:nvPicPr>
        <p:blipFill>
          <a:blip r:embed="rId1"/>
          <a:stretch/>
        </p:blipFill>
        <p:spPr>
          <a:xfrm rot="21478800">
            <a:off x="790200" y="2151000"/>
            <a:ext cx="3370320" cy="34243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830880" y="134136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ití metody: CD spektrum mutantního prote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gdhtab"/>
          <p:cNvPicPr/>
          <p:nvPr/>
        </p:nvPicPr>
        <p:blipFill>
          <a:blip r:embed="rId2"/>
          <a:stretch/>
        </p:blipFill>
        <p:spPr>
          <a:xfrm rot="21451800">
            <a:off x="4643280" y="2205000"/>
            <a:ext cx="3708720" cy="2135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3"/>
          <p:cNvSpPr/>
          <p:nvPr/>
        </p:nvSpPr>
        <p:spPr>
          <a:xfrm>
            <a:off x="4435560" y="4724280"/>
            <a:ext cx="417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sp165 náhrada za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pektra velmi podobná – při mutaci nedochází 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dstatné změně struktury prote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sperzní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1403280" y="3284640"/>
            <a:ext cx="2087640" cy="18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 flipH="1" flipV="1">
            <a:off x="1690560" y="357300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 flipV="1">
            <a:off x="2411280" y="357300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411280" y="2924280"/>
            <a:ext cx="0" cy="129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191400" y="3089160"/>
            <a:ext cx="42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121760" y="314172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rc 11"/>
          <p:cNvSpPr/>
          <p:nvPr/>
        </p:nvSpPr>
        <p:spPr>
          <a:xfrm>
            <a:off x="3130560" y="2852640"/>
            <a:ext cx="719280" cy="430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12"/>
          <p:cNvSpPr/>
          <p:nvPr/>
        </p:nvSpPr>
        <p:spPr>
          <a:xfrm flipH="1">
            <a:off x="754200" y="2852640"/>
            <a:ext cx="720720" cy="503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960560" y="244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polaranim"/>
          <p:cNvPicPr/>
          <p:nvPr/>
        </p:nvPicPr>
        <p:blipFill>
          <a:blip r:embed="rId1"/>
          <a:stretch/>
        </p:blipFill>
        <p:spPr>
          <a:xfrm>
            <a:off x="4932360" y="2421000"/>
            <a:ext cx="2714760" cy="3638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6"/>
          <p:cNvSpPr/>
          <p:nvPr/>
        </p:nvSpPr>
        <p:spPr>
          <a:xfrm>
            <a:off x="837720" y="1557360"/>
            <a:ext cx="481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ledný vektor jako součet L a R slož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7"/>
          <p:cNvSpPr/>
          <p:nvPr/>
        </p:nvSpPr>
        <p:spPr>
          <a:xfrm flipV="1">
            <a:off x="1763640" y="2997000"/>
            <a:ext cx="647640" cy="502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 flipH="1" flipV="1">
            <a:off x="2411280" y="2923920"/>
            <a:ext cx="720720" cy="64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kládání vektorů L a 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067280" y="177336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Obdélník 3"/>
          <p:cNvSpPr/>
          <p:nvPr/>
        </p:nvSpPr>
        <p:spPr>
          <a:xfrm>
            <a:off x="499320" y="5229360"/>
            <a:ext cx="3076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(n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n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e L pomalej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"/>
          <p:cNvSpPr/>
          <p:nvPr/>
        </p:nvSpPr>
        <p:spPr>
          <a:xfrm>
            <a:off x="559080" y="1989000"/>
            <a:ext cx="300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dochází k absorb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vent. je stejná pro L a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6"/>
          <p:cNvSpPr/>
          <p:nvPr/>
        </p:nvSpPr>
        <p:spPr>
          <a:xfrm>
            <a:off x="447480" y="3357720"/>
            <a:ext cx="379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ejná nebo rozdílná rych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L a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rostředí izo- nebo anizotrop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iroptické metody - disperz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79280" y="2133720"/>
            <a:ext cx="383220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ticky aktivní lát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ílný refraktivní index (n) pro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ždá ze složek se pohybuje různou rychl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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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(n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n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/>
          <p:cNvSpPr/>
          <p:nvPr/>
        </p:nvSpPr>
        <p:spPr>
          <a:xfrm>
            <a:off x="5219640" y="3357720"/>
            <a:ext cx="2087640" cy="18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 flipH="1" flipV="1">
            <a:off x="5796000" y="3428640"/>
            <a:ext cx="4334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6227640" y="4005360"/>
            <a:ext cx="1008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 flipV="1">
            <a:off x="6227640" y="2997000"/>
            <a:ext cx="505080" cy="1293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7007760" y="3162240"/>
            <a:ext cx="42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938120" y="32148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rc 12"/>
          <p:cNvSpPr/>
          <p:nvPr/>
        </p:nvSpPr>
        <p:spPr>
          <a:xfrm>
            <a:off x="6946920" y="2925720"/>
            <a:ext cx="719280" cy="430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rc 13"/>
          <p:cNvSpPr/>
          <p:nvPr/>
        </p:nvSpPr>
        <p:spPr>
          <a:xfrm flipH="1">
            <a:off x="4570560" y="2925720"/>
            <a:ext cx="720720" cy="503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57769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6156360" y="1916280"/>
            <a:ext cx="71280" cy="2376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rc 16"/>
          <p:cNvSpPr/>
          <p:nvPr/>
        </p:nvSpPr>
        <p:spPr>
          <a:xfrm>
            <a:off x="6227640" y="2997360"/>
            <a:ext cx="505080" cy="214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6302160" y="2708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imetr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3672000" y="1268280"/>
            <a:ext cx="5472000" cy="174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673200" y="3102120"/>
            <a:ext cx="7526160" cy="140652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3"/>
          <p:cNvSpPr/>
          <p:nvPr/>
        </p:nvSpPr>
        <p:spPr>
          <a:xfrm>
            <a:off x="250920" y="5477040"/>
            <a:ext cx="837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oduchá měření, koncentrace sacharidů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ílé světlo u jednoduchých, mon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omátory ev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ochromatický zdroj (Na-výbojk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ktrická kompensace – polarisační filtry, křemenné klí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bdélník 4"/>
          <p:cNvSpPr/>
          <p:nvPr/>
        </p:nvSpPr>
        <p:spPr>
          <a:xfrm>
            <a:off x="250920" y="1700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larizace světla = výběr stejně orientovaných foto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Hranoly, 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bdélník 5"/>
          <p:cNvSpPr/>
          <p:nvPr/>
        </p:nvSpPr>
        <p:spPr>
          <a:xfrm>
            <a:off x="287280" y="450864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hema polarimetru: Z-zdroj, L – spojka, kolimátor, P a A – polarizační hranoly (filtry), K – kyveta se vzor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larime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rná otáčivost   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1" lang="cs-CZ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= 1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v %, l v dm, tabeluje se pro různá rozpouštědl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lární otáčivost  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1" lang="cs-CZ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= [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1" lang="cs-CZ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. 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/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ření koncentrace, změn otáčivosti (mutaro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ptická rotační disperze - 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692964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95800" y="136044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a ORD (optická rotační disper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3780000" y="2349360"/>
            <a:ext cx="0" cy="28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1476360" y="378936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9"/>
          <p:cNvSpPr/>
          <p:nvPr/>
        </p:nvSpPr>
        <p:spPr>
          <a:xfrm>
            <a:off x="3851280" y="2637000"/>
            <a:ext cx="2233440" cy="2244600"/>
          </a:xfrm>
          <a:custGeom>
            <a:avLst/>
            <a:gdLst/>
            <a:ahLst/>
            <a:rect l="l" t="t" r="r" b="b"/>
            <a:pathLst>
              <a:path w="1407" h="1414">
                <a:moveTo>
                  <a:pt x="0" y="794"/>
                </a:moveTo>
                <a:cubicBezTo>
                  <a:pt x="53" y="798"/>
                  <a:pt x="106" y="802"/>
                  <a:pt x="136" y="840"/>
                </a:cubicBezTo>
                <a:cubicBezTo>
                  <a:pt x="166" y="878"/>
                  <a:pt x="159" y="938"/>
                  <a:pt x="182" y="1021"/>
                </a:cubicBezTo>
                <a:cubicBezTo>
                  <a:pt x="205" y="1104"/>
                  <a:pt x="228" y="1278"/>
                  <a:pt x="273" y="1338"/>
                </a:cubicBezTo>
                <a:cubicBezTo>
                  <a:pt x="318" y="1398"/>
                  <a:pt x="409" y="1414"/>
                  <a:pt x="454" y="1384"/>
                </a:cubicBezTo>
                <a:cubicBezTo>
                  <a:pt x="499" y="1354"/>
                  <a:pt x="492" y="1361"/>
                  <a:pt x="545" y="1157"/>
                </a:cubicBezTo>
                <a:cubicBezTo>
                  <a:pt x="598" y="953"/>
                  <a:pt x="712" y="318"/>
                  <a:pt x="772" y="159"/>
                </a:cubicBezTo>
                <a:cubicBezTo>
                  <a:pt x="832" y="0"/>
                  <a:pt x="863" y="128"/>
                  <a:pt x="908" y="204"/>
                </a:cubicBezTo>
                <a:cubicBezTo>
                  <a:pt x="953" y="280"/>
                  <a:pt x="984" y="530"/>
                  <a:pt x="1044" y="613"/>
                </a:cubicBezTo>
                <a:cubicBezTo>
                  <a:pt x="1104" y="696"/>
                  <a:pt x="1210" y="688"/>
                  <a:pt x="1270" y="703"/>
                </a:cubicBezTo>
                <a:cubicBezTo>
                  <a:pt x="1330" y="718"/>
                  <a:pt x="1384" y="703"/>
                  <a:pt x="1407" y="70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6065280" y="39322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534400" y="2419200"/>
            <a:ext cx="82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olárn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t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2610360" y="28702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471852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5922000" y="179244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itvní Cottonův ef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12:24:50Z</dcterms:created>
  <dc:creator>Mikeš</dc:creator>
  <dc:description/>
  <dc:language>en-US</dc:language>
  <cp:lastModifiedBy>Zbořil</cp:lastModifiedBy>
  <dcterms:modified xsi:type="dcterms:W3CDTF">2011-03-30T09:34:09Z</dcterms:modified>
  <cp:revision>36</cp:revision>
  <dc:subject/>
  <dc:title>Chiroptické metody</dc:title>
</cp:coreProperties>
</file>