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5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2.png" ContentType="image/png"/>
  <Override PartName="/ppt/media/image7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5.wmf" ContentType="image/x-wmf"/>
  <Override PartName="/ppt/media/image37.wmf" ContentType="image/x-wmf"/>
  <Override PartName="/ppt/media/image30.jpeg" ContentType="image/jpeg"/>
  <Override PartName="/ppt/media/image47.wmf" ContentType="image/x-wmf"/>
  <Override PartName="/ppt/media/image27.png" ContentType="image/png"/>
  <Override PartName="/ppt/media/image48.wmf" ContentType="image/x-wmf"/>
  <Override PartName="/ppt/media/image5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3.wmf" ContentType="image/x-wmf"/>
  <Override PartName="/ppt/media/image13.png" ContentType="image/png"/>
  <Override PartName="/ppt/media/image52.wmf" ContentType="image/x-wmf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8B69-84E4-4EEC-9F0C-06105AECE05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9A09-2694-4F85-A225-0877A343AD0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44E-0182-4638-842E-18306B18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194-5AED-49D7-87E3-415D8C41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3DF-4AC0-4058-8447-83B5D615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5D2-537B-4806-AB2E-1464FF3A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EDF7-0547-47A1-B523-EF837554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22D7-134A-451E-B725-3FE3A7BC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3124-F20C-47A2-9637-3D6D05C1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CF7E-C5AA-4FAE-9A9F-CDE0F6A9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0A38-C373-42EA-9881-7A148CD4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90F8-12D6-4464-B7D9-4EC4BF2C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D0B8-C155-469E-AB89-AB162ACB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D9B-F88A-40D6-B8BA-FB86709B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808A-5078-4DEB-AD68-24E3376F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2524-55E4-49ED-B14A-EDCF68B1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FA19-CE16-4C18-9EA7-3DA4A43A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DB4A-8CAA-4F23-9B1E-1478A874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A7DD-7DF8-400F-8882-E5D455B4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E32-48A1-4948-805C-19D9F217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D80-4B6E-453C-8535-C8B6DE6E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7E1-83D4-4FA0-B409-4FCAD4DF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0E6-E23F-4884-88AB-7C1202EE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38D-57C9-4A84-8A49-5E64DFF6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FC2-5541-4665-B10F-C4439529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E36-C0A6-4BB8-9CEB-BF53012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BB7A-E3A3-4DBC-8942-8826189433D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E4A8-334A-4717-8C33-179EDD634DE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71640" y="95220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http://www.spaceflight.esa.int/impress/text/education/Images/Catalysis/Image_001.png"/>
          <p:cNvPicPr/>
          <p:nvPr/>
        </p:nvPicPr>
        <p:blipFill>
          <a:blip r:embed="rId1"/>
          <a:stretch/>
        </p:blipFill>
        <p:spPr>
          <a:xfrm>
            <a:off x="1979640" y="3068640"/>
            <a:ext cx="54720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emické podstaty katalyzáto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374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250920" y="254160"/>
            <a:ext cx="87850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lasifikace v případech, kdy je katalyzátorem reaktant nebo produk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47040" cy="1511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324000" y="3432240"/>
            <a:ext cx="8353440" cy="104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444600" y="4653000"/>
            <a:ext cx="81057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uto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http://upload.wikimedia.org/wikipedia/commons/thumb/5/55/Sigmoid_curve_for_an_autocatalytical_reaction.jpg/256px-Sigmoid_curve_for_an_autocatalytical_reaction.jpg"/>
          <p:cNvPicPr/>
          <p:nvPr/>
        </p:nvPicPr>
        <p:blipFill>
          <a:blip r:embed="rId1"/>
          <a:stretch/>
        </p:blipFill>
        <p:spPr>
          <a:xfrm>
            <a:off x="4803840" y="2556000"/>
            <a:ext cx="3267000" cy="201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upload.wikimedia.org/math/b/3/7/b370df265a61aac09d6fc60660f4ce23.png"/>
          <p:cNvPicPr/>
          <p:nvPr/>
        </p:nvPicPr>
        <p:blipFill>
          <a:blip r:embed="rId2"/>
          <a:stretch/>
        </p:blipFill>
        <p:spPr>
          <a:xfrm>
            <a:off x="1403280" y="1679400"/>
            <a:ext cx="1720800" cy="236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http://upload.wikimedia.org/math/a/2/e/a2e8f292ed1676b68823e5e5bdcff432.png"/>
          <p:cNvPicPr/>
          <p:nvPr/>
        </p:nvPicPr>
        <p:blipFill>
          <a:blip r:embed="rId3"/>
          <a:stretch/>
        </p:blipFill>
        <p:spPr>
          <a:xfrm>
            <a:off x="4781520" y="1558800"/>
            <a:ext cx="2133720" cy="533520"/>
          </a:xfrm>
          <a:prstGeom prst="rect">
            <a:avLst/>
          </a:prstGeom>
          <a:ln w="0">
            <a:noFill/>
          </a:ln>
        </p:spPr>
      </p:pic>
      <p:sp>
        <p:nvSpPr>
          <p:cNvPr id="198" name="TextovéPole 2"/>
          <p:cNvSpPr/>
          <p:nvPr/>
        </p:nvSpPr>
        <p:spPr>
          <a:xfrm>
            <a:off x="6213600" y="3564000"/>
            <a:ext cx="252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igmoidální průběh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9" name="Picture 8" descr="http://www.chemguide.co.uk/physical/catalysis/autocatgr2.gif"/>
          <p:cNvPicPr/>
          <p:nvPr/>
        </p:nvPicPr>
        <p:blipFill>
          <a:blip r:embed="rId4"/>
          <a:stretch/>
        </p:blipFill>
        <p:spPr>
          <a:xfrm>
            <a:off x="611280" y="2556000"/>
            <a:ext cx="3143160" cy="22096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673560" y="319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8"/>
          <p:cNvSpPr/>
          <p:nvPr/>
        </p:nvSpPr>
        <p:spPr>
          <a:xfrm>
            <a:off x="510948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05720" cy="380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179280" y="5084640"/>
            <a:ext cx="8839440" cy="1401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9360" y="115560"/>
            <a:ext cx="7772400" cy="708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podle rozlišení při výběru substrátu a cílového produktu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8852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ubstrátová specificita a selektivita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reaguje pouze určitá skupina, nebo dokonce jen jediný reaktant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6" name="Picture 2" descr="http://nd01.jxs.cz/194/383/b492d566a7_37034313_o2.jpg"/>
          <p:cNvPicPr/>
          <p:nvPr/>
        </p:nvPicPr>
        <p:blipFill>
          <a:blip r:embed="rId1"/>
          <a:stretch/>
        </p:blipFill>
        <p:spPr>
          <a:xfrm>
            <a:off x="2411280" y="184464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207" name="TextovéPole 2"/>
          <p:cNvSpPr/>
          <p:nvPr/>
        </p:nvSpPr>
        <p:spPr>
          <a:xfrm>
            <a:off x="702360" y="5229360"/>
            <a:ext cx="76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a přítomnosti katalyzátoru je substrátem jediný nebo skupina latek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349560" y="5805360"/>
            <a:ext cx="412344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anda je substrátově specif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Kočka je substrátově selektivní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ovéPole 3"/>
          <p:cNvSpPr/>
          <p:nvPr/>
        </p:nvSpPr>
        <p:spPr>
          <a:xfrm>
            <a:off x="5435640" y="5805360"/>
            <a:ext cx="331308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říklady produktové selektivity a specificity ?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roduktová specifita a selektivit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28600" y="2744640"/>
            <a:ext cx="8229600" cy="2435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263520" y="1197000"/>
            <a:ext cx="8467560" cy="1305000"/>
          </a:xfrm>
          <a:prstGeom prst="rect">
            <a:avLst/>
          </a:prstGeom>
          <a:ln w="0">
            <a:noFill/>
          </a:ln>
        </p:spPr>
      </p:pic>
      <p:sp>
        <p:nvSpPr>
          <p:cNvPr id="213" name="TextovéPole 1"/>
          <p:cNvSpPr/>
          <p:nvPr/>
        </p:nvSpPr>
        <p:spPr>
          <a:xfrm>
            <a:off x="7162920" y="299736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TextovéPole 8"/>
          <p:cNvSpPr/>
          <p:nvPr/>
        </p:nvSpPr>
        <p:spPr>
          <a:xfrm>
            <a:off x="7162920" y="450864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elektiv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ovéPole 9"/>
          <p:cNvSpPr/>
          <p:nvPr/>
        </p:nvSpPr>
        <p:spPr>
          <a:xfrm>
            <a:off x="7792920" y="3700440"/>
            <a:ext cx="1295640" cy="73332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 na alkany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334800" y="5445000"/>
            <a:ext cx="83250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polohy – </a:t>
            </a:r>
            <a:r>
              <a:rPr b="1" lang="cs-CZ" sz="2000" spc="-1" strike="noStrike">
                <a:solidFill>
                  <a:srgbClr val="4d4d4d"/>
                </a:solidFill>
                <a:latin typeface="Arial Black"/>
              </a:rPr>
              <a:t>regioselektivita a regiospecificita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1024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15280" cy="981000"/>
          </a:xfrm>
          <a:prstGeom prst="rect">
            <a:avLst/>
          </a:prstGeom>
          <a:ln w="0">
            <a:noFill/>
          </a:ln>
        </p:spPr>
      </p:pic>
      <p:sp>
        <p:nvSpPr>
          <p:cNvPr id="219" name="TextovéPole 1"/>
          <p:cNvSpPr/>
          <p:nvPr/>
        </p:nvSpPr>
        <p:spPr>
          <a:xfrm>
            <a:off x="309600" y="2565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egioselektivita: např. Nitrace toluen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0" name="Picture 9" descr="http://www.e-chembook.eu/cz/images/orgchem/Nitrace_toluenu.png"/>
          <p:cNvPicPr/>
          <p:nvPr/>
        </p:nvPicPr>
        <p:blipFill>
          <a:blip r:embed="rId2"/>
          <a:stretch/>
        </p:blipFill>
        <p:spPr>
          <a:xfrm>
            <a:off x="1116000" y="3357720"/>
            <a:ext cx="63500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4536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giospecificit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320760" y="2637000"/>
            <a:ext cx="6508800" cy="3159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95280" y="134316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říklad: Elektrofilní adice dle Markovnikova pravidla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227640" y="1297080"/>
            <a:ext cx="2700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alší příklady: vysoká regioselektivita reakcí s enzymy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396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stereoizomerů – </a:t>
            </a:r>
            <a:r>
              <a:rPr b="1" lang="cs-CZ" sz="2400" spc="-1" strike="noStrike">
                <a:solidFill>
                  <a:srgbClr val="4d4d4d"/>
                </a:solidFill>
                <a:latin typeface="Arial Black"/>
              </a:rPr>
              <a:t>stereoselektivita a stereospecificit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5720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olymerace oxiranů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924680" cy="4659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380880" y="6045120"/>
            <a:ext cx="845820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66564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533520" y="914400"/>
            <a:ext cx="77724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římá spojnice 2"/>
          <p:cNvSpPr/>
          <p:nvPr/>
        </p:nvSpPr>
        <p:spPr>
          <a:xfrm>
            <a:off x="4716360" y="5084640"/>
            <a:ext cx="3384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3720" y="4042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a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31640" y="1106640"/>
            <a:ext cx="8204400" cy="1618920"/>
          </a:xfrm>
          <a:prstGeom prst="rect">
            <a:avLst/>
          </a:prstGeom>
          <a:ln w="0">
            <a:noFill/>
          </a:ln>
        </p:spPr>
      </p:pic>
      <p:sp>
        <p:nvSpPr>
          <p:cNvPr id="153" name="Přímá spojnice 3"/>
          <p:cNvSpPr/>
          <p:nvPr/>
        </p:nvSpPr>
        <p:spPr>
          <a:xfrm>
            <a:off x="523800" y="2349360"/>
            <a:ext cx="79200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546120" y="2873520"/>
            <a:ext cx="4471920" cy="3171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560520" y="6165720"/>
            <a:ext cx="8489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říkl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4521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380880" y="5705640"/>
            <a:ext cx="83822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alší termíny z oblasti katalýz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2512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3809880" y="2819520"/>
            <a:ext cx="251460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římá spojnice 2"/>
          <p:cNvSpPr/>
          <p:nvPr/>
        </p:nvSpPr>
        <p:spPr>
          <a:xfrm>
            <a:off x="3809880" y="1268280"/>
            <a:ext cx="4865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římá spojnice 4"/>
          <p:cNvSpPr/>
          <p:nvPr/>
        </p:nvSpPr>
        <p:spPr>
          <a:xfrm>
            <a:off x="539640" y="1484280"/>
            <a:ext cx="792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římá spojnice 6"/>
          <p:cNvSpPr/>
          <p:nvPr/>
        </p:nvSpPr>
        <p:spPr>
          <a:xfrm>
            <a:off x="3492360" y="3429000"/>
            <a:ext cx="5183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římá spojnice 8"/>
          <p:cNvSpPr/>
          <p:nvPr/>
        </p:nvSpPr>
        <p:spPr>
          <a:xfrm>
            <a:off x="539640" y="3645000"/>
            <a:ext cx="504036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katalyzátor+prekurzor katalyzátor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1892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212760" y="3200400"/>
            <a:ext cx="6889680" cy="3324240"/>
          </a:xfrm>
          <a:prstGeom prst="rect">
            <a:avLst/>
          </a:prstGeom>
          <a:ln w="0">
            <a:noFill/>
          </a:ln>
        </p:spPr>
      </p:pic>
      <p:sp>
        <p:nvSpPr>
          <p:cNvPr id="246" name="TextovéPole 1"/>
          <p:cNvSpPr/>
          <p:nvPr/>
        </p:nvSpPr>
        <p:spPr>
          <a:xfrm>
            <a:off x="7299360" y="3170160"/>
            <a:ext cx="1736640" cy="33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onomer se „vtiskne“ do místa, které ma komplementární elektronovou hustotu. Nasledně dochází k přesunu a uvolnění aktivního místa katalyzátoru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55344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Katalytický systém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3055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5614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1219320" y="368280"/>
            <a:ext cx="6491160" cy="48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3"/>
          <a:stretch/>
        </p:blipFill>
        <p:spPr>
          <a:xfrm>
            <a:off x="5791320" y="4343400"/>
            <a:ext cx="3047760" cy="3128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5638680" y="51055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2 katalytická centr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5960" y="1155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Základní pojm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45360" cy="2159280"/>
          </a:xfrm>
          <a:prstGeom prst="rect">
            <a:avLst/>
          </a:prstGeom>
          <a:ln w="0">
            <a:noFill/>
          </a:ln>
        </p:spPr>
      </p:pic>
      <p:sp>
        <p:nvSpPr>
          <p:cNvPr id="158" name="Obdélník 1"/>
          <p:cNvSpPr/>
          <p:nvPr/>
        </p:nvSpPr>
        <p:spPr>
          <a:xfrm>
            <a:off x="4427640" y="3533760"/>
            <a:ext cx="4572000" cy="340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převádí spaliny vznětového motoru obsahující uhlovodíky (CH) a oxid uhelnatý (CO) na vodu a oxid uhličitý (C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Kromě toho oxiduje oxid dusný (NO) na oxid dusičitý (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sestává z nosného tělesa z keramiky nebo kovu s axiálně průchozími kanály s šířkou hrany přibližně jeden milimetr. Stěny jsou potaženy platinou nebo Rhodiem jako katalyticky působící substance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U vozidel s filtrem částic je před filtr zařazen oxidační katalyzátor. V katalyzátoru uvolněný 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oxiduje v částečkovém filtru zbývající saze, které sestávají hlavně z uhlíku, na neškodlivou složku vzduchu dusík (N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 a na oxid uhličitý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Picture 5" descr="http://rb-kwin.bosch.com/cz/pool/de/Diesel/Nfz/Abgas/Oxi_Kat.jpg"/>
          <p:cNvPicPr/>
          <p:nvPr/>
        </p:nvPicPr>
        <p:blipFill>
          <a:blip r:embed="rId2"/>
          <a:stretch/>
        </p:blipFill>
        <p:spPr>
          <a:xfrm>
            <a:off x="158760" y="3073320"/>
            <a:ext cx="4032360" cy="2641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http://img.cadillac.porcus.cz/radime/katalyzator/katalyzator-rozlozeny.jpg"/>
          <p:cNvPicPr/>
          <p:nvPr/>
        </p:nvPicPr>
        <p:blipFill>
          <a:blip r:embed="rId3"/>
          <a:stretch/>
        </p:blipFill>
        <p:spPr>
          <a:xfrm>
            <a:off x="1760400" y="4792680"/>
            <a:ext cx="2459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24000" y="785880"/>
            <a:ext cx="8413560" cy="2211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325440" y="3284640"/>
            <a:ext cx="849168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441360" y="5705640"/>
            <a:ext cx="8380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84920" cy="4103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http://www.catalysis-ed.org.uk/principles/images/cycle.gif"/>
          <p:cNvPicPr/>
          <p:nvPr/>
        </p:nvPicPr>
        <p:blipFill>
          <a:blip r:embed="rId2"/>
          <a:stretch/>
        </p:blipFill>
        <p:spPr>
          <a:xfrm>
            <a:off x="684360" y="4229280"/>
            <a:ext cx="31669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měna Gibbsovy energi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87560" y="907920"/>
            <a:ext cx="66769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Energetika katalyzované reak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2536920" y="1484280"/>
            <a:ext cx="4867200" cy="37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3940200" cy="351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2556000" y="892080"/>
            <a:ext cx="790560" cy="362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4"/>
          <p:cNvSpPr/>
          <p:nvPr/>
        </p:nvSpPr>
        <p:spPr>
          <a:xfrm>
            <a:off x="179280" y="8715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Bez katalyzátoru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6"/>
          <p:cNvSpPr/>
          <p:nvPr/>
        </p:nvSpPr>
        <p:spPr>
          <a:xfrm>
            <a:off x="179280" y="15177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 katalyzátorem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ychlost určující krok při katalý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4094280" cy="386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432320" cy="3774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3"/>
          <a:stretch/>
        </p:blipFill>
        <p:spPr>
          <a:xfrm>
            <a:off x="2124000" y="981000"/>
            <a:ext cx="4176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atalýza, katalyzátory - klasifik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87360" y="1082520"/>
            <a:ext cx="8513640" cy="1285920"/>
          </a:xfrm>
          <a:prstGeom prst="rect">
            <a:avLst/>
          </a:prstGeom>
          <a:ln w="0">
            <a:noFill/>
          </a:ln>
        </p:spPr>
      </p:pic>
      <p:sp>
        <p:nvSpPr>
          <p:cNvPr id="182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arakteru reakční směsi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2724120" y="2306520"/>
            <a:ext cx="6205680" cy="65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387360" y="3068640"/>
            <a:ext cx="8353440" cy="1657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387360" y="4869000"/>
            <a:ext cx="8361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05T06:42:40Z</dcterms:modified>
  <cp:revision>160</cp:revision>
  <dc:subject/>
  <dc:title>C6730 Fázové rovnováhy</dc:title>
</cp:coreProperties>
</file>