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jpeg" ContentType="image/jpeg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A94B-FBFC-43BF-BE26-C0F8D9830C0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C833-30F8-49FC-882B-4B8DC933C513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809-0DEF-40E5-AF99-726713E4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5D8-0670-4525-ADE8-8AC554B6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BE4-060C-4F11-892A-C8DE3062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DE1-F5FF-4C59-93E8-6E018349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4709-33AF-4E37-836B-C9F533C8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7276-623F-46CD-8CD3-087A76AB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B4E0-18D2-4BB7-AC4C-36F7674F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1206-1538-478A-AA1B-070295E9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7EF7-A225-4B7A-8AFF-5DB70675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1349-F505-457C-9063-8E10BCD2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642A-3EDF-4559-B898-7A73B7B1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5FC-9A1E-47A4-98F0-5D83735E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96B8-DFED-40A9-A10C-B1104117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2F3D-8132-410E-A262-9865D1AD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32C1-912B-4621-9CD4-6054E325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BB8F-6B33-4DF7-90D6-2707E510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A483-8704-4432-AD1A-1E20092A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DA5-1BE7-4847-A882-DC4E1712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D5D-5186-4636-9F51-23485CDE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CBA-99D1-4DA3-BCC9-D4F94699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7B5-A47D-4245-A5A7-283920C6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DF0-4BB1-4941-8DB0-58187008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B86-0A5D-426F-8ABE-AE8F3CB5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21E-07E5-418A-BEF2-DE51A613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9EEC-CB75-4E6B-9B48-C3C1B8DAECC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AFFA-594F-45BF-95C7-EE2D65DBF645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z/url?sa=i&amp;rct=j&amp;q=&amp;esrc=s&amp;source=images&amp;cd=&amp;cad=rja&amp;uact=8&amp;ved=0CAcQjRw&amp;url=http%3A%2F%2Fchemwiki.ucdavis.edu%2FOrganic_Chemistry%2FOrganic_Chemistry_With_a_Biological_Emphasis%2FChapter_12%253A_Acyl_substitution_reactions%2FSection_12.4%253A_Esters&amp;ei=QXVIVdflAczTUbKbgdgE&amp;psig=AFQjCNHb1UVhVn9A-1ZXs4bBnHxW1uq4UQ&amp;ust=1430897986179228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80880" y="204840"/>
            <a:ext cx="838224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bazicky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368280"/>
            <a:ext cx="7543800" cy="64897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3"/>
          <p:cNvSpPr/>
          <p:nvPr/>
        </p:nvSpPr>
        <p:spPr>
          <a:xfrm>
            <a:off x="838080" y="5950080"/>
            <a:ext cx="7543800" cy="907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http://www2.chemistry.msu.edu/faculty/reusch/VirtTxtJml/Images3/estrhyd.gif"/>
          <p:cNvPicPr/>
          <p:nvPr/>
        </p:nvPicPr>
        <p:blipFill>
          <a:blip r:embed="rId1"/>
          <a:stretch/>
        </p:blipFill>
        <p:spPr>
          <a:xfrm>
            <a:off x="2195640" y="1198440"/>
            <a:ext cx="6480000" cy="364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chemwiki.ucdavis.edu/@api/deki/files/2818/image099.png?revision=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4560" y="5318280"/>
            <a:ext cx="4535640" cy="135252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39680" y="2419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yselá (protonizací substrátu)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409320" y="5303880"/>
            <a:ext cx="12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as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NaOH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Obdélník 3"/>
          <p:cNvSpPr/>
          <p:nvPr/>
        </p:nvSpPr>
        <p:spPr>
          <a:xfrm>
            <a:off x="0" y="1413000"/>
            <a:ext cx="2050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mýdelnění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1029" descr=""/>
          <p:cNvPicPr/>
          <p:nvPr/>
        </p:nvPicPr>
        <p:blipFill>
          <a:blip r:embed="rId1"/>
          <a:stretch/>
        </p:blipFill>
        <p:spPr>
          <a:xfrm>
            <a:off x="533520" y="880920"/>
            <a:ext cx="8305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62120" y="236520"/>
            <a:ext cx="7619760" cy="662148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1"/>
          <p:cNvSpPr/>
          <p:nvPr/>
        </p:nvSpPr>
        <p:spPr>
          <a:xfrm>
            <a:off x="1920960" y="3321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substr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42920" y="2178000"/>
            <a:ext cx="7416720" cy="468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7022880" cy="1758960"/>
          </a:xfrm>
          <a:prstGeom prst="rect">
            <a:avLst/>
          </a:prstGeom>
          <a:ln w="0">
            <a:noFill/>
          </a:ln>
        </p:spPr>
      </p:pic>
      <p:sp>
        <p:nvSpPr>
          <p:cNvPr id="158" name="TextovéPole 4"/>
          <p:cNvSpPr/>
          <p:nvPr/>
        </p:nvSpPr>
        <p:spPr>
          <a:xfrm>
            <a:off x="1042920" y="2178000"/>
            <a:ext cx="71294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činidla (nadbytek fenol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78920" cy="497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04840" y="184320"/>
            <a:ext cx="6902280" cy="1485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Sopoušek\Dokumenty\Obrázky\Katalýza\bakelite1.jpg"/>
          <p:cNvPicPr/>
          <p:nvPr/>
        </p:nvPicPr>
        <p:blipFill>
          <a:blip r:embed="rId3"/>
          <a:stretch/>
        </p:blipFill>
        <p:spPr>
          <a:xfrm>
            <a:off x="7034040" y="141120"/>
            <a:ext cx="2109960" cy="158292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4"/>
          <p:cNvSpPr/>
          <p:nvPr/>
        </p:nvSpPr>
        <p:spPr>
          <a:xfrm>
            <a:off x="900000" y="1670040"/>
            <a:ext cx="792000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substrátu (nadbytek aldehyd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124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001000" cy="367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304920" y="5581800"/>
            <a:ext cx="8839080" cy="127620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4"/>
          <p:cNvSpPr/>
          <p:nvPr/>
        </p:nvSpPr>
        <p:spPr>
          <a:xfrm>
            <a:off x="893880" y="23760"/>
            <a:ext cx="71276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činidla (transesterifikace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kysele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80880" y="654120"/>
            <a:ext cx="84582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381880" cy="513108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4941360" y="21337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záleží na typu kyselin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ovéPole 3"/>
          <p:cNvSpPr/>
          <p:nvPr/>
        </p:nvSpPr>
        <p:spPr>
          <a:xfrm>
            <a:off x="5564160" y="3357720"/>
            <a:ext cx="329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áleží na typu kyseliny (k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exp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Přímá spojnice se šipkou 4"/>
          <p:cNvCxnSpPr>
            <a:stCxn id="171" idx="2"/>
          </p:cNvCxnSpPr>
          <p:nvPr/>
        </p:nvCxnSpPr>
        <p:spPr>
          <a:xfrm flipH="1">
            <a:off x="6732000" y="3757320"/>
            <a:ext cx="478440" cy="16167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6688080"/>
          </a:xfrm>
          <a:prstGeom prst="rect">
            <a:avLst/>
          </a:prstGeom>
          <a:ln w="0">
            <a:noFill/>
          </a:ln>
        </p:spPr>
      </p:pic>
      <p:sp>
        <p:nvSpPr>
          <p:cNvPr id="174" name="Přímá spojnice 2"/>
          <p:cNvSpPr/>
          <p:nvPr/>
        </p:nvSpPr>
        <p:spPr>
          <a:xfrm>
            <a:off x="1332000" y="1484280"/>
            <a:ext cx="3816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Obdélník 3"/>
          <p:cNvSpPr/>
          <p:nvPr/>
        </p:nvSpPr>
        <p:spPr>
          <a:xfrm>
            <a:off x="533520" y="5950080"/>
            <a:ext cx="7543800" cy="738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05T07:51:14Z</dcterms:modified>
  <cp:revision>144</cp:revision>
  <dc:subject/>
  <dc:title>C6730 Fázové rovnováhy</dc:title>
</cp:coreProperties>
</file>