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9.jpeg" ContentType="image/jpeg"/>
  <Override PartName="/ppt/media/image13.wmf" ContentType="image/x-wmf"/>
  <Override PartName="/ppt/media/image2.gif" ContentType="image/gif"/>
  <Override PartName="/ppt/media/image8.wmf" ContentType="image/x-wmf"/>
  <Override PartName="/ppt/media/image21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28D-2D2C-4994-AA8B-F9C1C03D83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C9B-A916-422A-9D08-0DF9847A9AD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77B-466C-472F-A966-EEDE8101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92F-1641-46FC-BC57-8CB0612E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C33-2962-4F3B-B377-628940D1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9D3-5D92-4902-832C-3445D06E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707-F7A3-461B-8D16-B091EF0A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F07-C6E0-4A5A-B33D-DB4D6879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3AD-7094-49D3-A7BA-B011D62D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3E4F-ED4E-47AB-A568-2A76ED30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CB2-F18A-438C-92FB-FC5F22E3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D2FB-0F70-4C1E-9CFF-D99CBE99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D5FA-4C12-4C7B-B331-685247B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89A-00B3-4DDF-9BE0-7110830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BEA1-4E3A-46F5-BBB4-AC6E6E2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18B-FFE4-4588-9C9F-DDA673D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12FB-1B43-4AC2-9D0A-0A3F6004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9468-445F-46E8-A2E6-C0EBC5AA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0B16-06E3-438A-B68E-E8401F5F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F72-E31D-427A-8CD9-8DEFAC5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A79-AB0F-4B51-8F7D-F067EC0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313-D9D9-4525-A043-70607F6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C9D-DCED-45D9-932A-9E40A83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D7A-01D4-4D82-AA4D-C837F97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93C-C179-4332-9374-F053F5F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62C-8962-4FD7-A1E6-23EA98A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1E5-A2FD-4CD7-B0CE-D65E006B6D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ACF-6AF2-4181-B34F-AADF22610B5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Katalýza\inhib_1.gif"/>
          <p:cNvPicPr/>
          <p:nvPr/>
        </p:nvPicPr>
        <p:blipFill>
          <a:blip r:embed="rId1"/>
          <a:stretch/>
        </p:blipFill>
        <p:spPr>
          <a:xfrm>
            <a:off x="4603680" y="3429000"/>
            <a:ext cx="4113360" cy="246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plantphys.info/plant_physiology/images/enzactiveinhibit.gif"/>
          <p:cNvPicPr/>
          <p:nvPr/>
        </p:nvPicPr>
        <p:blipFill>
          <a:blip r:embed="rId2"/>
          <a:stretch/>
        </p:blipFill>
        <p:spPr>
          <a:xfrm>
            <a:off x="243000" y="3429000"/>
            <a:ext cx="43513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066680" y="441360"/>
            <a:ext cx="73152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2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198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2286000" y="148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5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66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8324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569880" y="1044720"/>
            <a:ext cx="5438880" cy="4125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1"/>
          <p:cNvSpPr/>
          <p:nvPr/>
        </p:nvSpPr>
        <p:spPr>
          <a:xfrm>
            <a:off x="569880" y="5060880"/>
            <a:ext cx="79628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8324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470280" y="63244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bdélník 2"/>
          <p:cNvSpPr/>
          <p:nvPr/>
        </p:nvSpPr>
        <p:spPr>
          <a:xfrm>
            <a:off x="324000" y="3968640"/>
            <a:ext cx="824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3) a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se váže pouze na komplex enzym-substrát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971640" y="3824280"/>
            <a:ext cx="6553080" cy="287964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50920" y="3322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1T13:43:13Z</dcterms:modified>
  <cp:revision>147</cp:revision>
  <dc:subject/>
  <dc:title>C6730 Fázové rovnováhy</dc:title>
</cp:coreProperties>
</file>