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D11-9556-4A3E-8211-906C4C66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E10-959B-49B9-B824-90B73D92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4A8-5616-4BA7-BA89-1582ECD3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A98-3EDB-46F1-ABD2-1631101C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C3C-D99B-4282-B2CE-5603C458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951-B8BA-4F5C-A08D-9363D6A5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CB7-69F5-486E-AC3D-53B24024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619-CD3E-4703-AA6A-8DBDD8B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94A-0956-48A6-B5BE-E61F7AF2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3A8-4F56-437A-98E4-459ADF0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A7F-876B-4F3C-AE39-0285FC6F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19C-602A-43F1-B40B-4267A1DE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8DF1-C655-4D59-B145-F94D225B80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2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6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6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2"/>
          <p:cNvSpPr/>
          <p:nvPr/>
        </p:nvSpPr>
        <p:spPr>
          <a:xfrm>
            <a:off x="2627280" y="4508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 zákony za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3"/>
          <p:cNvSpPr/>
          <p:nvPr/>
        </p:nvSpPr>
        <p:spPr>
          <a:xfrm>
            <a:off x="380880" y="314172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66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2:30:08Z</dcterms:modified>
  <cp:revision>99</cp:revision>
  <dc:subject/>
  <dc:title>Soustava</dc:title>
</cp:coreProperties>
</file>