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D000-02D3-4AA4-8C6C-E0CCC4CC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2EE3-CB65-41AF-AFFC-AE87F900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F847-41BD-4F5F-878C-C3034D9C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2833-026A-4D27-9D76-663A959D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3F01-EBFE-4D11-A090-9BD9BD44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733-E544-4405-8C5D-D5AA33E4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6A69-5EA4-4AEF-8446-48FBB7C3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CD2-79E3-46EB-93F6-4E8ADE93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848F-C47A-45EB-BD8B-B1CE9F78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5CB-6242-4D4E-B5D2-CF45C5CA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3A7F-9CFB-40C0-A2CA-99997A5C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AA3C-9709-492B-BDEA-3017B064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774C-13F0-42E6-B204-C94623BFB1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4" descr="http://www.chemguide.co.uk/physical/basicrates/reqnab1.gif"/>
          <p:cNvPicPr/>
          <p:nvPr/>
        </p:nvPicPr>
        <p:blipFill>
          <a:blip r:embed="rId1"/>
          <a:stretch/>
        </p:blipFill>
        <p:spPr>
          <a:xfrm>
            <a:off x="344520" y="1197000"/>
            <a:ext cx="6154560" cy="266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6" descr="http://img.youtube.com/vi/nZiOyVElo-s/0.jpg"/>
          <p:cNvPicPr/>
          <p:nvPr/>
        </p:nvPicPr>
        <p:blipFill>
          <a:blip r:embed="rId2"/>
          <a:stretch/>
        </p:blipFill>
        <p:spPr>
          <a:xfrm>
            <a:off x="4427640" y="4005360"/>
            <a:ext cx="457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48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0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1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14400"/>
            <a:ext cx="8807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pro elementární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56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-46080" y="838080"/>
            <a:ext cx="919008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46240" y="1844640"/>
            <a:ext cx="8748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20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79280" y="1535040"/>
            <a:ext cx="8782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9840" y="1828800"/>
            <a:ext cx="9039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02T13:15:18Z</dcterms:modified>
  <cp:revision>103</cp:revision>
  <dc:subject/>
  <dc:title>Soustava</dc:title>
</cp:coreProperties>
</file>