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A0D14-628A-4CBC-AE4E-F565E06AF47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BFD19-75F2-4C2E-AA2C-8DAFEDC5E02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8D283-7ACF-40F7-8852-C3FE9AEBE73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D1D6C-68CC-4E5B-B2F6-0A9950FECEA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553C6-825E-4B06-95E7-39C07C4B0F3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BC2BE-8AE9-4EC0-8FBE-A27350BBBD6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97503-3FA9-4C1B-96DA-6EEDFB55FFB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9FE18-81F3-48D8-8C1F-D600489FD19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B4B3A-55D6-4A98-B4E3-5CD84A1D25C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54E00-100B-45B7-87B4-9C926A6F7CF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C9B1F-37FD-4AF4-A2F0-E4F6F4EE914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B6931-3BD4-4A3F-9817-1208F633D96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338C0-F9BD-4978-BB95-87505B7CC9B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155AE-93F1-4506-ABAE-3C5FEBB62AF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D6EA-F867-41D4-AEB5-26523E21C6A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EAD5A-0FE8-4396-A497-3E8374B30B4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3A007-1C0F-441C-BAAE-1F69DB042D6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A6A3A-D4C7-4AB5-9175-CDEB956BE0E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FD78E-C722-4287-B2CB-F3A15EDC0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CAC89-21EB-4CB8-8CF9-8BCD621A8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580EE-6FE8-4668-A4AB-A775517EF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A6000-ED13-44A1-8225-19032CDFA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76649-4EF0-45AE-9A5B-977B8BC68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30637-960E-424E-8418-613BA458F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36DB8-A5DE-4A64-B2A4-E5F355EE5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61CE9-7EC1-4C9E-890C-2780839DF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D10FB-5B2F-46BE-AD45-80E817BE5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C39E4-6B0C-43E8-A8E1-DCF687305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1A71F-999B-463C-922A-9E55ABD47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DD795-7F1F-4E6A-9394-9EF6F6C3FA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F3A8E-41E5-4DFE-AA02-D4A28C95F2F7}"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4-03-14T13:08:42Z</dcterms:modified>
  <cp:revision>175</cp:revision>
  <dc:subject/>
  <dc:title>Slide 1</dc:title>
</cp:coreProperties>
</file>