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31FF-051B-4730-A6DA-A8C140509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8306-A3E3-4C4F-940C-55163884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D492-F3EE-4EC7-9FBE-6162A6592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BE80-C9E6-432E-856B-0181177D7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A63B-8785-4E06-BC67-0E2F08D0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7382-6ED7-4268-AF70-6F3B2838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9915-EEF2-46D4-81E8-E7D05B3A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D75B-6C14-4046-A4AA-3A785434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29D5-B6ED-4623-AAC9-9E39EFE5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9312-B4E4-49EB-85EE-D3058E09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F5D8-2BAA-4A0B-85C2-68717904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CABC-5AFE-4B2E-B88E-425D4117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DD94-2C8E-4234-B7C9-9A601898A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1:35:35Z</dcterms:created>
  <dc:creator>Jiří Jarkovský</dc:creator>
  <dc:description/>
  <dc:language>en-US</dc:language>
  <cp:lastModifiedBy>Jiří Jarkovský</cp:lastModifiedBy>
  <dcterms:modified xsi:type="dcterms:W3CDTF">2005-09-20T11:40:03Z</dcterms:modified>
  <cp:revision>6</cp:revision>
  <dc:subject/>
  <dc:title>Snímek 1</dc:title>
</cp:coreProperties>
</file>