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B14B-8E9C-49F1-B890-08A4F07F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1159-0553-46B3-B4DB-AEBF753A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26BF-BE4A-4EC6-B42E-93E5A664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8C48-6E52-4A95-88B2-F79C65D8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32B5-AA4C-4BE1-BC4B-069F1DDD6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B898-8352-4038-BF52-BC7A01E8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511C-E128-4864-8EFF-1334B588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FA67-4650-4377-9B73-C3F7F3C5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F68F-B0FF-4643-A720-1C440E0B7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1D474-A5DB-4D95-803E-C6BCB2A2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5559-7DD0-4066-90D1-A0B09941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CB42-6627-4B69-9BEC-D10121F6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B0CD-081D-4A61-8C8C-15C12BB4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F4E9D-B07D-414D-80EA-90E46FF4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7EDD-8ADB-451D-BCD5-2661DF4F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19E0-F8CD-455E-8DD7-E90C4BF42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54440"/>
            <a:ext cx="264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A3DD8-A7D2-4264-A281-F58C0592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17D4-ABE3-412A-A745-BB55C0C4B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E4F8-0445-4B43-952E-F6E116450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3CC0-6F6A-4330-8484-2EE53798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242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3EBB-9884-40E6-B9B6-16990584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7670-83C0-4374-93BA-91AE11A6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75444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DE93-A3C2-4F80-BAD5-721F15CB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54440"/>
            <a:ext cx="822960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20B5-3C75-47CD-94B6-BE52FA98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4571640" y="15480"/>
            <a:ext cx="213372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6FA9-FECE-4034-9561-95BB3D0D32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179280" y="1052640"/>
            <a:ext cx="871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50E6-D17B-4D41-99FC-C4C5C5C2B7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400" spc="-1" strike="noStrike">
                <a:solidFill>
                  <a:srgbClr val="ffffff"/>
                </a:solidFill>
                <a:latin typeface="Arial"/>
              </a:rPr>
              <a:t>Příklady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436640"/>
            <a:ext cx="601992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Analýza dat společenstev pomocí vícerozměrné analýzy da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ále je již shluková analýza zpracována pomocí men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luster Analysi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Tree Clustering – ana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ýza nad asociační mati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26920" y="2349360"/>
          <a:ext cx="288000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28800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572000" y="2349360"/>
          <a:ext cx="3600360" cy="431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349360"/>
                    <a:ext cx="360036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3189-F65B-4AB1-8034-003D9E0D02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o vstup do multidimensional scaling může posloužit libovolná asociační ma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dimensional sc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716360" y="3141720"/>
          <a:ext cx="4319640" cy="32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141720"/>
                    <a:ext cx="43196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179280" y="3141720"/>
          <a:ext cx="4319640" cy="3240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3141720"/>
                    <a:ext cx="431964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F660-0E83-4AD6-AFED-1BD678EE8F1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dání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5 lokalitách bylo provedeno vzorkování společenstev cizopasníků ryb, jehož výsledky jsou uloženy v souboru. Data jsou uložena ve formátu, kdy jeden řádek odpovídá jednomu nalezenému cizopasníkovi. Sloupce nejvýznamnější pro analýzu jsou označeny žlutou barvou. Za pomoci software MS Excel, Statistica for Windows a SPSS proveďte na datech následující analýz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tvořte tabulku zastoupení cizopasníků na lokalitách, která poslouží jako základ pro všechny ostatní analýz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ďte korespondenční analýzu společenst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eďte shlukovou analýzu společenstev na lokalitách pomo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accardova koeficien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ray-Curtiss indexu vypočteném na relativizovaných logaritmovaných abundancí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ici indexů podobnosti proveďte multidimensional sca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3944-A190-419B-934B-CCAD970B3D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rcRect l="0" t="13684" r="67154" b="30889"/>
          <a:stretch/>
        </p:blipFill>
        <p:spPr>
          <a:xfrm>
            <a:off x="5219640" y="2441520"/>
            <a:ext cx="3532320" cy="37242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 vytvoření tabulky společenstev použijte kontingenční tabulky v MS Excel (alternativou je kontingenční tabulka v libovolném S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ázdná místa v tabulce musí být doplněna nul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rcRect l="0" t="17284" r="54217" b="22969"/>
          <a:stretch/>
        </p:blipFill>
        <p:spPr>
          <a:xfrm>
            <a:off x="324000" y="2349360"/>
            <a:ext cx="4895640" cy="39927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rot="5400000">
            <a:off x="4644720" y="386064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1E9A-4DE1-4B29-8B97-0C7D53B496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respondenční analýzu lze spočítat v SW Statistica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s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Multivariate Exploratory Techniques-&gt;Correspondenc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276720" y="2349360"/>
          <a:ext cx="575928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349360"/>
                    <a:ext cx="575928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458640" y="2205000"/>
            <a:ext cx="3033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ovat lze v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ájemno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zic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druhů a lokal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BC3E-0494-48DB-9EA7-1611E957DBC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211640" y="2924280"/>
            <a:ext cx="3265560" cy="19018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156360" y="4941720"/>
            <a:ext cx="2714760" cy="15814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riky podobnosti společenstev lze spočítat v řadě nástrojů, zde je zobrazen postup pro výpočet Jaccardova koeficientu v SP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ccardův koeficient je založen na binárních datech, prvním krokem je tedy překódování d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ansform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Recode-&gt;Into sam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3208320" cy="1707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00360" y="4221000"/>
            <a:ext cx="1295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4148280"/>
            <a:ext cx="151272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3068640"/>
            <a:ext cx="13698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415280" y="5372280"/>
            <a:ext cx="1477800" cy="504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3716280"/>
            <a:ext cx="865440" cy="1297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B0A2-8C2F-4064-B4C0-2E04B0DA5F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379760" y="2003400"/>
            <a:ext cx="3648240" cy="2362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I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ccardův koeficient lze v SPSS spočít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ze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Correlate-&gt;Distanc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54200" y="2060640"/>
            <a:ext cx="3193920" cy="22622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411280" y="4076640"/>
            <a:ext cx="2087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54200" y="3716280"/>
            <a:ext cx="86544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4200" y="3500280"/>
            <a:ext cx="86544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8920" y="2708280"/>
            <a:ext cx="2737080" cy="649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rcRect l="21150" t="37646" r="45556" b="40935"/>
          <a:stretch/>
        </p:blipFill>
        <p:spPr>
          <a:xfrm>
            <a:off x="2411280" y="4581360"/>
            <a:ext cx="5327640" cy="20894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flipH="1">
            <a:off x="6587640" y="2492280"/>
            <a:ext cx="1008360" cy="2449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376-6363-4BB9-8021-4BF45B9C53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tup řešení V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import do Statistica for Windows musí být asociační matice připravena ve speciální formě a převedena na matici vzdálenost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13684" r="70754" b="68319"/>
          <a:stretch/>
        </p:blipFill>
        <p:spPr>
          <a:xfrm>
            <a:off x="468360" y="2133720"/>
            <a:ext cx="4680000" cy="1800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rcRect l="0" t="13684" r="70754" b="67415"/>
          <a:stretch/>
        </p:blipFill>
        <p:spPr>
          <a:xfrm>
            <a:off x="3924360" y="4437000"/>
            <a:ext cx="4680000" cy="1890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067280" y="2997360"/>
            <a:ext cx="1368360" cy="1726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4880" y="364500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-Jac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EBDF-8664-4BAA-9EDF-1D9EAA11FC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jsnazší cestou transformace dat je pomocí vzorců v MS 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10743" r="64904" b="78515"/>
          <a:stretch/>
        </p:blipFill>
        <p:spPr>
          <a:xfrm>
            <a:off x="611280" y="1827360"/>
            <a:ext cx="4606920" cy="880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rcRect l="9455" t="10080" r="50052" b="48339"/>
          <a:stretch/>
        </p:blipFill>
        <p:spPr>
          <a:xfrm>
            <a:off x="539640" y="3284640"/>
            <a:ext cx="4824360" cy="3095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19440" y="2081160"/>
            <a:ext cx="19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transform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21600" y="450216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vizace d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6511-9DAB-444D-A584-03179C99D1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2880000" cy="2403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up řešení V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ray Curtiss index lze spočítat pomocí makra v Statistica for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rcRect l="0" t="0" r="69854" b="68337"/>
          <a:stretch/>
        </p:blipFill>
        <p:spPr>
          <a:xfrm>
            <a:off x="684360" y="2060640"/>
            <a:ext cx="3779640" cy="24811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76720" y="3284640"/>
            <a:ext cx="2087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2637000"/>
            <a:ext cx="865080" cy="288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48360" y="2708280"/>
            <a:ext cx="86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59640" y="3429000"/>
            <a:ext cx="865080" cy="289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rcRect l="0" t="11067" r="69852" b="68998"/>
          <a:stretch/>
        </p:blipFill>
        <p:spPr>
          <a:xfrm>
            <a:off x="2627280" y="4811760"/>
            <a:ext cx="4248360" cy="17128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796000" y="3716280"/>
            <a:ext cx="0" cy="1225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3CD8-3D34-42D5-80EC-69F27AD1E4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3T10:17:04Z</dcterms:created>
  <dc:creator>Jiří Jarkovský</dc:creator>
  <dc:description/>
  <dc:language>en-US</dc:language>
  <cp:lastModifiedBy>Jiří Jarkovský</cp:lastModifiedBy>
  <dcterms:modified xsi:type="dcterms:W3CDTF">2006-05-23T19:49:19Z</dcterms:modified>
  <cp:revision>61</cp:revision>
  <dc:subject/>
  <dc:title>DIEP - </dc:title>
</cp:coreProperties>
</file>