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jpeg" ContentType="image/jpeg"/>
  <Override PartName="/ppt/media/image13.wmf" ContentType="image/x-wmf"/>
  <Override PartName="/ppt/media/image9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33.wmf" ContentType="image/x-wmf"/>
  <Override PartName="/ppt/media/image34.wmf" ContentType="image/x-wmf"/>
  <Override PartName="/ppt/media/image35.png" ContentType="image/png"/>
  <Override PartName="/ppt/media/image18.wmf" ContentType="image/x-wmf"/>
  <Override PartName="/ppt/media/image20.wmf" ContentType="image/x-wmf"/>
  <Override PartName="/ppt/media/image36.png" ContentType="image/png"/>
  <Override PartName="/ppt/media/image37.png" ContentType="image/png"/>
  <Override PartName="/ppt/media/image40.wmf" ContentType="image/x-wmf"/>
  <Override PartName="/ppt/media/image7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12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2645-1B27-42BF-91F4-E3542D15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D133-707D-4AD0-90B4-F5D8BA98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0D92-CD91-47E4-8614-D8DBFED12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EDB8-71A5-41AC-98DE-AFCB0E49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98AB-B246-4461-B0D4-533C74E27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BA61-451B-444F-B836-137F613B2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0EF-67A8-4E98-ADEC-3BB75626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9ACC-70FF-4F1C-A63F-8C3632CE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E45B-6F97-4BD5-805A-5F8AB0603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8EF6-C673-40B2-AEF8-CD824547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1602-D61F-4C41-846F-E04449DC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A802-2A46-4B45-978A-4D1E96CD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9280" y="37584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1c1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4364-543F-43D8-BC7A-AC1C9759211E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381720"/>
            <a:ext cx="3132000" cy="2872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32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1527120"/>
            <a:ext cx="86421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" y="6021360"/>
          <a:ext cx="896760" cy="82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021360"/>
                    <a:ext cx="8967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jpeg"/><Relationship Id="rId3" Type="http://schemas.openxmlformats.org/officeDocument/2006/relationships/hyperlink" Target="http://www.orso.cz/dvorak/atlas/kapr-v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854d0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08720" y="0"/>
            <a:ext cx="183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96360" y="765000"/>
            <a:ext cx="1218960" cy="11019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920" y="4343400"/>
            <a:ext cx="6913440" cy="814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ušek L. , Jarkovský J. , Zahrádková S. , Brabec K. , Hodovský J. , Gelnar M. , Anděl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250920" y="1267920"/>
            <a:ext cx="6913440" cy="2305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iodiversity and its informative value in evaluation of localities under anthropogenic st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7451640" y="2579760"/>
            <a:ext cx="15350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1125360"/>
            <a:ext cx="2819160" cy="576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371600" y="1770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447920" y="177012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2608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62320" y="23036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3065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3065400"/>
            <a:ext cx="152388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473200" y="3200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ther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0960" y="3657600"/>
            <a:ext cx="236232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523880" y="420840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330200" y="4208400"/>
            <a:ext cx="115416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755640" y="4208400"/>
            <a:ext cx="38736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240" y="472428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81200" y="5157720"/>
            <a:ext cx="20574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f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11240" y="5140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1240" y="5459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4920" y="58262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428920" y="5554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ER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1280" y="58737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59280" y="42210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135240" y="4678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87920" y="981000"/>
            <a:ext cx="3376800" cy="29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6084720" y="3994200"/>
          <a:ext cx="2505240" cy="267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399420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 flipV="1">
            <a:off x="7696080" y="4589640"/>
            <a:ext cx="9907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48360" y="55832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516720" y="3763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Q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00400" y="1312920"/>
            <a:ext cx="2379600" cy="460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00400" y="1312920"/>
            <a:ext cx="2595600" cy="233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2521-A953-4AA8-A8E4-017137224F5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465880" y="3467160"/>
            <a:ext cx="228600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36920" y="2346480"/>
            <a:ext cx="1695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513240" y="2384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511440" y="2403360"/>
            <a:ext cx="152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T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208480" y="4727520"/>
            <a:ext cx="1895400" cy="409680"/>
            <a:chOff x="5208480" y="4727520"/>
            <a:chExt cx="1895400" cy="409680"/>
          </a:xfrm>
        </p:grpSpPr>
        <p:grpSp>
          <p:nvGrpSpPr>
            <p:cNvPr id="291" name=""/>
            <p:cNvGrpSpPr/>
            <p:nvPr/>
          </p:nvGrpSpPr>
          <p:grpSpPr>
            <a:xfrm>
              <a:off x="5208480" y="4727520"/>
              <a:ext cx="1885680" cy="399960"/>
              <a:chOff x="5208480" y="4727520"/>
              <a:chExt cx="1885680" cy="399960"/>
            </a:xfrm>
          </p:grpSpPr>
          <p:sp>
            <p:nvSpPr>
              <p:cNvPr id="292" name=""/>
              <p:cNvSpPr/>
              <p:nvPr/>
            </p:nvSpPr>
            <p:spPr>
              <a:xfrm>
                <a:off x="5208480" y="4727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208480" y="4736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208480" y="47559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208480" y="47656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208480" y="4775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208480" y="4794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208480" y="4803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208480" y="48132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208480" y="482256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208480" y="4841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208480" y="4851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208480" y="4860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208480" y="487980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5208480" y="4889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208480" y="4898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08480" y="4917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208480" y="4927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208480" y="4937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208480" y="4956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208480" y="4965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208480" y="497520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208480" y="49942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208480" y="5003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208480" y="5013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208480" y="5022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208480" y="50418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208480" y="50511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208480" y="5060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208480" y="5079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208480" y="5089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208480" y="5099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208480" y="5118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5208480" y="472752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465880" y="4756320"/>
            <a:ext cx="1361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66600" y="4765680"/>
            <a:ext cx="135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332000" y="4708440"/>
            <a:ext cx="1895400" cy="409680"/>
            <a:chOff x="1332000" y="4708440"/>
            <a:chExt cx="1895400" cy="409680"/>
          </a:xfrm>
        </p:grpSpPr>
        <p:grpSp>
          <p:nvGrpSpPr>
            <p:cNvPr id="328" name=""/>
            <p:cNvGrpSpPr/>
            <p:nvPr/>
          </p:nvGrpSpPr>
          <p:grpSpPr>
            <a:xfrm>
              <a:off x="1332000" y="4708440"/>
              <a:ext cx="1886040" cy="399960"/>
              <a:chOff x="1332000" y="4708440"/>
              <a:chExt cx="1886040" cy="399960"/>
            </a:xfrm>
          </p:grpSpPr>
          <p:sp>
            <p:nvSpPr>
              <p:cNvPr id="329" name=""/>
              <p:cNvSpPr/>
              <p:nvPr/>
            </p:nvSpPr>
            <p:spPr>
              <a:xfrm>
                <a:off x="1332000" y="4708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332000" y="4717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332000" y="4736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332000" y="4746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332000" y="4755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332000" y="47750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332000" y="478476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332000" y="47941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32000" y="480348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332000" y="4822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332000" y="4832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332000" y="4841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332000" y="486072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332000" y="4870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332000" y="4879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332000" y="4898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332000" y="4908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332000" y="4917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32000" y="4937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332000" y="494640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332000" y="495612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332000" y="49752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332000" y="4984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332000" y="4994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32000" y="5003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332000" y="50227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332000" y="50320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332000" y="5041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332000" y="50608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332000" y="50702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332000" y="5079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332000" y="5099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"/>
            <p:cNvSpPr/>
            <p:nvPr/>
          </p:nvSpPr>
          <p:spPr>
            <a:xfrm>
              <a:off x="1332000" y="470844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1960560" y="4737240"/>
            <a:ext cx="6285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59840" y="4746600"/>
            <a:ext cx="62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131920" y="2898720"/>
            <a:ext cx="1704960" cy="1743120"/>
            <a:chOff x="2131920" y="2898720"/>
            <a:chExt cx="1704960" cy="1743120"/>
          </a:xfrm>
        </p:grpSpPr>
        <p:sp>
          <p:nvSpPr>
            <p:cNvPr id="365" name=""/>
            <p:cNvSpPr/>
            <p:nvPr/>
          </p:nvSpPr>
          <p:spPr>
            <a:xfrm>
              <a:off x="2198520" y="2898720"/>
              <a:ext cx="1638360" cy="1676160"/>
            </a:xfrm>
            <a:custGeom>
              <a:avLst/>
              <a:gdLst/>
              <a:ahLst/>
              <a:rect l="l" t="t" r="r" b="b"/>
              <a:pathLst>
                <a:path w="1032" h="1056">
                  <a:moveTo>
                    <a:pt x="1032" y="12"/>
                  </a:moveTo>
                  <a:lnTo>
                    <a:pt x="1020" y="0"/>
                  </a:lnTo>
                  <a:lnTo>
                    <a:pt x="0" y="1044"/>
                  </a:lnTo>
                  <a:lnTo>
                    <a:pt x="12" y="1056"/>
                  </a:lnTo>
                  <a:lnTo>
                    <a:pt x="103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1920" y="4470120"/>
              <a:ext cx="171360" cy="17172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6" y="0"/>
                  </a:moveTo>
                  <a:lnTo>
                    <a:pt x="0" y="108"/>
                  </a:lnTo>
                  <a:lnTo>
                    <a:pt x="108" y="9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4684680" y="2889360"/>
            <a:ext cx="1780920" cy="1790280"/>
            <a:chOff x="4684680" y="2889360"/>
            <a:chExt cx="1780920" cy="1790280"/>
          </a:xfrm>
        </p:grpSpPr>
        <p:sp>
          <p:nvSpPr>
            <p:cNvPr id="368" name=""/>
            <p:cNvSpPr/>
            <p:nvPr/>
          </p:nvSpPr>
          <p:spPr>
            <a:xfrm>
              <a:off x="4684680" y="2889360"/>
              <a:ext cx="1714320" cy="1723680"/>
            </a:xfrm>
            <a:custGeom>
              <a:avLst/>
              <a:gdLst/>
              <a:ahLst/>
              <a:rect l="l" t="t" r="r" b="b"/>
              <a:pathLst>
                <a:path w="1080" h="1086">
                  <a:moveTo>
                    <a:pt x="12" y="0"/>
                  </a:moveTo>
                  <a:lnTo>
                    <a:pt x="0" y="12"/>
                  </a:lnTo>
                  <a:lnTo>
                    <a:pt x="1068" y="1086"/>
                  </a:lnTo>
                  <a:lnTo>
                    <a:pt x="1080" y="107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294240" y="4508280"/>
              <a:ext cx="171360" cy="17136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0" y="102"/>
                  </a:moveTo>
                  <a:lnTo>
                    <a:pt x="108" y="108"/>
                  </a:lnTo>
                  <a:lnTo>
                    <a:pt x="96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589120" y="5146560"/>
            <a:ext cx="3295440" cy="485640"/>
            <a:chOff x="2589120" y="5146560"/>
            <a:chExt cx="3295440" cy="485640"/>
          </a:xfrm>
        </p:grpSpPr>
        <p:sp>
          <p:nvSpPr>
            <p:cNvPr id="371" name=""/>
            <p:cNvSpPr/>
            <p:nvPr/>
          </p:nvSpPr>
          <p:spPr>
            <a:xfrm>
              <a:off x="2712960" y="5232240"/>
              <a:ext cx="3171600" cy="399960"/>
            </a:xfrm>
            <a:custGeom>
              <a:avLst/>
              <a:gdLst/>
              <a:ahLst/>
              <a:rect l="l" t="t" r="r" b="b"/>
              <a:pathLst>
                <a:path w="1998" h="252">
                  <a:moveTo>
                    <a:pt x="6" y="0"/>
                  </a:moveTo>
                  <a:lnTo>
                    <a:pt x="0" y="18"/>
                  </a:lnTo>
                  <a:lnTo>
                    <a:pt x="90" y="42"/>
                  </a:lnTo>
                  <a:lnTo>
                    <a:pt x="192" y="78"/>
                  </a:lnTo>
                  <a:lnTo>
                    <a:pt x="312" y="114"/>
                  </a:lnTo>
                  <a:lnTo>
                    <a:pt x="438" y="156"/>
                  </a:lnTo>
                  <a:lnTo>
                    <a:pt x="570" y="192"/>
                  </a:lnTo>
                  <a:lnTo>
                    <a:pt x="702" y="222"/>
                  </a:lnTo>
                  <a:lnTo>
                    <a:pt x="834" y="240"/>
                  </a:lnTo>
                  <a:lnTo>
                    <a:pt x="954" y="252"/>
                  </a:lnTo>
                  <a:lnTo>
                    <a:pt x="1086" y="240"/>
                  </a:lnTo>
                  <a:lnTo>
                    <a:pt x="1092" y="240"/>
                  </a:lnTo>
                  <a:lnTo>
                    <a:pt x="1236" y="222"/>
                  </a:lnTo>
                  <a:lnTo>
                    <a:pt x="1386" y="192"/>
                  </a:lnTo>
                  <a:lnTo>
                    <a:pt x="1530" y="150"/>
                  </a:lnTo>
                  <a:lnTo>
                    <a:pt x="1668" y="114"/>
                  </a:lnTo>
                  <a:lnTo>
                    <a:pt x="1794" y="72"/>
                  </a:lnTo>
                  <a:lnTo>
                    <a:pt x="1908" y="42"/>
                  </a:lnTo>
                  <a:lnTo>
                    <a:pt x="1956" y="24"/>
                  </a:lnTo>
                  <a:lnTo>
                    <a:pt x="1998" y="18"/>
                  </a:lnTo>
                  <a:lnTo>
                    <a:pt x="1998" y="0"/>
                  </a:lnTo>
                  <a:lnTo>
                    <a:pt x="1950" y="6"/>
                  </a:lnTo>
                  <a:lnTo>
                    <a:pt x="1902" y="24"/>
                  </a:lnTo>
                  <a:lnTo>
                    <a:pt x="1788" y="54"/>
                  </a:lnTo>
                  <a:lnTo>
                    <a:pt x="1662" y="96"/>
                  </a:lnTo>
                  <a:lnTo>
                    <a:pt x="1524" y="132"/>
                  </a:lnTo>
                  <a:lnTo>
                    <a:pt x="1380" y="174"/>
                  </a:lnTo>
                  <a:lnTo>
                    <a:pt x="1230" y="204"/>
                  </a:lnTo>
                  <a:lnTo>
                    <a:pt x="1086" y="222"/>
                  </a:lnTo>
                  <a:lnTo>
                    <a:pt x="1092" y="234"/>
                  </a:lnTo>
                  <a:lnTo>
                    <a:pt x="1092" y="222"/>
                  </a:lnTo>
                  <a:lnTo>
                    <a:pt x="954" y="234"/>
                  </a:lnTo>
                  <a:lnTo>
                    <a:pt x="840" y="222"/>
                  </a:lnTo>
                  <a:lnTo>
                    <a:pt x="708" y="204"/>
                  </a:lnTo>
                  <a:lnTo>
                    <a:pt x="576" y="174"/>
                  </a:lnTo>
                  <a:lnTo>
                    <a:pt x="444" y="138"/>
                  </a:lnTo>
                  <a:lnTo>
                    <a:pt x="318" y="96"/>
                  </a:lnTo>
                  <a:lnTo>
                    <a:pt x="198" y="60"/>
                  </a:lnTo>
                  <a:lnTo>
                    <a:pt x="9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589120" y="5146560"/>
              <a:ext cx="161640" cy="209520"/>
            </a:xfrm>
            <a:custGeom>
              <a:avLst/>
              <a:gdLst/>
              <a:ahLst/>
              <a:rect l="l" t="t" r="r" b="b"/>
              <a:pathLst>
                <a:path w="102" h="132">
                  <a:moveTo>
                    <a:pt x="102" y="0"/>
                  </a:moveTo>
                  <a:lnTo>
                    <a:pt x="0" y="42"/>
                  </a:lnTo>
                  <a:lnTo>
                    <a:pt x="60" y="13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2532240" y="4213080"/>
            <a:ext cx="3295080" cy="457200"/>
            <a:chOff x="2532240" y="4213080"/>
            <a:chExt cx="3295080" cy="457200"/>
          </a:xfrm>
        </p:grpSpPr>
        <p:sp>
          <p:nvSpPr>
            <p:cNvPr id="374" name=""/>
            <p:cNvSpPr/>
            <p:nvPr/>
          </p:nvSpPr>
          <p:spPr>
            <a:xfrm>
              <a:off x="2532240" y="4213080"/>
              <a:ext cx="3171600" cy="390600"/>
            </a:xfrm>
            <a:custGeom>
              <a:avLst/>
              <a:gdLst/>
              <a:ahLst/>
              <a:rect l="l" t="t" r="r" b="b"/>
              <a:pathLst>
                <a:path w="1998" h="246">
                  <a:moveTo>
                    <a:pt x="1992" y="234"/>
                  </a:moveTo>
                  <a:lnTo>
                    <a:pt x="1998" y="216"/>
                  </a:lnTo>
                  <a:lnTo>
                    <a:pt x="1908" y="186"/>
                  </a:lnTo>
                  <a:lnTo>
                    <a:pt x="1800" y="150"/>
                  </a:lnTo>
                  <a:lnTo>
                    <a:pt x="1686" y="114"/>
                  </a:lnTo>
                  <a:lnTo>
                    <a:pt x="1560" y="78"/>
                  </a:lnTo>
                  <a:lnTo>
                    <a:pt x="1428" y="48"/>
                  </a:lnTo>
                  <a:lnTo>
                    <a:pt x="1296" y="24"/>
                  </a:lnTo>
                  <a:lnTo>
                    <a:pt x="1170" y="6"/>
                  </a:lnTo>
                  <a:lnTo>
                    <a:pt x="1164" y="6"/>
                  </a:lnTo>
                  <a:lnTo>
                    <a:pt x="1050" y="0"/>
                  </a:lnTo>
                  <a:lnTo>
                    <a:pt x="912" y="6"/>
                  </a:lnTo>
                  <a:lnTo>
                    <a:pt x="768" y="24"/>
                  </a:lnTo>
                  <a:lnTo>
                    <a:pt x="618" y="54"/>
                  </a:lnTo>
                  <a:lnTo>
                    <a:pt x="474" y="96"/>
                  </a:lnTo>
                  <a:lnTo>
                    <a:pt x="330" y="132"/>
                  </a:lnTo>
                  <a:lnTo>
                    <a:pt x="204" y="168"/>
                  </a:lnTo>
                  <a:lnTo>
                    <a:pt x="90" y="204"/>
                  </a:lnTo>
                  <a:lnTo>
                    <a:pt x="42" y="216"/>
                  </a:lnTo>
                  <a:lnTo>
                    <a:pt x="0" y="228"/>
                  </a:lnTo>
                  <a:lnTo>
                    <a:pt x="0" y="246"/>
                  </a:lnTo>
                  <a:lnTo>
                    <a:pt x="48" y="234"/>
                  </a:lnTo>
                  <a:lnTo>
                    <a:pt x="96" y="222"/>
                  </a:lnTo>
                  <a:lnTo>
                    <a:pt x="210" y="186"/>
                  </a:lnTo>
                  <a:lnTo>
                    <a:pt x="336" y="150"/>
                  </a:lnTo>
                  <a:lnTo>
                    <a:pt x="480" y="114"/>
                  </a:lnTo>
                  <a:lnTo>
                    <a:pt x="624" y="72"/>
                  </a:lnTo>
                  <a:lnTo>
                    <a:pt x="774" y="42"/>
                  </a:lnTo>
                  <a:lnTo>
                    <a:pt x="918" y="24"/>
                  </a:lnTo>
                  <a:lnTo>
                    <a:pt x="1050" y="18"/>
                  </a:lnTo>
                  <a:lnTo>
                    <a:pt x="1170" y="24"/>
                  </a:lnTo>
                  <a:lnTo>
                    <a:pt x="1170" y="12"/>
                  </a:lnTo>
                  <a:lnTo>
                    <a:pt x="1164" y="24"/>
                  </a:lnTo>
                  <a:lnTo>
                    <a:pt x="1290" y="42"/>
                  </a:lnTo>
                  <a:lnTo>
                    <a:pt x="1422" y="66"/>
                  </a:lnTo>
                  <a:lnTo>
                    <a:pt x="1554" y="96"/>
                  </a:lnTo>
                  <a:lnTo>
                    <a:pt x="1680" y="132"/>
                  </a:lnTo>
                  <a:lnTo>
                    <a:pt x="1794" y="168"/>
                  </a:lnTo>
                  <a:lnTo>
                    <a:pt x="1902" y="204"/>
                  </a:lnTo>
                  <a:lnTo>
                    <a:pt x="1992" y="234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65680" y="4460760"/>
              <a:ext cx="161640" cy="209520"/>
            </a:xfrm>
            <a:custGeom>
              <a:avLst/>
              <a:gdLst/>
              <a:ahLst/>
              <a:rect l="l" t="t" r="r" b="b"/>
              <a:pathLst>
                <a:path w="102" h="132">
                  <a:moveTo>
                    <a:pt x="0" y="132"/>
                  </a:moveTo>
                  <a:lnTo>
                    <a:pt x="102" y="90"/>
                  </a:lnTo>
                  <a:lnTo>
                    <a:pt x="42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1341360" y="2097000"/>
            <a:ext cx="110484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560600" y="224964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0352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703520" y="229860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9440" y="317484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46840" y="336564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998800" y="319392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255840" y="3384720"/>
            <a:ext cx="23832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855960" y="535608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113360" y="554688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855960" y="409896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13360" y="4289400"/>
            <a:ext cx="2379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18120" y="4184640"/>
            <a:ext cx="3780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332400" y="2097000"/>
            <a:ext cx="110520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51640" y="221292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69456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94560" y="233532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204920" y="1144440"/>
            <a:ext cx="6102360" cy="819360"/>
            <a:chOff x="1204920" y="1144440"/>
            <a:chExt cx="6102360" cy="819360"/>
          </a:xfrm>
        </p:grpSpPr>
        <p:grpSp>
          <p:nvGrpSpPr>
            <p:cNvPr id="394" name=""/>
            <p:cNvGrpSpPr/>
            <p:nvPr/>
          </p:nvGrpSpPr>
          <p:grpSpPr>
            <a:xfrm>
              <a:off x="1204920" y="1144440"/>
              <a:ext cx="6094080" cy="809640"/>
              <a:chOff x="1204920" y="1144440"/>
              <a:chExt cx="6094080" cy="809640"/>
            </a:xfrm>
          </p:grpSpPr>
          <p:sp>
            <p:nvSpPr>
              <p:cNvPr id="395" name=""/>
              <p:cNvSpPr/>
              <p:nvPr/>
            </p:nvSpPr>
            <p:spPr>
              <a:xfrm>
                <a:off x="1204920" y="11444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204920" y="1154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204920" y="1173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1204920" y="11826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1204920" y="1192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04920" y="12114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1204920" y="12207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1204920" y="12304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204920" y="1249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204920" y="12589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204920" y="12682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1204920" y="1287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1204920" y="12970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204920" y="13064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204920" y="132552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204920" y="1335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1204920" y="13446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1204920" y="1363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204920" y="1373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1204920" y="1382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204920" y="1401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204920" y="1411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1204920" y="14209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204920" y="14400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1204920" y="1449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204920" y="14590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1204920" y="1477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204920" y="1487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204920" y="1496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204920" y="1515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204920" y="1525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204920" y="1535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204920" y="1544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204920" y="1563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1204920" y="15732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204920" y="15825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1204920" y="1601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204920" y="16113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204920" y="16207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204920" y="1639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204920" y="1649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204920" y="1658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204920" y="1677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1204920" y="1687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204920" y="16970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204920" y="1716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204920" y="172548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204920" y="17352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1204920" y="1754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1204920" y="1763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1204920" y="17733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204920" y="17924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1204920" y="18018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204920" y="1811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1204920" y="18302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204920" y="18399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204920" y="1849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204920" y="18684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204920" y="1878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204920" y="18874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204920" y="19065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204920" y="1916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204920" y="19256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204920" y="19447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81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" name=""/>
            <p:cNvSpPr/>
            <p:nvPr/>
          </p:nvSpPr>
          <p:spPr>
            <a:xfrm>
              <a:off x="1204920" y="1144440"/>
              <a:ext cx="6102360" cy="819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585800" y="1239840"/>
            <a:ext cx="6658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71480" y="1278000"/>
            <a:ext cx="6448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829520" y="1335240"/>
            <a:ext cx="484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ation of biodiversit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EFD6-E8C4-4840-9ADC-C0D21E3A24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09680" y="1339920"/>
            <a:ext cx="2361960" cy="45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1722600" y="1872720"/>
            <a:ext cx="1752480" cy="1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528920" y="1890720"/>
            <a:ext cx="1717560" cy="104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655200" y="18907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2400" y="265284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22800" y="2863800"/>
            <a:ext cx="554832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strategy (generalist vs. specialist): 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51000" y="3033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1000" y="335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74680" y="3719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551400" y="14922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627360" y="1949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3254400" y="3778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0" y="3778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"/>
          <p:cNvSpPr/>
          <p:nvPr/>
        </p:nvSpPr>
        <p:spPr>
          <a:xfrm>
            <a:off x="5684760" y="1703520"/>
            <a:ext cx="17528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51000" y="4159080"/>
            <a:ext cx="17524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= 0.4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9" name=""/>
          <p:cNvGraphicFramePr/>
          <p:nvPr/>
        </p:nvGraphicFramePr>
        <p:xfrm>
          <a:off x="6278400" y="3778200"/>
          <a:ext cx="2505240" cy="267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8400" y="3778200"/>
                    <a:ext cx="25052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1" name=""/>
          <p:cNvSpPr/>
          <p:nvPr/>
        </p:nvSpPr>
        <p:spPr>
          <a:xfrm>
            <a:off x="333216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37848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7574040" y="454032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757680" y="4292640"/>
            <a:ext cx="990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45120" y="3854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 &lt;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3F87-3E6E-4711-B7E3-91F38CE8BF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43"/>
          <p:cNvSpPr/>
          <p:nvPr/>
        </p:nvSpPr>
        <p:spPr>
          <a:xfrm>
            <a:off x="1038240" y="1438200"/>
            <a:ext cx="2457360" cy="459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46"/>
          <p:cNvSpPr/>
          <p:nvPr/>
        </p:nvSpPr>
        <p:spPr>
          <a:xfrm>
            <a:off x="5600880" y="1380960"/>
            <a:ext cx="2457360" cy="447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obrázek 48" descr=""/>
          <p:cNvPicPr/>
          <p:nvPr/>
        </p:nvPicPr>
        <p:blipFill>
          <a:blip r:embed="rId1"/>
          <a:stretch/>
        </p:blipFill>
        <p:spPr>
          <a:xfrm>
            <a:off x="447840" y="2143080"/>
            <a:ext cx="3666960" cy="258120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490" name="obrázek 49" descr=""/>
          <p:cNvPicPr/>
          <p:nvPr/>
        </p:nvPicPr>
        <p:blipFill>
          <a:blip r:embed="rId2"/>
          <a:stretch/>
        </p:blipFill>
        <p:spPr>
          <a:xfrm>
            <a:off x="4991040" y="2143080"/>
            <a:ext cx="3686400" cy="256212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491" name=""/>
          <p:cNvSpPr/>
          <p:nvPr/>
        </p:nvSpPr>
        <p:spPr>
          <a:xfrm>
            <a:off x="1009800" y="5084640"/>
            <a:ext cx="3047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ontrol site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124600" y="5084640"/>
            <a:ext cx="3047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olluted site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40B-B89F-46FB-A439-7DDABC01D7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Large scale study on sites I-V: life strategy of parasites as an important statifying factor (199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6248520" y="2419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419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228600" y="1893960"/>
          <a:ext cx="250524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89396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>
            <a:off x="179280" y="1160640"/>
            <a:ext cx="419904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1969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828800" y="522936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505320" y="1817640"/>
            <a:ext cx="259056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248520" y="1817640"/>
            <a:ext cx="251460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772400" y="356220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3505320" y="2411280"/>
          <a:ext cx="2590560" cy="267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411280"/>
                    <a:ext cx="259056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"/>
          <p:cNvSpPr/>
          <p:nvPr/>
        </p:nvSpPr>
        <p:spPr>
          <a:xfrm flipV="1">
            <a:off x="5048280" y="3714840"/>
            <a:ext cx="8380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419720" y="241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08000" y="5734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REASED ANTHROPOGENIC LOAD I = II &lt; III &lt; IV &lt;&lt;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6D10-A84D-4D5E-9E4A-D3D1C001C20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rcRect l="638" t="0" r="846" b="0"/>
          <a:stretch/>
        </p:blipFill>
        <p:spPr>
          <a:xfrm>
            <a:off x="108000" y="3933720"/>
            <a:ext cx="3984480" cy="218304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108000" y="119700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relatively sensitiv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203640" y="5300640"/>
            <a:ext cx="20574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f9e1f"/>
              </a:gs>
              <a:gs pos="50000">
                <a:srgbClr val="66ff33"/>
              </a:gs>
              <a:gs pos="100000">
                <a:srgbClr val="3f9e1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8000" y="206856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mited in sample size and in species ric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08000" y="2941560"/>
            <a:ext cx="341928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-indication with already standardize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3851280" y="1038240"/>
            <a:ext cx="2496960" cy="375912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3"/>
          <a:srcRect l="4344" t="3066" r="4396" b="3066"/>
          <a:stretch/>
        </p:blipFill>
        <p:spPr>
          <a:xfrm>
            <a:off x="6635880" y="1052640"/>
            <a:ext cx="2328840" cy="3124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 rot="19560600">
            <a:off x="3411360" y="372564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rot="19560600">
            <a:off x="6011640" y="1915920"/>
            <a:ext cx="880920" cy="720720"/>
          </a:xfrm>
          <a:prstGeom prst="rightArrow">
            <a:avLst>
              <a:gd name="adj1" fmla="val 50000"/>
              <a:gd name="adj2" fmla="val 30557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788000" y="4227480"/>
            <a:ext cx="16761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f9e1f"/>
              </a:gs>
              <a:gs pos="50000">
                <a:srgbClr val="66ff33"/>
              </a:gs>
              <a:gs pos="100000">
                <a:srgbClr val="3f9e1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445080" y="3284640"/>
            <a:ext cx="25909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3f9e1f"/>
              </a:gs>
              <a:gs pos="50000">
                <a:srgbClr val="66ff33"/>
              </a:gs>
              <a:gs pos="100000">
                <a:srgbClr val="3f9e1f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DF42-2B8A-48CC-888F-50CAB14BE5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s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7020000" y="1054080"/>
            <a:ext cx="1738080" cy="2616120"/>
          </a:xfrm>
          <a:prstGeom prst="rect">
            <a:avLst/>
          </a:prstGeom>
          <a:ln w="0">
            <a:noFill/>
          </a:ln>
        </p:spPr>
      </p:pic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504960" cy="19447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 rot="20626200">
            <a:off x="1382760" y="1287360"/>
            <a:ext cx="838080" cy="45720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152800" y="1341360"/>
            <a:ext cx="18288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467000" y="1722600"/>
            <a:ext cx="243828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348000" y="3141720"/>
            <a:ext cx="4540320" cy="882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large scale survey of 150 sites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ur imission load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-181080" y="3860640"/>
          <a:ext cx="3870360" cy="23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1080" y="3860640"/>
                    <a:ext cx="38703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3564000" y="4438800"/>
            <a:ext cx="5256000" cy="4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. Low (&lt; 5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564000" y="4915080"/>
            <a:ext cx="5256000" cy="405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. Medium (50 - 7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564000" y="5392800"/>
            <a:ext cx="5256000" cy="405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I. Increased (70 - 10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64000" y="5870520"/>
            <a:ext cx="5256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Class IV. 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24360" y="1268280"/>
            <a:ext cx="28195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cid imissions, dust, N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As, Fe, 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81560" y="20304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91C0-D318-439F-8C28-0F0613A850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79280" y="1125360"/>
            <a:ext cx="28162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971640" y="1700280"/>
            <a:ext cx="957240" cy="861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826920" y="1700280"/>
            <a:ext cx="741600" cy="20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58920" y="241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ac1"/>
              </a:gs>
              <a:gs pos="50000">
                <a:srgbClr val="00ccff"/>
              </a:gs>
              <a:gs pos="100000">
                <a:srgbClr val="009a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5148360" y="1371600"/>
          <a:ext cx="32828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371600"/>
                    <a:ext cx="3282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"/>
          <p:cNvSpPr/>
          <p:nvPr/>
        </p:nvSpPr>
        <p:spPr>
          <a:xfrm>
            <a:off x="6740640" y="1752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p = 0.0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588000" y="1371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54200" y="385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ac1"/>
              </a:gs>
              <a:gs pos="50000">
                <a:srgbClr val="00ccff"/>
              </a:gs>
              <a:gs pos="100000">
                <a:srgbClr val="009a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84360" y="1700280"/>
            <a:ext cx="307800" cy="323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841320" y="5083200"/>
            <a:ext cx="2743200" cy="368280"/>
          </a:xfrm>
          <a:prstGeom prst="rect">
            <a:avLst/>
          </a:prstGeom>
          <a:gradFill rotWithShape="0">
            <a:gsLst>
              <a:gs pos="0">
                <a:srgbClr val="009ac1"/>
              </a:gs>
              <a:gs pos="50000">
                <a:srgbClr val="00ccff"/>
              </a:gs>
              <a:gs pos="100000">
                <a:srgbClr val="009ac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217600" y="2851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rustose, foliose, fruti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015920" y="5443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015920" y="5808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641600" y="421956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raxinus, Tilia, Quercus, Acer, Aes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543640" y="501336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15040" y="531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CREASING IMISSION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084720" y="163836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524720" y="2876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439B-746B-4604-860F-8B3ABB66A8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6019920" y="2724120"/>
          <a:ext cx="250488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724120"/>
                    <a:ext cx="25048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9" name=""/>
          <p:cNvSpPr/>
          <p:nvPr/>
        </p:nvSpPr>
        <p:spPr>
          <a:xfrm>
            <a:off x="228600" y="1295280"/>
            <a:ext cx="2819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85800" y="2438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868400" y="542448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492360" y="1844640"/>
            <a:ext cx="2590920" cy="6476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78480" y="1844640"/>
            <a:ext cx="2514600" cy="64764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391520" y="356220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"/>
          <p:cNvGraphicFramePr/>
          <p:nvPr/>
        </p:nvGraphicFramePr>
        <p:xfrm>
          <a:off x="3276720" y="2708280"/>
          <a:ext cx="259056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708280"/>
                    <a:ext cx="259056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"/>
          <p:cNvSpPr/>
          <p:nvPr/>
        </p:nvSpPr>
        <p:spPr>
          <a:xfrm>
            <a:off x="392436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77920" y="5877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REASING IMISSION LOAD I &lt; II &lt; III &lt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20800" y="2066760"/>
            <a:ext cx="1895400" cy="2332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1198440" y="2474640"/>
            <a:ext cx="1800" cy="1136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084320" y="3611520"/>
            <a:ext cx="2286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084320" y="2475000"/>
            <a:ext cx="2286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V="1">
            <a:off x="1581120" y="3112560"/>
            <a:ext cx="1440" cy="7858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467000" y="389880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467000" y="311292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1963800" y="3371760"/>
            <a:ext cx="1440" cy="7207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849320" y="409248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849320" y="337176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2346480" y="3516120"/>
            <a:ext cx="1440" cy="6966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232000" y="421308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232000" y="3516480"/>
            <a:ext cx="23004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155600" y="313704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74680" y="315612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538280" y="3433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557360" y="3452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20960" y="3757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940040" y="3776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303640" y="394020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322360" y="3959280"/>
            <a:ext cx="414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816120" y="2071800"/>
            <a:ext cx="1440" cy="23320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795240" y="441324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795240" y="382572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795240" y="323676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795240" y="264960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795240" y="206208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6720" y="427500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6720" y="368604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6720" y="309888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6720" y="251136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59840" y="19224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25480" y="4413240"/>
            <a:ext cx="18954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816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1198440" y="4392360"/>
            <a:ext cx="180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1581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19638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234648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27306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164600" y="4460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513800" y="44607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862640" y="4460760"/>
            <a:ext cx="19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236320" y="4460760"/>
            <a:ext cx="2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339920" y="2182680"/>
            <a:ext cx="167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747440" y="2232000"/>
            <a:ext cx="85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3366"/>
                </a:solidFill>
                <a:latin typeface="Times New Roman"/>
              </a:rPr>
              <a:t>(p = 0.04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11400" y="1860480"/>
            <a:ext cx="1609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632240" y="1917720"/>
            <a:ext cx="109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 stat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968400" y="2085840"/>
            <a:ext cx="450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098360" y="214308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128680" y="3133800"/>
            <a:ext cx="451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257200" y="318924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80400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06D3-EDF2-4B80-9008-78BD15BB45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1127160" y="1197000"/>
            <a:ext cx="2474640" cy="517320"/>
            <a:chOff x="1127160" y="1197000"/>
            <a:chExt cx="2474640" cy="517320"/>
          </a:xfrm>
        </p:grpSpPr>
        <p:grpSp>
          <p:nvGrpSpPr>
            <p:cNvPr id="623" name=""/>
            <p:cNvGrpSpPr/>
            <p:nvPr/>
          </p:nvGrpSpPr>
          <p:grpSpPr>
            <a:xfrm>
              <a:off x="1127160" y="1197000"/>
              <a:ext cx="2463840" cy="504720"/>
              <a:chOff x="1127160" y="1197000"/>
              <a:chExt cx="2463840" cy="504720"/>
            </a:xfrm>
          </p:grpSpPr>
          <p:sp>
            <p:nvSpPr>
              <p:cNvPr id="624" name=""/>
              <p:cNvSpPr/>
              <p:nvPr/>
            </p:nvSpPr>
            <p:spPr>
              <a:xfrm>
                <a:off x="112716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12716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12716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12716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12716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12716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12716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12716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12716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12716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12716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12716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12716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12716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12716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12716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12716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12716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12716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12716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12716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12716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112716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12716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12716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12716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12716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12716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12716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12716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12716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112716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"/>
            <p:cNvSpPr/>
            <p:nvPr/>
          </p:nvSpPr>
          <p:spPr>
            <a:xfrm>
              <a:off x="112716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022640" y="3483000"/>
            <a:ext cx="1221840" cy="1114560"/>
            <a:chOff x="4022640" y="3483000"/>
            <a:chExt cx="1221840" cy="1114560"/>
          </a:xfrm>
        </p:grpSpPr>
        <p:grpSp>
          <p:nvGrpSpPr>
            <p:cNvPr id="658" name=""/>
            <p:cNvGrpSpPr/>
            <p:nvPr/>
          </p:nvGrpSpPr>
          <p:grpSpPr>
            <a:xfrm>
              <a:off x="4022640" y="3483000"/>
              <a:ext cx="1221840" cy="1114560"/>
              <a:chOff x="4022640" y="3483000"/>
              <a:chExt cx="1221840" cy="1114560"/>
            </a:xfrm>
          </p:grpSpPr>
          <p:pic>
            <p:nvPicPr>
              <p:cNvPr id="65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"/>
              <p:cNvSpPr/>
              <p:nvPr/>
            </p:nvSpPr>
            <p:spPr>
              <a:xfrm>
                <a:off x="4022640" y="3483000"/>
                <a:ext cx="1200600" cy="1095480"/>
              </a:xfrm>
              <a:custGeom>
                <a:avLst/>
                <a:gdLst/>
                <a:ahLst/>
                <a:rect l="l" t="t" r="r" b="b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022640" y="3483000"/>
                <a:ext cx="1211400" cy="1105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63" name=""/>
            <p:cNvSpPr/>
            <p:nvPr/>
          </p:nvSpPr>
          <p:spPr>
            <a:xfrm>
              <a:off x="4022640" y="3483000"/>
              <a:ext cx="1211760" cy="110520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5565600" y="1197000"/>
            <a:ext cx="2474640" cy="517320"/>
            <a:chOff x="5565600" y="1197000"/>
            <a:chExt cx="2474640" cy="517320"/>
          </a:xfrm>
        </p:grpSpPr>
        <p:grpSp>
          <p:nvGrpSpPr>
            <p:cNvPr id="665" name=""/>
            <p:cNvGrpSpPr/>
            <p:nvPr/>
          </p:nvGrpSpPr>
          <p:grpSpPr>
            <a:xfrm>
              <a:off x="5565600" y="1197000"/>
              <a:ext cx="2463840" cy="504720"/>
              <a:chOff x="5565600" y="1197000"/>
              <a:chExt cx="2463840" cy="504720"/>
            </a:xfrm>
          </p:grpSpPr>
          <p:sp>
            <p:nvSpPr>
              <p:cNvPr id="666" name=""/>
              <p:cNvSpPr/>
              <p:nvPr/>
            </p:nvSpPr>
            <p:spPr>
              <a:xfrm>
                <a:off x="556560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56560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56560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56560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56560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56560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56560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56560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56560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56560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56560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56560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56560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56560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56560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6560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6560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56560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56560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56560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56560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56560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6560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56560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56560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56560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56560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56560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556560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56560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56560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56560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"/>
            <p:cNvSpPr/>
            <p:nvPr/>
          </p:nvSpPr>
          <p:spPr>
            <a:xfrm>
              <a:off x="556560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5836680" y="1225440"/>
            <a:ext cx="201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208160" y="1273320"/>
            <a:ext cx="235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t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4451400" y="1628640"/>
            <a:ext cx="493200" cy="1247760"/>
            <a:chOff x="4451400" y="1628640"/>
            <a:chExt cx="493200" cy="1247760"/>
          </a:xfrm>
        </p:grpSpPr>
        <p:sp>
          <p:nvSpPr>
            <p:cNvPr id="702" name=""/>
            <p:cNvSpPr/>
            <p:nvPr/>
          </p:nvSpPr>
          <p:spPr>
            <a:xfrm>
              <a:off x="4451400" y="162864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483080" y="254304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4" name=""/>
          <p:cNvSpPr/>
          <p:nvPr/>
        </p:nvSpPr>
        <p:spPr>
          <a:xfrm>
            <a:off x="137304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897200" y="1881360"/>
            <a:ext cx="25704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42244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94948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473280" y="1881360"/>
            <a:ext cx="257400" cy="199800"/>
          </a:xfrm>
          <a:custGeom>
            <a:avLst/>
            <a:gdLst/>
            <a:ahLst/>
            <a:rect l="l" t="t" r="r" b="b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349960" y="1881360"/>
            <a:ext cx="24444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73760" y="1881360"/>
            <a:ext cx="24768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97560" y="1881360"/>
            <a:ext cx="24768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923160" y="1881360"/>
            <a:ext cx="24588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450200" y="1881360"/>
            <a:ext cx="244440" cy="199800"/>
          </a:xfrm>
          <a:custGeom>
            <a:avLst/>
            <a:gdLst/>
            <a:ahLst/>
            <a:rect l="l" t="t" r="r" b="b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22440" y="2919240"/>
            <a:ext cx="4694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59240" y="2589120"/>
            <a:ext cx="2820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IOINDICATION  OF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997440" y="2924280"/>
            <a:ext cx="15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879800" y="3254400"/>
            <a:ext cx="37292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5677560" y="3429000"/>
            <a:ext cx="328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 REAL  ECO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017960" y="3959280"/>
            <a:ext cx="103824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299840" y="349416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1793880" y="3178080"/>
            <a:ext cx="407520" cy="1095480"/>
            <a:chOff x="1793880" y="3178080"/>
            <a:chExt cx="407520" cy="1095480"/>
          </a:xfrm>
        </p:grpSpPr>
        <p:sp>
          <p:nvSpPr>
            <p:cNvPr id="722" name=""/>
            <p:cNvSpPr/>
            <p:nvPr/>
          </p:nvSpPr>
          <p:spPr>
            <a:xfrm>
              <a:off x="1868760" y="3178080"/>
              <a:ext cx="332640" cy="990720"/>
            </a:xfrm>
            <a:custGeom>
              <a:avLst/>
              <a:gdLst/>
              <a:ahLst/>
              <a:rect l="l" t="t" r="r" b="b"/>
              <a:pathLst>
                <a:path w="186" h="624">
                  <a:moveTo>
                    <a:pt x="186" y="6"/>
                  </a:moveTo>
                  <a:lnTo>
                    <a:pt x="168" y="0"/>
                  </a:lnTo>
                  <a:lnTo>
                    <a:pt x="0" y="618"/>
                  </a:lnTo>
                  <a:lnTo>
                    <a:pt x="18" y="624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93880" y="4111560"/>
              <a:ext cx="160920" cy="162000"/>
            </a:xfrm>
            <a:custGeom>
              <a:avLst/>
              <a:gdLst/>
              <a:ahLst/>
              <a:rect l="l" t="t" r="r" b="b"/>
              <a:pathLst>
                <a:path w="90" h="102">
                  <a:moveTo>
                    <a:pt x="0" y="0"/>
                  </a:moveTo>
                  <a:lnTo>
                    <a:pt x="24" y="102"/>
                  </a:lnTo>
                  <a:lnTo>
                    <a:pt x="9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644400" y="4245120"/>
            <a:ext cx="31924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-38880" y="4672080"/>
            <a:ext cx="424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logically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411880" y="4424400"/>
            <a:ext cx="3740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477120" y="3940200"/>
            <a:ext cx="288360" cy="809640"/>
            <a:chOff x="6477120" y="3940200"/>
            <a:chExt cx="288360" cy="809640"/>
          </a:xfrm>
        </p:grpSpPr>
        <p:sp>
          <p:nvSpPr>
            <p:cNvPr id="728" name=""/>
            <p:cNvSpPr/>
            <p:nvPr/>
          </p:nvSpPr>
          <p:spPr>
            <a:xfrm>
              <a:off x="6477120" y="3940200"/>
              <a:ext cx="235080" cy="704880"/>
            </a:xfrm>
            <a:custGeom>
              <a:avLst/>
              <a:gdLst/>
              <a:ahLst/>
              <a:rect l="l" t="t" r="r" b="b"/>
              <a:pathLst>
                <a:path w="132" h="444">
                  <a:moveTo>
                    <a:pt x="18" y="0"/>
                  </a:moveTo>
                  <a:lnTo>
                    <a:pt x="0" y="6"/>
                  </a:lnTo>
                  <a:lnTo>
                    <a:pt x="114" y="444"/>
                  </a:lnTo>
                  <a:lnTo>
                    <a:pt x="132" y="4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605640" y="4597560"/>
              <a:ext cx="15984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0" y="24"/>
                  </a:moveTo>
                  <a:lnTo>
                    <a:pt x="72" y="96"/>
                  </a:lnTo>
                  <a:lnTo>
                    <a:pt x="9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"/>
          <p:cNvSpPr/>
          <p:nvPr/>
        </p:nvSpPr>
        <p:spPr>
          <a:xfrm>
            <a:off x="287280" y="5006880"/>
            <a:ext cx="3699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ion of complex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sensitive, early w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or with long-ter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226560" y="4930920"/>
            <a:ext cx="2247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625320" y="2997360"/>
            <a:ext cx="8379000" cy="806400"/>
          </a:xfrm>
          <a:custGeom>
            <a:avLst/>
            <a:gdLst/>
            <a:ahLst/>
            <a:rect l="l" t="t" r="r" b="b"/>
            <a:pathLst>
              <a:path w="5278" h="508">
                <a:moveTo>
                  <a:pt x="0" y="13"/>
                </a:moveTo>
                <a:lnTo>
                  <a:pt x="2015" y="0"/>
                </a:lnTo>
                <a:lnTo>
                  <a:pt x="2015" y="240"/>
                </a:lnTo>
                <a:lnTo>
                  <a:pt x="3100" y="249"/>
                </a:lnTo>
                <a:lnTo>
                  <a:pt x="3100" y="508"/>
                </a:lnTo>
                <a:lnTo>
                  <a:pt x="5278" y="508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075C-D30D-4334-9844-BC330DCB35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iodiversity as end-point of ecological stud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066680" y="1294920"/>
            <a:ext cx="510552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07880" y="4700520"/>
            <a:ext cx="1760760" cy="1332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rcRect l="0" t="0" r="0" b="7777"/>
          <a:stretch/>
        </p:blipFill>
        <p:spPr>
          <a:xfrm>
            <a:off x="6227640" y="1598760"/>
            <a:ext cx="2438640" cy="1685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2376360" y="3297240"/>
            <a:ext cx="1814760" cy="26082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95280" y="42210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76360" y="2781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g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303960" y="10746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rcRect l="4344" t="3066" r="4396" b="3066"/>
          <a:stretch/>
        </p:blipFill>
        <p:spPr>
          <a:xfrm>
            <a:off x="4316400" y="2306520"/>
            <a:ext cx="170352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235400" y="1773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2520" y="1341360"/>
            <a:ext cx="34221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odiversity is on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most complex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“integrating  endpoint“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010280" y="3886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10280" y="53341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011640" y="5334120"/>
            <a:ext cx="998280" cy="66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18560" y="548640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ime fluc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1840" y="6165720"/>
            <a:ext cx="22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ace heter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76240" y="3581280"/>
            <a:ext cx="158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tural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ADF1-3DFA-4B9A-AB4B-000E4F44659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24000" y="1052640"/>
            <a:ext cx="8512200" cy="1275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mmunity must be stratif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 order to reach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environmentally reasonabl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ensitivity, mechanisms of influence, exposure pathw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340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599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681984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340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op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599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/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81984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38240" y="2573280"/>
            <a:ext cx="2057400" cy="703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340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599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681984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340000" y="460044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599000" y="45910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rowth ra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819840" y="458136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16080" y="5334120"/>
            <a:ext cx="853416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OINDICATIVE COMPONENTS ARE NECESSARY FOR EFFECTIVE MONITORING PLANS OR ECOLOGICAL RISK ASSESSMEN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H="1" rot="10800000">
            <a:off x="971640" y="3500280"/>
            <a:ext cx="792000" cy="936720"/>
          </a:xfrm>
          <a:custGeom>
            <a:avLst/>
            <a:gdLst>
              <a:gd name="textAreaLeft" fmla="*/ 360 w 792000"/>
              <a:gd name="textAreaRight" fmla="*/ 792720 w 79200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8305-078A-460E-A4C3-4716497F55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diversity could be computed and statistically  analy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measures could be related to anthropogenic load of ecosystems and thus utilized in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attern of diversity measures under stress conditions is similar even in communities of very different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of analysis is improved when meaningful subsets of whole community are used; definition of relevant groups is crucial for utilization of biodiversity data in risk assess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3780000" y="3933720"/>
            <a:ext cx="1441440" cy="7905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68360" y="4941720"/>
            <a:ext cx="8064360" cy="1008720"/>
          </a:xfrm>
          <a:prstGeom prst="rect">
            <a:avLst/>
          </a:prstGeom>
          <a:gradFill rotWithShape="0">
            <a:gsLst>
              <a:gs pos="0">
                <a:srgbClr val="754600"/>
              </a:gs>
              <a:gs pos="50000">
                <a:srgbClr val="ff9900"/>
              </a:gs>
              <a:gs pos="100000">
                <a:srgbClr val="7546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ity measures are parameterized and suitable for risk and environmental quality assessment, i.e. also for macrozoobentho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132-DD46-4C48-9E56-9882B92CC5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cknowledg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834920" y="2349000"/>
            <a:ext cx="5761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lan Gelnar (fish paras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tr Anděl (li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roslav Machala (environmental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van Holoub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A106-D78C-4684-8184-0C4F721806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we able to analyse and communicate biodiversity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8600" y="2060640"/>
            <a:ext cx="1841400" cy="268596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pic>
        <p:nvPicPr>
          <p:cNvPr id="111" name="" descr="U cesty - větší formát"/>
          <p:cNvPicPr/>
          <p:nvPr/>
        </p:nvPicPr>
        <p:blipFill>
          <a:blip r:embed="rId2"/>
          <a:stretch/>
        </p:blipFill>
        <p:spPr>
          <a:xfrm>
            <a:off x="755640" y="3203640"/>
            <a:ext cx="1846440" cy="249228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179280" y="1268280"/>
            <a:ext cx="28958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esthetic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33920" y="1268280"/>
            <a:ext cx="49528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arametrically standardized end-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246480" y="3600360"/>
          <a:ext cx="3341520" cy="22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6480" y="3600360"/>
                    <a:ext cx="33415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287960" y="60451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51400" y="6043680"/>
            <a:ext cx="1446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7104240" y="1916280"/>
            <a:ext cx="0" cy="4465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104240" y="4481640"/>
            <a:ext cx="1933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45000" y="5197320"/>
            <a:ext cx="43200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596736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00720" y="3828960"/>
            <a:ext cx="43164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27520" y="437040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5000760"/>
            <a:ext cx="43200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421080" y="339732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01000" y="5764320"/>
            <a:ext cx="2025360" cy="7488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iv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ich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101000" y="4713120"/>
            <a:ext cx="2025360" cy="604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ity ind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01000" y="345456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04240" y="3260880"/>
            <a:ext cx="1860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04240" y="5553000"/>
            <a:ext cx="1933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88000" y="55656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4527720"/>
            <a:ext cx="430200" cy="41400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588000" y="414648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88000" y="21510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88000" y="330192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64360" y="27399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164360" y="40053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508644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01000" y="215748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he-oriented   mod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73360" y="2708280"/>
            <a:ext cx="272736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-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16200000">
            <a:off x="2293920" y="44827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of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0800000">
            <a:off x="5508720" y="3573000"/>
            <a:ext cx="792000" cy="792360"/>
          </a:xfrm>
          <a:custGeom>
            <a:avLst/>
            <a:gdLst>
              <a:gd name="textAreaLeft" fmla="*/ 227160 w 792000"/>
              <a:gd name="textAreaRight" fmla="*/ 678600 w 792000"/>
              <a:gd name="textAreaTop" fmla="*/ 456480 h 792360"/>
              <a:gd name="textAreaBottom" fmla="*/ 678600 h 7923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66768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0B38-7C74-41A9-8FC4-01B6F40E77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ss influence and diversity structure of biological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85480" y="2001600"/>
            <a:ext cx="22496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. of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92360" y="1066680"/>
          <a:ext cx="38466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66680"/>
                    <a:ext cx="38466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156360" y="1082520"/>
          <a:ext cx="2543040" cy="16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0825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443640" y="4476600"/>
          <a:ext cx="2543040" cy="16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447660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299880" y="4065480"/>
          <a:ext cx="2543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880" y="4065480"/>
                    <a:ext cx="2543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5724360" y="2997360"/>
            <a:ext cx="22590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4133880" y="3573360"/>
            <a:ext cx="493200" cy="1247760"/>
            <a:chOff x="4133880" y="3573360"/>
            <a:chExt cx="493200" cy="1247760"/>
          </a:xfrm>
        </p:grpSpPr>
        <p:sp>
          <p:nvSpPr>
            <p:cNvPr id="155" name=""/>
            <p:cNvSpPr/>
            <p:nvPr/>
          </p:nvSpPr>
          <p:spPr>
            <a:xfrm>
              <a:off x="4133880" y="357336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65560" y="448776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355400" y="3343320"/>
            <a:ext cx="1150200" cy="1187640"/>
            <a:chOff x="1355400" y="3343320"/>
            <a:chExt cx="1150200" cy="1187640"/>
          </a:xfrm>
        </p:grpSpPr>
        <p:sp>
          <p:nvSpPr>
            <p:cNvPr id="158" name=""/>
            <p:cNvSpPr/>
            <p:nvPr/>
          </p:nvSpPr>
          <p:spPr>
            <a:xfrm rot="2373000">
              <a:off x="1738080" y="3381480"/>
              <a:ext cx="49356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373000">
              <a:off x="1424520" y="4132800"/>
              <a:ext cx="32220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670000" y="3610440"/>
            <a:ext cx="1275840" cy="966240"/>
            <a:chOff x="5670000" y="3610440"/>
            <a:chExt cx="1275840" cy="966240"/>
          </a:xfrm>
        </p:grpSpPr>
        <p:sp>
          <p:nvSpPr>
            <p:cNvPr id="161" name=""/>
            <p:cNvSpPr/>
            <p:nvPr/>
          </p:nvSpPr>
          <p:spPr>
            <a:xfrm rot="17776800">
              <a:off x="5997600" y="3542040"/>
              <a:ext cx="49356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17776800">
              <a:off x="6563520" y="4191480"/>
              <a:ext cx="32220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763520" y="1563120"/>
            <a:ext cx="1278000" cy="1026000"/>
            <a:chOff x="4763520" y="1563120"/>
            <a:chExt cx="1278000" cy="1026000"/>
          </a:xfrm>
        </p:grpSpPr>
        <p:sp>
          <p:nvSpPr>
            <p:cNvPr id="164" name=""/>
            <p:cNvSpPr/>
            <p:nvPr/>
          </p:nvSpPr>
          <p:spPr>
            <a:xfrm rot="14011200">
              <a:off x="5081040" y="156276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4011200">
              <a:off x="5650560" y="162468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6" name=""/>
          <p:cNvGraphicFramePr/>
          <p:nvPr/>
        </p:nvGraphicFramePr>
        <p:xfrm>
          <a:off x="3419640" y="4365720"/>
          <a:ext cx="2543040" cy="164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3657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3687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3220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35200" y="6093000"/>
            <a:ext cx="52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abundance profiles description – many indices measuring different aspects of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6C87-7088-48E7-AB84-4CA2EC5C02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0" t="0" r="0" b="7777"/>
          <a:stretch/>
        </p:blipFill>
        <p:spPr>
          <a:xfrm>
            <a:off x="6162840" y="2286000"/>
            <a:ext cx="2133360" cy="1474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705640" y="2448000"/>
            <a:ext cx="15444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rcRect l="4344" t="3066" r="4396" b="3066"/>
          <a:stretch/>
        </p:blipFill>
        <p:spPr>
          <a:xfrm>
            <a:off x="6772320" y="4294080"/>
            <a:ext cx="1533600" cy="2057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5867280" y="452268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268280"/>
            <a:ext cx="8077320" cy="61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odiversity is frequently reported as too heterogeneous and  complex measure for exact risk assessment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997680" y="3408480"/>
            <a:ext cx="1221840" cy="1114200"/>
            <a:chOff x="6997680" y="3408480"/>
            <a:chExt cx="1221840" cy="1114200"/>
          </a:xfrm>
        </p:grpSpPr>
        <p:grpSp>
          <p:nvGrpSpPr>
            <p:cNvPr id="177" name=""/>
            <p:cNvGrpSpPr/>
            <p:nvPr/>
          </p:nvGrpSpPr>
          <p:grpSpPr>
            <a:xfrm>
              <a:off x="6997680" y="3408480"/>
              <a:ext cx="1221840" cy="1114200"/>
              <a:chOff x="6997680" y="3408480"/>
              <a:chExt cx="1221840" cy="1114200"/>
            </a:xfrm>
          </p:grpSpPr>
          <p:pic>
            <p:nvPicPr>
              <p:cNvPr id="17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6997680" y="3408480"/>
                <a:ext cx="1200600" cy="1095120"/>
              </a:xfrm>
              <a:custGeom>
                <a:avLst/>
                <a:gdLst/>
                <a:ahLst/>
                <a:rect l="l" t="t" r="r" b="b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997680" y="3408480"/>
                <a:ext cx="1211400" cy="110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8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2" name=""/>
            <p:cNvSpPr/>
            <p:nvPr/>
          </p:nvSpPr>
          <p:spPr>
            <a:xfrm>
              <a:off x="6997680" y="3408480"/>
              <a:ext cx="1211760" cy="110484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7355880" y="341964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227664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ses of the whole communities are rather inconclusive due to  heterogeneou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5280" y="357192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find sufficiently sensitive parts (BIOINDICATIVE COMPONENTS) in different biological communiti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869000"/>
            <a:ext cx="468144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statistically analyse biodiversity of such relatively small sampl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IMS OF THE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1CC3-3C9A-4813-959A-D72A1BAFF64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568680" cy="15415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3570480" cy="15415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of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blem: strongly decreases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284720" y="2924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284720" y="1916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763640" y="2217600"/>
            <a:ext cx="2592360" cy="10670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8921880" y="285264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850240" y="112536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0" y="3645000"/>
            <a:ext cx="871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lysis of species abund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chastic 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79280" y="4508640"/>
          <a:ext cx="2179800" cy="175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508640"/>
                    <a:ext cx="217980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172600" y="4514040"/>
            <a:ext cx="1278000" cy="1026720"/>
            <a:chOff x="2172600" y="4514040"/>
            <a:chExt cx="1278000" cy="1026720"/>
          </a:xfrm>
        </p:grpSpPr>
        <p:sp>
          <p:nvSpPr>
            <p:cNvPr id="201" name=""/>
            <p:cNvSpPr/>
            <p:nvPr/>
          </p:nvSpPr>
          <p:spPr>
            <a:xfrm rot="14011200">
              <a:off x="2489760" y="4514400"/>
              <a:ext cx="49356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rot="14011200">
              <a:off x="3059280" y="4575600"/>
              <a:ext cx="32220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077920" y="5402880"/>
            <a:ext cx="1295280" cy="837000"/>
            <a:chOff x="2077920" y="5402880"/>
            <a:chExt cx="1295280" cy="837000"/>
          </a:xfrm>
        </p:grpSpPr>
        <p:sp>
          <p:nvSpPr>
            <p:cNvPr id="204" name=""/>
            <p:cNvSpPr/>
            <p:nvPr/>
          </p:nvSpPr>
          <p:spPr>
            <a:xfrm rot="17321400">
              <a:off x="2401920" y="5283720"/>
              <a:ext cx="493200" cy="1038240"/>
            </a:xfrm>
            <a:custGeom>
              <a:avLst/>
              <a:gdLst/>
              <a:ahLst/>
              <a:rect l="l" t="t" r="r" b="b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7321400">
              <a:off x="3002400" y="5866920"/>
              <a:ext cx="321840" cy="333360"/>
            </a:xfrm>
            <a:custGeom>
              <a:avLst/>
              <a:gdLst/>
              <a:ahLst/>
              <a:rect l="l" t="t" r="r" b="b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6" name=""/>
          <p:cNvGraphicFramePr/>
          <p:nvPr/>
        </p:nvGraphicFramePr>
        <p:xfrm>
          <a:off x="3419640" y="4365720"/>
          <a:ext cx="1301760" cy="104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436572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3419640" y="5661000"/>
          <a:ext cx="1301760" cy="1047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566100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4788000" y="4892760"/>
            <a:ext cx="4211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asure of species abundace profile s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lated to conventional diversity indices (Shann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ce distribution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tatistic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1887-36E6-4958-8B13-6D5D72AE90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Multicellular parasites of fresh water fis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ase studies on chub (Leuciscus cephalus L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429000" y="1447920"/>
            <a:ext cx="3657600" cy="2800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28600" y="112536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 at the top of trophic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378560" y="1109520"/>
            <a:ext cx="1689120" cy="2463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221000"/>
            <a:ext cx="3828960" cy="20005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203640" y="580536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6a8"/>
              </a:gs>
              <a:gs pos="50000">
                <a:srgbClr val="99ccff"/>
              </a:gs>
              <a:gs pos="100000">
                <a:srgbClr val="6586a8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393372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6a8"/>
              </a:gs>
              <a:gs pos="50000">
                <a:srgbClr val="99ccff"/>
              </a:gs>
              <a:gs pos="100000">
                <a:srgbClr val="6586a8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692000" y="4508640"/>
            <a:ext cx="142920" cy="936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2484000" y="5516640"/>
            <a:ext cx="647640" cy="4334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62000" y="198900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ry complex taxonomic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59200" y="4869000"/>
            <a:ext cx="18288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52280" y="2979720"/>
            <a:ext cx="349596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 of practical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77040" y="3213000"/>
            <a:ext cx="27669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1413000"/>
            <a:ext cx="16765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3a821"/>
              </a:gs>
              <a:gs pos="50000">
                <a:srgbClr val="66ff33"/>
              </a:gs>
              <a:gs pos="100000">
                <a:srgbClr val="43a821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3c98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8814200">
            <a:off x="3202200" y="381240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8814200">
            <a:off x="6805440" y="1583640"/>
            <a:ext cx="863640" cy="720720"/>
          </a:xfrm>
          <a:prstGeom prst="rightArrow">
            <a:avLst>
              <a:gd name="adj1" fmla="val 50000"/>
              <a:gd name="adj2" fmla="val 29958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26200" y="4797360"/>
            <a:ext cx="36385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elnar et al., Parasitologia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ušek et al, Int. J. Parasitol.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A704-3AED-4AA3-AB70-D1248253471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201600" y="1000080"/>
            <a:ext cx="3989520" cy="221292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9360" y="3243240"/>
          <a:ext cx="5770800" cy="360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60" y="3243240"/>
                    <a:ext cx="5770800" cy="36021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 flipH="1">
            <a:off x="2426760" y="2852640"/>
            <a:ext cx="4449960" cy="56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341160" y="2997360"/>
            <a:ext cx="3606840" cy="1562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1512720" y="4787640"/>
            <a:ext cx="4648320" cy="6094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3341520" y="4635360"/>
            <a:ext cx="2819520" cy="6098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 flipV="1">
            <a:off x="2731680" y="3720960"/>
            <a:ext cx="3429000" cy="14479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417480" y="3789360"/>
            <a:ext cx="2809800" cy="770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579400" y="3933720"/>
            <a:ext cx="3647880" cy="1692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3493800" y="2924280"/>
            <a:ext cx="3382920" cy="56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16360" y="1085760"/>
            <a:ext cx="4203720" cy="1191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edfb1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ava river catchment are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butary of Dan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rea - 24109,6 k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ength - 353,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188880" y="2349000"/>
            <a:ext cx="6372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666880" y="2133720"/>
            <a:ext cx="914400" cy="83808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61040" y="5045040"/>
            <a:ext cx="2514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glomeration</a:t>
            </a: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564240" y="2573280"/>
            <a:ext cx="17528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hemical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08760" y="3683160"/>
            <a:ext cx="2209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7EF2-8142-4047-85FB-320F38BE32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5676840" cy="433548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100000">
                <a:srgbClr val="bbe0e3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hub parasites :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8520" y="1125360"/>
            <a:ext cx="30193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wo sites: A: Control   B: Organic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068720" y="1131840"/>
            <a:ext cx="500400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ive differently polluted sites I - V Heavy metals + P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34800" y="2133720"/>
            <a:ext cx="3048120" cy="28987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786200" y="645336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09648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-21600" y="33228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-18720" y="44751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3D5F-F1FC-46B2-BD2E-F65FF745AA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0:16Z</dcterms:created>
  <dc:creator>Jiří Jarkovský</dc:creator>
  <dc:description/>
  <dc:language>en-US</dc:language>
  <cp:lastModifiedBy>Jiří Jarkovský</cp:lastModifiedBy>
  <dcterms:modified xsi:type="dcterms:W3CDTF">2003-06-20T08:03:45Z</dcterms:modified>
  <cp:revision>106</cp:revision>
  <dc:subject/>
  <dc:title>Multivariate typology of river localities based on abiotic and biotic data - suggestion of robust solution</dc:title>
</cp:coreProperties>
</file>