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674-9744-4391-965D-0B15FA651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5B9-4FF3-4FC1-A382-38F3241A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88C-72FE-4B49-9DBB-FB565B55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8DA6-63EE-47EE-8083-B425A5901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6FD-9EF8-43F5-B518-96D7E3C91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733A-15A7-4B58-A4DF-C98592A09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E81-D479-4006-9E40-1FEEB2EA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BAB-0836-4A4B-A3DF-B72FD174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E600-5854-4D33-84C4-ACABC359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C175-2038-47E5-855A-21ACF38C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D63-FC73-41FC-8548-15C7AD61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CE3B-F569-428D-9CFD-4EEF2D1A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59E4A-3550-4FF6-91D3-1EFF952A66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93840" y="1130400"/>
          <a:ext cx="8373960" cy="487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840" y="1130400"/>
                    <a:ext cx="837396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1:35:35Z</dcterms:created>
  <dc:creator>Jiří Jarkovský</dc:creator>
  <dc:description/>
  <dc:language>en-US</dc:language>
  <cp:lastModifiedBy>Jiří Jarkovský</cp:lastModifiedBy>
  <dcterms:modified xsi:type="dcterms:W3CDTF">2005-09-20T11:40:03Z</dcterms:modified>
  <cp:revision>6</cp:revision>
  <dc:subject/>
  <dc:title>Snímek 1</dc:title>
</cp:coreProperties>
</file>