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2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F31-D7F4-4C5D-84CC-95C86D90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C5B-206B-42B6-807B-2FF85EBB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101-9352-4E98-8EC3-28888FEA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79D-BBEC-4C02-ACCB-0D4E7396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279-A82B-4FA4-9D77-A1FF3261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EA4-4045-4781-B203-97BA3EB6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044-E06B-45F1-8CE5-49149FC1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EBD-0D79-4E8D-A1AA-D0DB6886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DE4-2103-42CF-811E-2BC27AEC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90E-2C6C-4377-92F7-05E22EFB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AE0-16F7-4418-B06B-7AA17838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206-6452-4AD4-BB4E-A9B3C834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1c1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2EBD-1C76-4329-862A-48428976BC5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52712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54d0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DAE-5708-40B4-8C87-C0683A469E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291" name="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292" name="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28" name="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29" name="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65" name="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/>
              <a:ahLst/>
              <a:rect l="l" t="t" r="r" b="b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68" name="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/>
              <a:ahLst/>
              <a:rect l="l" t="t" r="r" b="b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71" name="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/>
              <a:ahLst/>
              <a:rect l="l" t="t" r="r" b="b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74" name="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/>
              <a:ahLst/>
              <a:rect l="l" t="t" r="r" b="b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394" name="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395" name="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86E-5E5D-4AD2-9645-53472759CA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DC2-27BA-43FA-A6B7-E1A0B8443B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1" name="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789-1F31-495D-ABC6-3E5442D38D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00C-96EE-46DB-A070-DAF1C9B73D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8F8-2BCB-457A-B3C3-841799435E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73A-C64E-4952-867A-4BF7BAD910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391-3DFC-4484-B600-9247BEA678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191-95FA-4012-951D-0C6989793C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23" name="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58" name="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3" name="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65" name="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66" name="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02" name="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3730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97200" y="1881360"/>
            <a:ext cx="25704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224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494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732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4996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737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975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23160" y="1881360"/>
            <a:ext cx="2458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5020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22" name="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28" name="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/>
              <a:ahLst/>
              <a:rect l="l" t="t" r="r" b="b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25320" y="2997360"/>
            <a:ext cx="8379000" cy="806400"/>
          </a:xfrm>
          <a:custGeom>
            <a:avLst/>
            <a:gdLst/>
            <a:ahLst/>
            <a:rect l="l" t="t" r="r" b="b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B2C-CAC1-48B6-8DB1-BE638A7518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64A-1315-4B7D-BE32-8D8F6AA064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14D-B78F-4C76-A487-2CB4946481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B5B-9FC7-412A-A139-3E17A74EF3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3A4-D42B-43FA-AF89-A4AFF4E552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11" name="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227160 w 792000"/>
              <a:gd name="textAreaRight" fmla="*/ 678600 w 792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6FD-1B5D-44CE-84F4-2F28E2248C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55" name="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58" name="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61" name="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64" name="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11B-CD2F-472B-86CB-256C743C52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77" name="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47C-3934-4708-9253-5E77A1D2A3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01" name="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04" name="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E8B-66D5-4BE0-9F27-6879C488AF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D5C-9794-495F-952C-B90D9C5F38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dfb1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A8B-76A6-4103-AAB5-0732446605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914-0B4A-49E6-8E83-916B988463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iří Jarkovský</cp:lastModifiedBy>
  <dcterms:modified xsi:type="dcterms:W3CDTF">2003-06-20T08:03:45Z</dcterms:modified>
  <cp:revision>106</cp:revision>
  <dc:subject/>
  <dc:title>Multivariate typology of river localities based on abiotic and biotic data - suggestion of robust solution</dc:title>
</cp:coreProperties>
</file>