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5C8-9DF8-46D8-9FDC-15D4FAF7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B08-618B-4CFA-A47E-5C16C574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65F-8D73-48D4-9DB8-7434E6EA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D58-6E95-47C6-94F7-053F3BEB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640-C27A-4E7E-85E1-094D0B80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555-8268-4BC3-96E7-7DC32983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8C2-8469-4E23-A199-80E680AC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C25-5EEF-4262-B18A-0999031A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19DB-615A-4C26-9B03-0DEF07E4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62B4-F9E7-46B5-A19D-6B050281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05F-895A-4FA9-BE4F-BD2AB705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F86-F6B4-4BB4-ACFF-E6C8B2CA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6CAE-CBA0-4B12-A1C9-10A30DC15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1:35:35Z</dcterms:created>
  <dc:creator>Jiří Jarkovský</dc:creator>
  <dc:description/>
  <dc:language>en-US</dc:language>
  <cp:lastModifiedBy>Jiří Jarkovský</cp:lastModifiedBy>
  <dcterms:modified xsi:type="dcterms:W3CDTF">2005-09-20T11:40:03Z</dcterms:modified>
  <cp:revision>6</cp:revision>
  <dc:subject/>
  <dc:title>Snímek 1</dc:title>
</cp:coreProperties>
</file>