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9FE-9FAF-41FC-8C4E-F159A1E4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CF6-BCA9-4594-9FD0-14DEECC1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5AC-6907-4C23-B17F-9060D3F7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530-972A-43ED-AB78-54AE9576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BEDD-AB5E-4110-8F0D-DFC512A7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6B89-3108-4CE3-8A33-5CF30476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0A7B-1182-4DFB-83D3-65044162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77C1-DABC-4B82-BCDE-E4D342C5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7745-6359-4399-992A-9938D959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2C55-3B4C-4140-B2E1-1C65C093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0891-C6CD-48FB-A1BF-E4B67CF8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7CE-DEE3-4CC8-94E0-F41D887E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FA4C-E643-4E7C-A787-470AD53C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D379-1BDB-4933-9312-8296076A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7675-9819-4CDE-9A35-2E18E89A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0562-C4DD-47F5-9A27-3577F5E9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72A8-301B-460D-AA91-1BBBDE86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B4C-0361-46F3-B88F-A8D5528D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BC7-1228-41B6-87D8-1E2D452A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B84-94A9-4B74-8153-59832448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4C5-743C-4282-B738-99093F07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59F-1D60-483D-AE14-F6F77CFB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E8E-E840-4842-906A-29EA086E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786-E0B0-41C8-A76B-8323ABF7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571640" y="15480"/>
            <a:ext cx="21337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465D-9D54-4924-8C7D-DF81FAB68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9280" y="1052640"/>
            <a:ext cx="87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6521-AC3B-4313-8BF2-11BD3AA846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436640"/>
            <a:ext cx="60199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nalýza dat společenstev pomocí vícerozměrné analýzy d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je již shluková analýza zpracována pomocí me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uster Analysi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Tree Clustering – an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za nad asociační mati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2880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288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72000" y="2349360"/>
          <a:ext cx="360036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3600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299-935B-4963-8700-B0BA957BD0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vstup do multidimensional scaling může posloužit libovolná asociační 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dimensional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16360" y="3141720"/>
          <a:ext cx="43196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9280" y="3141720"/>
          <a:ext cx="4319640" cy="32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BE7-021B-4715-80A0-22B399E8B8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5 lokalitách bylo provedeno vzorkování společenstev cizopasníků ryb, jehož výsledky jsou uloženy v souboru. Data jsou uložena ve formátu, kdy jeden řádek odpovídá jednomu nalezenému cizopasníkovi. Sloupce nejvýznamnější pro analýzu jsou označeny žlutou barvou. Za pomoci software MS Excel, Statistica for Windows a SPSS proveďte na datech následující analýz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te tabulku zastoupení cizopasníků na lokalitách, která poslouží jako základ pro všechny ostatní analý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korespondenční analýzu společens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shlukovou analýzu společenstev na lokalitách pomo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ccardova koeficien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ay-Curtiss indexu vypočteném na relativizovaných logaritmovaných abundan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ici indexů podobnosti proveďte multidimensional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A509-D2CF-40ED-845B-3699FC52BF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13684" r="67154" b="30889"/>
          <a:stretch/>
        </p:blipFill>
        <p:spPr>
          <a:xfrm>
            <a:off x="5219640" y="2441520"/>
            <a:ext cx="35323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vytvoření tabulky společenstev použijte kontingenční tabulky v MS Excel (alternativou je kontingenční tabulka v libovolném S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zdná místa v tabulce musí být doplněna nu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17284" r="54217" b="22969"/>
          <a:stretch/>
        </p:blipFill>
        <p:spPr>
          <a:xfrm>
            <a:off x="324000" y="2349360"/>
            <a:ext cx="4895640" cy="3992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400000">
            <a:off x="464472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63D-D839-4DF8-BF07-6199F7F31C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espondenční analýzu lze spočítat v SW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Corresponde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76720" y="2349360"/>
          <a:ext cx="5759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49360"/>
                    <a:ext cx="5759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58640" y="2205000"/>
            <a:ext cx="30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ovat lze v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jemn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ů a lok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A6E-07ED-46D6-AAA8-55801E2187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265560" cy="190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2714760" cy="15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riky podobnosti společenstev lze spočítat v řadě nástrojů, zde je zobrazen postup pro výpočet Jaccardova koeficientu v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je založen na binárních datech, prvním krokem je tedy překódování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code-&gt;Into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208320" cy="170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0360" y="422100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4148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068640"/>
            <a:ext cx="1369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5280" y="5372280"/>
            <a:ext cx="1477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3716280"/>
            <a:ext cx="865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774-0C78-4138-A5C2-F097483DEE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79760" y="2003400"/>
            <a:ext cx="3648240" cy="236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lze v SPSS spočít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ze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Correlate-&gt;Dista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4200" y="2060640"/>
            <a:ext cx="3193920" cy="2262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1280" y="407664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4200" y="3716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3500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708280"/>
            <a:ext cx="2737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21150" t="37646" r="45556" b="40935"/>
          <a:stretch/>
        </p:blipFill>
        <p:spPr>
          <a:xfrm>
            <a:off x="2411280" y="4581360"/>
            <a:ext cx="5327640" cy="208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6587640" y="2492280"/>
            <a:ext cx="1008360" cy="24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441-CF19-4774-B416-16D763E8EC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up řešení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import do Statistica for Windows musí být asociační matice připravena ve speciální formě a převedena na matici vzdálenos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3684" r="70754" b="68319"/>
          <a:stretch/>
        </p:blipFill>
        <p:spPr>
          <a:xfrm>
            <a:off x="468360" y="2133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3684" r="70754" b="67415"/>
          <a:stretch/>
        </p:blipFill>
        <p:spPr>
          <a:xfrm>
            <a:off x="3924360" y="4437000"/>
            <a:ext cx="4680000" cy="189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67280" y="2997360"/>
            <a:ext cx="1368360" cy="172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4880" y="364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Jac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27B-C007-428A-80D7-5367937110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nazší cestou transformace dat je pomocí vzorců v MS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0743" r="64904" b="78515"/>
          <a:stretch/>
        </p:blipFill>
        <p:spPr>
          <a:xfrm>
            <a:off x="611280" y="1827360"/>
            <a:ext cx="4606920" cy="88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9455" t="10080" r="50052" b="48339"/>
          <a:stretch/>
        </p:blipFill>
        <p:spPr>
          <a:xfrm>
            <a:off x="539640" y="3284640"/>
            <a:ext cx="4824360" cy="309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9440" y="208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21600" y="4502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izac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AA4-FCBF-4ED4-A5BD-C2BFDC81D0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2880000" cy="2403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ay Curtiss index lze spočítat pomocí makra v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0" r="69854" b="68337"/>
          <a:stretch/>
        </p:blipFill>
        <p:spPr>
          <a:xfrm>
            <a:off x="684360" y="2060640"/>
            <a:ext cx="3779640" cy="2481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6720" y="3284640"/>
            <a:ext cx="2087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637000"/>
            <a:ext cx="865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70828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342900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0" t="11067" r="69852" b="68998"/>
          <a:stretch/>
        </p:blipFill>
        <p:spPr>
          <a:xfrm>
            <a:off x="2627280" y="4811760"/>
            <a:ext cx="4248360" cy="171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3716280"/>
            <a:ext cx="0" cy="122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684-B65B-4994-B2D2-B60D960114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0:17:04Z</dcterms:created>
  <dc:creator>Jiří Jarkovský</dc:creator>
  <dc:description/>
  <dc:language>en-US</dc:language>
  <cp:lastModifiedBy>Jiří Jarkovský</cp:lastModifiedBy>
  <dcterms:modified xsi:type="dcterms:W3CDTF">2006-05-23T19:49:19Z</dcterms:modified>
  <cp:revision>61</cp:revision>
  <dc:subject/>
  <dc:title>DIEP - </dc:title>
</cp:coreProperties>
</file>