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EFB-8A4D-4D0F-BA0A-220D6D89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7CD-4CD7-4A8B-8E58-1F04DE83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1A3-D828-419F-AB59-D8CE9C27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3BF-F7B1-49FF-8917-EC603836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6C8-42F4-4855-B375-8750B7FE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86E-FC8B-4C0A-8CC1-06F7AE7F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617-9795-42E1-A677-F5BE18A8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603-8556-4DFF-842D-F4BD5EB8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D32-2518-449A-81B5-0D23FABF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7AB-21E6-4D81-893C-2E51352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434-C54D-43B0-A0BA-2DE7988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795-DE34-4AB2-B7D6-E8176ABD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B611-D95E-4015-9FC1-F6856443AB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plexní aplikace metod analýzy biodiverz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: parazitární společen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 databázové tabulky vytvořte tabulku 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lokalita x vyšší taxonomické skupiny,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tabulku obohaťte o typ lokal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bundanci vyjádřete jak ve formě absolutní, tak relativní v rámci společen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očtěte indexy diverzity vyšších taxonomických skupin a srovnejte j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očtěte asociační matici Jaccardových a kvantitativních Sorensenových koeficient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shlukovou analýzu pro alespoň 2 asociační ma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korespondenční analýzu na abundanc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MDS na Jaccardových koeficientech a srovnejte s výsledky 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y ordinačních metod graficky srovnejt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40:46Z</dcterms:created>
  <dc:creator>Jarkovsky</dc:creator>
  <dc:description/>
  <dc:language>en-US</dc:language>
  <cp:lastModifiedBy>Jarkovsky</cp:lastModifiedBy>
  <dcterms:modified xsi:type="dcterms:W3CDTF">2010-12-14T07:45:20Z</dcterms:modified>
  <cp:revision>6</cp:revision>
  <dc:subject/>
  <dc:title>Vícerozměrné analýzy pro biodiverzitní data</dc:title>
</cp:coreProperties>
</file>