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A49A-CF56-48E4-89F1-088AAE6A1C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88F-0005-4426-B385-128A167D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1AF-4F80-4495-8069-27AA3BA1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8E0-DC5F-42CA-AFD5-5003EADC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3DD-7C99-4564-8F4E-54797715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C1F5-1BFA-4170-AE3F-B5BA1DBD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E94E-8967-4BCA-9B51-3292F891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C5D9-F08C-41BA-83F8-7BD5E920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22D3-ABC1-4A8F-BD6B-C6526B41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0118-7964-4344-8DA5-BDF3F5B3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7694-E7BC-4725-A2AD-98C508CE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8052-1DD9-4BB4-B02E-6A718F3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E3C-BDD3-4318-9D08-AD2386B1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DCB3-37A0-4A24-8176-53755912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130C-3835-4471-8618-1CDD0808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2DDB-273A-4740-B794-43F503D0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14F4-565E-4320-9394-9900D8F9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5F6E-183A-4588-8E72-1A0EF368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B16-C956-487A-9F2E-68C72C5E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918-7A48-44C4-BDA4-67892B9E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9D2-CD31-429A-84FA-754C0F13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624-71D9-419D-B058-762A5B5B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6CE-FA37-4A6F-9264-31486D2D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086-0B87-4F10-9E3F-43F9D2C3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1E9-9D25-480C-8F9D-A15DCE3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3505-D2BA-47D7-ADE6-38C784BC8A4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88B0-4982-457E-815B-2AEA8AD32E5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3a_Gplocha_H2O.xls" TargetMode="External"/><Relationship Id="rId3" Type="http://schemas.openxmlformats.org/officeDocument/2006/relationships/image" Target="../media/image1.png"/><Relationship Id="rId4" Type="http://schemas.openxmlformats.org/officeDocument/2006/relationships/hyperlink" Target="D:\Vyuka\C6730 Term_FR\p&#345;edn&#225;&#353;ka_CZ\02tyden_\03_P&#345;&#237;klad vypo&#269;tu G vody.tif" TargetMode="External"/><Relationship Id="rId5" Type="http://schemas.openxmlformats.org/officeDocument/2006/relationships/hyperlink" Target="D:\Vyuka\C6730 Term_FR\p&#345;edn&#225;&#353;ka_CZ\02tyden_\03_P&#345;&#237;klad vypo&#269;tu G vody.ti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2tyden_\02_Termodynamick&#233; funkce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2tyden_\02a_lectintro.pdf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2 Základní termodynamik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772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Gibbsovy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77724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ávislost Gibbsovy energie na tla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2054160"/>
            <a:ext cx="7772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ondenzova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167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lyn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6920" y="1981080"/>
            <a:ext cx="514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D funkce sloučen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065240"/>
            <a:ext cx="5867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Grafická souvislost TD fun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4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p a T na Gibbsovu energi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06640" y="1981080"/>
            <a:ext cx="69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6512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lasifikace fázových přechod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0153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368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ova energie fází jednosložkové soustav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říklad výpočtu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>
            <a:hlinkClick r:id="rId2"/>
          </p:cNvPr>
          <p:cNvSpPr/>
          <p:nvPr/>
        </p:nvSpPr>
        <p:spPr>
          <a:xfrm>
            <a:off x="4343400" y="396252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Less" w="21600" h="26998">
                <a:moveTo>
                  <a:pt x="5273" y="6684"/>
                </a:moveTo>
                <a:lnTo>
                  <a:pt x="12271" y="6684"/>
                </a:lnTo>
                <a:lnTo>
                  <a:pt x="16327" y="10183"/>
                </a:lnTo>
                <a:lnTo>
                  <a:pt x="16327" y="20314"/>
                </a:lnTo>
                <a:lnTo>
                  <a:pt x="5273" y="20314"/>
                </a:lnTo>
                <a:close/>
              </a:path>
              <a:path fill="darken" w="21600" h="26998">
                <a:moveTo>
                  <a:pt x="12271" y="6684"/>
                </a:moveTo>
                <a:lnTo>
                  <a:pt x="16327" y="10183"/>
                </a:lnTo>
                <a:lnTo>
                  <a:pt x="12271" y="101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Hyperplocha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6248520" y="31240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>
            <a:hlinkClick r:id="rId5"/>
          </p:cNvPr>
          <p:cNvSpPr/>
          <p:nvPr/>
        </p:nvSpPr>
        <p:spPr>
          <a:xfrm>
            <a:off x="4191120" y="182880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Less" w="21600" h="31199">
                <a:moveTo>
                  <a:pt x="5273" y="8784"/>
                </a:moveTo>
                <a:lnTo>
                  <a:pt x="12271" y="8784"/>
                </a:lnTo>
                <a:lnTo>
                  <a:pt x="16327" y="12283"/>
                </a:lnTo>
                <a:lnTo>
                  <a:pt x="16327" y="22414"/>
                </a:lnTo>
                <a:lnTo>
                  <a:pt x="5273" y="22414"/>
                </a:lnTo>
                <a:close/>
              </a:path>
              <a:path fill="darken" w="21600" h="31199">
                <a:moveTo>
                  <a:pt x="12271" y="8784"/>
                </a:moveTo>
                <a:lnTo>
                  <a:pt x="16327" y="12283"/>
                </a:lnTo>
                <a:lnTo>
                  <a:pt x="12271" y="122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pracování v tabulkovém procesoru (EXCEL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é funkce (opakování) </a:t>
            </a:r>
            <a:r>
              <a:rPr b="0" lang="cs-CZ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tanovení termodynamických funkcí jednosložkové soustav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Fázový diagram jednosložkové soustavy (vo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Clausius Clapeyron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71500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 C.H.P. Lupis: Chemical Thermodynamics of Materials, Elsevier, 1983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FG10_2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9276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 za extrémních podmínek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voda1" descr=""/>
          <p:cNvPicPr/>
          <p:nvPr/>
        </p:nvPicPr>
        <p:blipFill>
          <a:blip r:embed="rId2"/>
          <a:stretch/>
        </p:blipFill>
        <p:spPr>
          <a:xfrm>
            <a:off x="1224000" y="250524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lausius clapeyron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848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nitřní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4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181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ce termodynamických funkcí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>
            <a:hlinkClick r:id="rId3"/>
          </p:cNvPr>
          <p:cNvSpPr/>
          <p:nvPr/>
        </p:nvSpPr>
        <p:spPr>
          <a:xfrm>
            <a:off x="4876920" y="51814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991" h="21600">
                <a:moveTo>
                  <a:pt x="6469" y="3985"/>
                </a:moveTo>
                <a:lnTo>
                  <a:pt x="13467" y="3985"/>
                </a:lnTo>
                <a:lnTo>
                  <a:pt x="17522" y="7484"/>
                </a:lnTo>
                <a:lnTo>
                  <a:pt x="17522" y="17615"/>
                </a:lnTo>
                <a:lnTo>
                  <a:pt x="6469" y="17615"/>
                </a:lnTo>
                <a:close/>
              </a:path>
              <a:path fill="darken" w="23991" h="21600">
                <a:moveTo>
                  <a:pt x="13467" y="3985"/>
                </a:moveTo>
                <a:lnTo>
                  <a:pt x="17522" y="7484"/>
                </a:lnTo>
                <a:lnTo>
                  <a:pt x="1346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7150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odynamické vztah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>
            <a:hlinkClick r:id="rId5"/>
          </p:cNvPr>
          <p:cNvSpPr/>
          <p:nvPr/>
        </p:nvSpPr>
        <p:spPr>
          <a:xfrm>
            <a:off x="4114800" y="58672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Less" w="21600" h="37775">
                <a:moveTo>
                  <a:pt x="5273" y="12072"/>
                </a:moveTo>
                <a:lnTo>
                  <a:pt x="12271" y="12072"/>
                </a:lnTo>
                <a:lnTo>
                  <a:pt x="16327" y="15571"/>
                </a:lnTo>
                <a:lnTo>
                  <a:pt x="16327" y="25702"/>
                </a:lnTo>
                <a:lnTo>
                  <a:pt x="5273" y="25702"/>
                </a:lnTo>
                <a:close/>
              </a:path>
              <a:path fill="darken" w="21600" h="37775">
                <a:moveTo>
                  <a:pt x="12271" y="12072"/>
                </a:moveTo>
                <a:lnTo>
                  <a:pt x="16327" y="15571"/>
                </a:lnTo>
                <a:lnTo>
                  <a:pt x="12271" y="155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840" y="1981080"/>
            <a:ext cx="677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Gibbs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lmholz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olární veličiny a standardní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69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3:19:14Z</dcterms:modified>
  <cp:revision>47</cp:revision>
  <dc:subject/>
  <dc:title>C6730 Fázové rovnováhy</dc:title>
</cp:coreProperties>
</file>