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134E-92A4-464E-8D9A-9226ABD30EB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B30-0DB8-479E-8540-22519886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8FBF-BB49-4B79-A318-776360CD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B4BC-B43B-46A6-84AC-134F8698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6FF-DC81-439E-A50F-FF4650EE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DEAB-AB93-4F90-8EF0-EDDBBD41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9CEC-A50C-499E-A8D1-F051132F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B8A6-22EE-4A26-910E-3A90222E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7C47-96A9-471C-964B-E9EAD009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6D53-2CCF-457A-8784-4DE6CEE2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61D0-B941-4A27-AD53-1BA2C610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545A-544D-4B79-A179-4D0F31EE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639E-C780-4FD8-80C5-CCC36585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6BDD-E461-48C9-BDC4-7C3E2CED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EEB3-1A61-42CD-A6EE-B28483BE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0C50-0BF1-4106-B7FA-1CF269D0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56FE-F7EB-48BF-88E5-6EA3656E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06BB-4FA4-4956-991C-69708090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0764-D108-4F44-8F3E-B2B071EE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837-10E9-4693-AABE-A2ED5B79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D728-6E78-4B8A-96FB-508EABE6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44F-46CF-47F0-AC2C-EBC8281D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05C-6932-482B-BD47-61F7395F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D05-A779-411C-AC31-D4A320A8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27A-96B1-4130-8B51-2CB0318B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87D7-FF35-459C-9AEC-6C75AD515023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E6E8-A1F5-4A89-8A80-F3DB18A5DAF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04b Výbraná pravidla a záko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bsa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Chování směsi ideálních plynů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514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Chování směsi ideálních a reálných kapalin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lak  par nad binární směs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075440" cy="370368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1143000" y="4952880"/>
            <a:ext cx="7238880" cy="875880"/>
            <a:chOff x="1143000" y="4952880"/>
            <a:chExt cx="7238880" cy="875880"/>
          </a:xfrm>
        </p:grpSpPr>
        <p:sp>
          <p:nvSpPr>
            <p:cNvPr id="158" name=""/>
            <p:cNvSpPr/>
            <p:nvPr/>
          </p:nvSpPr>
          <p:spPr>
            <a:xfrm>
              <a:off x="1143000" y="4952880"/>
              <a:ext cx="35053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positive deviations from ideality; a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&gt;x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, a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&gt;x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29200" y="5168520"/>
              <a:ext cx="33526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Unicode MS"/>
                </a:rPr>
                <a:t>A: positive devia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Unicode MS"/>
                </a:rPr>
                <a:t>B: negative devia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lak plynu nad kondenzovanou fáz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427040"/>
            <a:ext cx="84582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Ebulioskopie, kryoskop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723888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Pravidla pro změnu entrop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13182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07T14:07:10Z</dcterms:modified>
  <cp:revision>72</cp:revision>
  <dc:subject/>
  <dc:title>C6730 Fázové rovnováhy</dc:title>
</cp:coreProperties>
</file>