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4631-2A1F-479D-A1C5-334B87D8605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8F4-16E0-4DEB-AD1B-98589FB2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BB9-1543-4F9E-ABA6-9E8E3962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A93-94F9-4F34-BD91-1740E22A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922-0BF7-413B-A5B5-40BC9EA4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C07A-E22F-466A-A99A-BDECB862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8B8A-B423-404C-BE0D-E87B529B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2C16-7C91-49F9-970F-C8D09DF1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B675-AADF-44A9-80C5-73413293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132B-F871-4FCF-9DCE-6C1CAAED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CB6C-A2EC-4DB1-8FC2-A94C2E38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B258-BC1B-4EF8-B79F-D0D9C5D5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D2C-1C35-44F2-9DCD-4DE50D73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3028-3137-4303-9407-CDF9C4EF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CF52-8A3E-4D6C-A3C4-582D180E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F520-AA67-47A3-AC46-4505AAED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4F35-DFB5-44BD-B302-65B3712D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9D9F-364A-450B-8B5C-0D07107A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96F-52D1-43FA-B8E6-A5D81437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112-5257-4939-BBB4-C4BBDF3E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160D-2D29-4E31-B148-FA6A0D27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BCC-56FD-477A-9A90-35A33B87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6178-FFFC-4FE1-9D41-D650D5F5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726-62CD-4658-9BA6-5C5CE0EB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55C-0875-41D7-BAED-AE1C1A8D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0991-48DC-47A9-8119-12432E5AC4B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0BFA-B31A-41F6-BE9F-2A2F197BD9D3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D:\Vyuka\C6730 Term_FR\p&#345;edn&#225;&#353;ka_CZ\06tyden_int a dif podminka FR\04_ZZH_Obecn&#233; p&#225;kov&#233; pravidlo.tif" TargetMode="Externa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hermocalc.com/" TargetMode="External"/><Relationship Id="rId2" Type="http://schemas.openxmlformats.org/officeDocument/2006/relationships/hyperlink" Target="http://www.thermocalc.com/" TargetMode="External"/><Relationship Id="rId3" Type="http://schemas.openxmlformats.org/officeDocument/2006/relationships/hyperlink" Target="http://www.thermocalc.com/" TargetMode="External"/><Relationship Id="rId4" Type="http://schemas.openxmlformats.org/officeDocument/2006/relationships/hyperlink" Target="http://www.thermocalc.com/" TargetMode="External"/><Relationship Id="rId5" Type="http://schemas.openxmlformats.org/officeDocument/2006/relationships/hyperlink" Target="http://www.thermocalc.com/" TargetMode="External"/><Relationship Id="rId6" Type="http://schemas.openxmlformats.org/officeDocument/2006/relationships/hyperlink" Target="http://www.npl.co.uk/advanced-materials/measurement-techniques/modelling/mtdata" TargetMode="External"/><Relationship Id="rId7" Type="http://schemas.openxmlformats.org/officeDocument/2006/relationships/hyperlink" Target="http://www.npl.co.uk/advanced-materials/measurement-techniques/modelling/mtdata" TargetMode="External"/><Relationship Id="rId8" Type="http://schemas.openxmlformats.org/officeDocument/2006/relationships/hyperlink" Target="http://www.npl.co.uk/advanced-materials/measurement-techniques/modelling/mtdata" TargetMode="External"/><Relationship Id="rId9" Type="http://schemas.openxmlformats.org/officeDocument/2006/relationships/hyperlink" Target="http://www.npl.co.uk/advanced-materials/measurement-techniques/modelling/mtdata" TargetMode="External"/><Relationship Id="rId10" Type="http://schemas.openxmlformats.org/officeDocument/2006/relationships/hyperlink" Target="http://www.npl.co.uk/advanced-materials/measurement-techniques/modelling/mtdata" TargetMode="External"/><Relationship Id="rId11" Type="http://schemas.openxmlformats.org/officeDocument/2006/relationships/hyperlink" Target="http://www.npl.co.uk/advanced-materials/measurement-techniques/modelling/mtdata" TargetMode="External"/><Relationship Id="rId12" Type="http://schemas.openxmlformats.org/officeDocument/2006/relationships/hyperlink" Target="http://www.npl.co.uk/advanced-materials/measurement-techniques/modelling/mtdata" TargetMode="External"/><Relationship Id="rId13" Type="http://schemas.openxmlformats.org/officeDocument/2006/relationships/hyperlink" Target="http://www.npl.co.uk/advanced-materials/measurement-techniques/modelling/mtdata" TargetMode="External"/><Relationship Id="rId14" Type="http://schemas.openxmlformats.org/officeDocument/2006/relationships/hyperlink" Target="http://www.npl.co.uk/advanced-materials/measurement-techniques/modelling/mtdata" TargetMode="External"/><Relationship Id="rId15" Type="http://schemas.openxmlformats.org/officeDocument/2006/relationships/hyperlink" Target="http://www.npl.co.uk/advanced-materials/measurement-techniques/modelling/mtdata" TargetMode="External"/><Relationship Id="rId16" Type="http://schemas.openxmlformats.org/officeDocument/2006/relationships/hyperlink" Target="http://www.npl.co.uk/advanced-materials/measurement-techniques/modelling/mtdata" TargetMode="External"/><Relationship Id="rId17" Type="http://schemas.openxmlformats.org/officeDocument/2006/relationships/hyperlink" Target="http://www.npl.co.uk/advanced-materials/measurement-techniques/modelling/mtdata" TargetMode="External"/><Relationship Id="rId18" Type="http://schemas.openxmlformats.org/officeDocument/2006/relationships/hyperlink" Target="http://www.npl.co.uk/advanced-materials/measurement-techniques/modelling/mtdata" TargetMode="External"/><Relationship Id="rId19" Type="http://schemas.openxmlformats.org/officeDocument/2006/relationships/hyperlink" Target="http://www.npl.co.uk/advanced-materials/measurement-techniques/modelling/mtdata" TargetMode="External"/><Relationship Id="rId20" Type="http://schemas.openxmlformats.org/officeDocument/2006/relationships/hyperlink" Target="http://www.npl.co.uk/advanced-materials/measurement-techniques/modelling/mtdata" TargetMode="External"/><Relationship Id="rId21" Type="http://schemas.openxmlformats.org/officeDocument/2006/relationships/hyperlink" Target="http://www.npl.co.uk/advanced-materials/measurement-techniques/modelling/mtdata" TargetMode="External"/><Relationship Id="rId22" Type="http://schemas.openxmlformats.org/officeDocument/2006/relationships/hyperlink" Target="http://www.factsage.com/" TargetMode="External"/><Relationship Id="rId23" Type="http://schemas.openxmlformats.org/officeDocument/2006/relationships/hyperlink" Target="http://www.factsage.com/" TargetMode="External"/><Relationship Id="rId24" Type="http://schemas.openxmlformats.org/officeDocument/2006/relationships/hyperlink" Target="http://www.factsage.com/" TargetMode="External"/><Relationship Id="rId25" Type="http://schemas.openxmlformats.org/officeDocument/2006/relationships/hyperlink" Target="http://www.factsage.com/" TargetMode="External"/><Relationship Id="rId26" Type="http://schemas.openxmlformats.org/officeDocument/2006/relationships/hyperlink" Target="http://www.factsage.com/" TargetMode="External"/><Relationship Id="rId27" Type="http://schemas.openxmlformats.org/officeDocument/2006/relationships/hyperlink" Target="http://www.crct.polymtl.ca/fact/download.php" TargetMode="External"/><Relationship Id="rId28" Type="http://schemas.openxmlformats.org/officeDocument/2006/relationships/hyperlink" Target="http://www.crct.polymtl.ca/fact/download.php" TargetMode="External"/><Relationship Id="rId29" Type="http://schemas.openxmlformats.org/officeDocument/2006/relationships/hyperlink" Target="http://www.crct.polymtl.ca/fact/download.php" TargetMode="External"/><Relationship Id="rId30" Type="http://schemas.openxmlformats.org/officeDocument/2006/relationships/hyperlink" Target="http://www.crct.polymtl.ca/fact/download.php" TargetMode="External"/><Relationship Id="rId31" Type="http://schemas.openxmlformats.org/officeDocument/2006/relationships/hyperlink" Target="http://www.crct.polymtl.ca/fact/download.php" TargetMode="External"/><Relationship Id="rId32" Type="http://schemas.openxmlformats.org/officeDocument/2006/relationships/hyperlink" Target="http://www.crct.polymtl.ca/fact/download.php" TargetMode="External"/><Relationship Id="rId33" Type="http://schemas.openxmlformats.org/officeDocument/2006/relationships/hyperlink" Target="http://www.crct.polymtl.ca/fact/download.php" TargetMode="External"/><Relationship Id="rId34" Type="http://schemas.openxmlformats.org/officeDocument/2006/relationships/hyperlink" Target="http://www.crct.polymtl.ca/fact/download.php" TargetMode="External"/><Relationship Id="rId35" Type="http://schemas.openxmlformats.org/officeDocument/2006/relationships/hyperlink" Target="http://www.crct.polymtl.ca/fact/download.php" TargetMode="External"/><Relationship Id="rId36" Type="http://schemas.openxmlformats.org/officeDocument/2006/relationships/hyperlink" Target="http://www.crct.polymtl.ca/fact/download.php" TargetMode="External"/><Relationship Id="rId37" Type="http://schemas.openxmlformats.org/officeDocument/2006/relationships/hyperlink" Target="http://www.crct.polymtl.ca/fact/download.php" TargetMode="External"/><Relationship Id="rId38" Type="http://schemas.openxmlformats.org/officeDocument/2006/relationships/hyperlink" Target="http://www.computherm.com/home.html" TargetMode="External"/><Relationship Id="rId39" Type="http://schemas.openxmlformats.org/officeDocument/2006/relationships/hyperlink" Target="http://www.computherm.com/home.html" TargetMode="External"/><Relationship Id="rId40" Type="http://schemas.openxmlformats.org/officeDocument/2006/relationships/hyperlink" Target="http://www.computherm.com/home.html" TargetMode="External"/><Relationship Id="rId41" Type="http://schemas.openxmlformats.org/officeDocument/2006/relationships/hyperlink" Target="http://www.computherm.com/home.html" TargetMode="External"/><Relationship Id="rId42" Type="http://schemas.openxmlformats.org/officeDocument/2006/relationships/hyperlink" Target="http://www.computherm.com/home.html" TargetMode="External"/><Relationship Id="rId43" Type="http://schemas.openxmlformats.org/officeDocument/2006/relationships/hyperlink" Target="http://www.computherm.com/home.html" TargetMode="External"/><Relationship Id="rId44" Type="http://schemas.openxmlformats.org/officeDocument/2006/relationships/hyperlink" Target="http://www.computherm.com/home.html" TargetMode="External"/><Relationship Id="rId45" Type="http://schemas.openxmlformats.org/officeDocument/2006/relationships/hyperlink" Target="http://www.computherm.com/home.html" TargetMode="External"/><Relationship Id="rId46" Type="http://schemas.openxmlformats.org/officeDocument/2006/relationships/hyperlink" Target="http://thermodata.online.fr/" TargetMode="External"/><Relationship Id="rId47" Type="http://schemas.openxmlformats.org/officeDocument/2006/relationships/hyperlink" Target="http://thermodata.online.fr/" TargetMode="External"/><Relationship Id="rId48" Type="http://schemas.openxmlformats.org/officeDocument/2006/relationships/hyperlink" Target="http://thermodata.online.fr/" TargetMode="External"/><Relationship Id="rId49" Type="http://schemas.openxmlformats.org/officeDocument/2006/relationships/hyperlink" Target="http://thermodata.online.fr/" TargetMode="External"/><Relationship Id="rId50" Type="http://schemas.openxmlformats.org/officeDocument/2006/relationships/hyperlink" Target="http://thermodata.online.fr/" TargetMode="External"/><Relationship Id="rId51" Type="http://schemas.openxmlformats.org/officeDocument/2006/relationships/hyperlink" Target="http://thermodata.online.fr/" TargetMode="External"/><Relationship Id="rId52" Type="http://schemas.openxmlformats.org/officeDocument/2006/relationships/hyperlink" Target="http://www.vlxe.com/" TargetMode="External"/><Relationship Id="rId53" Type="http://schemas.openxmlformats.org/officeDocument/2006/relationships/hyperlink" Target="http://www.vlxe.com/" TargetMode="External"/><Relationship Id="rId54" Type="http://schemas.openxmlformats.org/officeDocument/2006/relationships/hyperlink" Target="http://www.vlxe.com/" TargetMode="External"/><Relationship Id="rId55" Type="http://schemas.openxmlformats.org/officeDocument/2006/relationships/hyperlink" Target="http://www.vlxe.com/" TargetMode="External"/><Relationship Id="rId5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sminternational.org/asmenterprise/apd/default.aspx" TargetMode="External"/><Relationship Id="rId2" Type="http://schemas.openxmlformats.org/officeDocument/2006/relationships/hyperlink" Target="http://www.asminternational.org/asmenterprise/apd/default.aspx" TargetMode="External"/><Relationship Id="rId3" Type="http://schemas.openxmlformats.org/officeDocument/2006/relationships/hyperlink" Target="http://www.asminternational.org/asmenterprise/apd/default.aspx" TargetMode="External"/><Relationship Id="rId4" Type="http://schemas.openxmlformats.org/officeDocument/2006/relationships/hyperlink" Target="http://www.asminternational.org/asmenterprise/apd/default.aspx" TargetMode="External"/><Relationship Id="rId5" Type="http://schemas.openxmlformats.org/officeDocument/2006/relationships/hyperlink" Target="http://www.asminternational.org/asmenterprise/apd/default.aspx" TargetMode="External"/><Relationship Id="rId6" Type="http://schemas.openxmlformats.org/officeDocument/2006/relationships/hyperlink" Target="http://www.asminternational.org/asmenterprise/apd/default.aspx" TargetMode="External"/><Relationship Id="rId7" Type="http://schemas.openxmlformats.org/officeDocument/2006/relationships/hyperlink" Target="http://www.asminternational.org/asmenterprise/apd/default.aspx" TargetMode="External"/><Relationship Id="rId8" Type="http://schemas.openxmlformats.org/officeDocument/2006/relationships/hyperlink" Target="http://www.asminternational.org/asmenterprise/apd/default.aspx" TargetMode="External"/><Relationship Id="rId9" Type="http://schemas.openxmlformats.org/officeDocument/2006/relationships/hyperlink" Target="http://www.asminternational.org/asmenterprise/apd/default.aspx" TargetMode="External"/><Relationship Id="rId10" Type="http://schemas.openxmlformats.org/officeDocument/2006/relationships/hyperlink" Target="http://www.asminternational.org/asmenterprise/apd/default.aspx" TargetMode="External"/><Relationship Id="rId11" Type="http://schemas.openxmlformats.org/officeDocument/2006/relationships/hyperlink" Target="http://www.crct.polymtl.ca/sgte/index.php" TargetMode="External"/><Relationship Id="rId12" Type="http://schemas.openxmlformats.org/officeDocument/2006/relationships/hyperlink" Target="http://www.crct.polymtl.ca/sgte/index.php" TargetMode="External"/><Relationship Id="rId13" Type="http://schemas.openxmlformats.org/officeDocument/2006/relationships/hyperlink" Target="http://www.crct.polymtl.ca/sgte/index.php" TargetMode="External"/><Relationship Id="rId14" Type="http://schemas.openxmlformats.org/officeDocument/2006/relationships/hyperlink" Target="http://www.crct.polymtl.ca/sgte/index.php" TargetMode="External"/><Relationship Id="rId15" Type="http://schemas.openxmlformats.org/officeDocument/2006/relationships/hyperlink" Target="http://www.crct.polymtl.ca/sgte/index.php" TargetMode="External"/><Relationship Id="rId16" Type="http://schemas.openxmlformats.org/officeDocument/2006/relationships/hyperlink" Target="http://www.crct.polymtl.ca/sgte/index.php" TargetMode="External"/><Relationship Id="rId17" Type="http://schemas.openxmlformats.org/officeDocument/2006/relationships/hyperlink" Target="http://www.crct.polymtl.ca/sgte/index.php" TargetMode="External"/><Relationship Id="rId18" Type="http://schemas.openxmlformats.org/officeDocument/2006/relationships/hyperlink" Target="http://www.crct.polymtl.ca/sgte/index.php" TargetMode="External"/><Relationship Id="rId19" Type="http://schemas.openxmlformats.org/officeDocument/2006/relationships/hyperlink" Target="http://www.springerlink.com/content/100270622k03v066/" TargetMode="External"/><Relationship Id="rId20" Type="http://schemas.openxmlformats.org/officeDocument/2006/relationships/hyperlink" Target="http://www.springerlink.com/content/100270622k03v066/" TargetMode="External"/><Relationship Id="rId21" Type="http://schemas.openxmlformats.org/officeDocument/2006/relationships/hyperlink" Target="http://www.springerlink.com/content/100270622k03v066/" TargetMode="External"/><Relationship Id="rId22" Type="http://schemas.openxmlformats.org/officeDocument/2006/relationships/hyperlink" Target="http://www.springerlink.com/content/100270622k03v066/" TargetMode="External"/><Relationship Id="rId23" Type="http://schemas.openxmlformats.org/officeDocument/2006/relationships/hyperlink" Target="http://www.springerlink.com/content/100270622k03v066/" TargetMode="External"/><Relationship Id="rId24" Type="http://schemas.openxmlformats.org/officeDocument/2006/relationships/hyperlink" Target="http://www.springerlink.com/content/100270622k03v066/" TargetMode="External"/><Relationship Id="rId25" Type="http://schemas.openxmlformats.org/officeDocument/2006/relationships/hyperlink" Target="http://www.springerlink.com/content/100270622k03v066/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D:\Vyuka\C6730 Term_FR\p&#345;edn&#225;&#353;ka_CZ\06tyden\02_Algoritmus &#345;e&#353;en&#237; FR.pdf" TargetMode="Externa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6 Vícesložk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Pákové pravidlo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27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21000" y="1065240"/>
                <a:ext cx="52624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qui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ount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65440" y="2543040"/>
            <a:ext cx="5281560" cy="3805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479600" y="1693800"/>
                <a:ext cx="5313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li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ount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ákon zachování hmoty ve vícesložkové a vícefázové soustavě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763120" cy="56088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rId2"/>
          </p:cNvPr>
          <p:cNvSpPr/>
          <p:nvPr/>
        </p:nvSpPr>
        <p:spPr>
          <a:xfrm>
            <a:off x="7848720" y="63244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2"/>
                </a:moveTo>
                <a:lnTo>
                  <a:pt x="12271" y="3992"/>
                </a:lnTo>
                <a:lnTo>
                  <a:pt x="16327" y="7491"/>
                </a:lnTo>
                <a:lnTo>
                  <a:pt x="16327" y="17622"/>
                </a:lnTo>
                <a:lnTo>
                  <a:pt x="5273" y="17622"/>
                </a:lnTo>
                <a:close/>
              </a:path>
              <a:path fill="darken" w="21600" h="21615">
                <a:moveTo>
                  <a:pt x="12271" y="3992"/>
                </a:moveTo>
                <a:lnTo>
                  <a:pt x="16327" y="7491"/>
                </a:lnTo>
                <a:lnTo>
                  <a:pt x="12271" y="749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658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Další postup viz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76520"/>
            <a:ext cx="8001000" cy="35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Calc (Švédsko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"/>
              </a:rPr>
              <a:t>thermocalc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TData (Velká Británie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np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.co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9"/>
              </a:rPr>
              <a:t>u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advance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material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measurem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technique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modellin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1"/>
              </a:rPr>
              <a:t>mtdata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neak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Sage (Canada+SRN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3"/>
              </a:rPr>
              <a:t>factsag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6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i příklady diagramů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wnloady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7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8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9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0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1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2"/>
              </a:rPr>
              <a:t>fa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3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4"/>
              </a:rPr>
              <a:t>downloa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5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6"/>
              </a:rPr>
              <a:t>php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7"/>
              </a:rPr>
              <a:t>#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ndat (USA, Japan, Corea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8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9"/>
              </a:rPr>
              <a:t>computher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0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1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2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3"/>
              </a:rPr>
              <a:t>hom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4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5"/>
              </a:rPr>
              <a:t>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DATA (Francie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6"/>
              </a:rPr>
              <a:t>http:/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7"/>
              </a:rPr>
              <a:t>thermodata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8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9"/>
              </a:rPr>
              <a:t>onlin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0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1"/>
              </a:rPr>
              <a:t>fr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2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3"/>
              </a:rPr>
              <a:t>vlx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4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5"/>
              </a:rPr>
              <a:t>com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1523880"/>
            <a:ext cx="82296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"/>
              </a:rPr>
              <a:t>asminternationa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"/>
              </a:rPr>
              <a:t>or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asmenterpris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ap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9"/>
              </a:rPr>
              <a:t>/default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aspx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SI (koupit si diagram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baz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sgt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/index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php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ssm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niha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springerlin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1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3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cont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/100270622k03v066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tegrální a diferenciální podmínka fáz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umerické řešení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becné pákové pravidl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Řešení FR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5410080" cy="5089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3581280" cy="869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257800" y="2057400"/>
            <a:ext cx="3581280" cy="2039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8805960" y="1981080"/>
            <a:ext cx="33804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44640"/>
            <a:ext cx="79246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Integrální podmínka FR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(minimum celkové Gibbsovy energie soustavy)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1060560"/>
            <a:ext cx="8458200" cy="5797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638680" y="65530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Algoritmus (příklad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>
            <a:hlinkClick r:id="rId2"/>
          </p:cNvPr>
          <p:cNvSpPr/>
          <p:nvPr/>
        </p:nvSpPr>
        <p:spPr>
          <a:xfrm>
            <a:off x="8305920" y="6477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Less" w="21600" h="27006">
                <a:moveTo>
                  <a:pt x="5273" y="6688"/>
                </a:moveTo>
                <a:lnTo>
                  <a:pt x="12271" y="6688"/>
                </a:lnTo>
                <a:lnTo>
                  <a:pt x="16327" y="10187"/>
                </a:lnTo>
                <a:lnTo>
                  <a:pt x="16327" y="20318"/>
                </a:lnTo>
                <a:lnTo>
                  <a:pt x="5273" y="20318"/>
                </a:lnTo>
                <a:close/>
              </a:path>
              <a:path fill="darken" w="21600" h="27006">
                <a:moveTo>
                  <a:pt x="12271" y="6688"/>
                </a:moveTo>
                <a:lnTo>
                  <a:pt x="16327" y="10187"/>
                </a:lnTo>
                <a:lnTo>
                  <a:pt x="12271" y="10187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Řešení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2805120"/>
          </a:xfrm>
          <a:prstGeom prst="rect">
            <a:avLst/>
          </a:prstGeom>
          <a:ln w="0">
            <a:noFill/>
          </a:ln>
        </p:spPr>
      </p:pic>
      <p:pic>
        <p:nvPicPr>
          <p:cNvPr id="163" name="LLE" descr=""/>
          <p:cNvPicPr/>
          <p:nvPr/>
        </p:nvPicPr>
        <p:blipFill>
          <a:blip r:embed="rId2"/>
          <a:stretch/>
        </p:blipFill>
        <p:spPr>
          <a:xfrm>
            <a:off x="3657600" y="4648320"/>
            <a:ext cx="2209680" cy="1965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80880" y="40384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ie line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ie triangle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969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969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844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969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969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44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img18" descr=""/>
          <p:cNvPicPr/>
          <p:nvPr/>
        </p:nvPicPr>
        <p:blipFill>
          <a:blip r:embed="rId3"/>
          <a:stretch/>
        </p:blipFill>
        <p:spPr>
          <a:xfrm>
            <a:off x="6095880" y="4419720"/>
            <a:ext cx="2362320" cy="2068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768320" y="18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68320" y="1849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1160" y="3894120"/>
            <a:ext cx="16164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55800" y="300996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images" descr=""/>
          <p:cNvPicPr/>
          <p:nvPr/>
        </p:nvPicPr>
        <p:blipFill>
          <a:blip r:embed="rId4"/>
          <a:stretch/>
        </p:blipFill>
        <p:spPr>
          <a:xfrm>
            <a:off x="762120" y="4572000"/>
            <a:ext cx="2068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209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Diferenciální podmínka FR</a:t>
            </a:r>
            <a:br>
              <a:rPr sz="2400"/>
            </a:b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(rovnost chemických popenciálů tj. i aktivit)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9154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Aktivita a chem. potenciál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Vlastnosti modelu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8760" y="1295280"/>
            <a:ext cx="898524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W s metodou CALPH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D-pp (Phase Diagram program package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83818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14T08:42:31Z</dcterms:modified>
  <cp:revision>105</cp:revision>
  <dc:subject/>
  <dc:title>C6730 Fázové rovnováhy</dc:title>
</cp:coreProperties>
</file>