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13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6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7C33-8966-4006-8B40-9A15F9DF089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565-BC6F-4D80-AAB0-F4952123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74C-7695-41A9-834A-1C033412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6687-83F5-41C8-90E4-53152399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695-1098-4D02-A008-BA779158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C633-CA5A-4BCE-A2B4-0EFA72A9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8584-4A74-429C-B883-F89FC412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0902-0683-4D09-AFE3-DCF98ACC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3AF0-F632-457B-BF6A-81DBDB7B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CE19-8117-441D-88B5-9A7CD146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9D1F-529B-46A4-A689-D34A6EE8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D137-7956-425A-9458-929E5D64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A4F-8A45-4589-B95B-B6EE25F2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89C4-38AD-4B65-A15F-118ACC43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2DE7-61C9-4B63-A2BD-541375FA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F471-21AF-4D9C-8622-8775BACD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41ED-1A23-415A-A94A-038471BD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C808-0636-4263-94DE-509B8FA9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D05-6D72-4B84-89CD-F684B6F0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84A-85EF-464B-8ACF-47BD171A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B42-82BD-4A4C-AD79-6AC0547E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8CB-07AF-41F6-96D2-98645ECC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C68-6A78-4B75-BD92-DE6E7B3E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293-E068-4E6D-B1A5-6C33BFE5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F1E-E6D2-4311-8E69-2F67BF8C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889D-3620-4F01-8168-8628D3645C5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36D3-9C84-4CF8-8ABC-D90B3BB0B29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08a Quatermární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Žáropevné oceli P91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Fig_FD_P91_oK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867640" cy="5311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400800" y="1066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=1Atm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e-9wt%Cr-1%Mo-0,2%V-0,01%N-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051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051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26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reasonable_price_of_P91_steel_alloy_pipe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609640" cy="1931760"/>
          </a:xfrm>
          <a:prstGeom prst="rect">
            <a:avLst/>
          </a:prstGeom>
          <a:ln w="0">
            <a:noFill/>
          </a:ln>
        </p:spPr>
      </p:pic>
      <p:pic>
        <p:nvPicPr>
          <p:cNvPr id="189" name="T91p91_1" descr=""/>
          <p:cNvPicPr/>
          <p:nvPr/>
        </p:nvPicPr>
        <p:blipFill>
          <a:blip r:embed="rId3"/>
          <a:stretch/>
        </p:blipFill>
        <p:spPr>
          <a:xfrm>
            <a:off x="6324480" y="4290840"/>
            <a:ext cx="2362320" cy="2122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00800" y="6477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evnost při cree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a_01_ph2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5012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85920"/>
            <a:ext cx="8229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85920"/>
            <a:ext cx="9144000" cy="36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5" name="a_03_ph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83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edikce FD 4 – složkové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Quaternární soustav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65320"/>
            <a:ext cx="4495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rojekce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311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6516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516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95920" y="3859200"/>
            <a:ext cx="2482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5264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2746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měsné sulfid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CAgSbZ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114800" cy="3911760"/>
          </a:xfrm>
          <a:prstGeom prst="rect">
            <a:avLst/>
          </a:prstGeom>
          <a:ln w="0">
            <a:noFill/>
          </a:ln>
        </p:spPr>
      </p:pic>
      <p:pic>
        <p:nvPicPr>
          <p:cNvPr id="162" name="CAgSbZ6" descr="Three assemblages"/>
          <p:cNvPicPr/>
          <p:nvPr/>
        </p:nvPicPr>
        <p:blipFill>
          <a:blip r:embed="rId2"/>
          <a:stretch/>
        </p:blipFill>
        <p:spPr>
          <a:xfrm>
            <a:off x="4648320" y="1143000"/>
            <a:ext cx="4149720" cy="3944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5334120"/>
            <a:ext cx="86104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'sphalerite' ….ZnS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ArgCal … argentite-chalcocite solid solution (Ag,Cu)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,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Miargyrite….Ag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Pyrargyrite…Ag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ahlore…Cu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5334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research.amnh.org/~debel/sulfide/fahlore/CASZsys1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20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ryovolcanism on icy satellites: Application to Titan.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93040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3040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788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hase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154480" cy="4857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9920" y="114300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http://www.es.ucl.ac.uk/research/planetary/undergraduate/dom/weathering_titan/chap7.ht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clastic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935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Fe-4Mo-Cr-C%20at%201000%20degree%20C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894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44956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Nerez ocel Fe-18Cr-8Ni-0,2%C-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83265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000680" cy="3782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0" y="3048120"/>
            <a:ext cx="358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Fig 1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hase diagram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of stainless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AISI 420 (X20Cr13) calculated by Thermocalc including isobars of equilibrium N2 pressure. At a temperature of 1100¿C and P(n2) just below 1 bar, for example, a nitrogen content of 0.35% is expected in the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surface which, together with 0.2% C in the bulk material, is sufficient to produce a surface hardness of about 59 HRC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83266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18716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97000" y="304920"/>
            <a:ext cx="6275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22716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b-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1-66591" descr=""/>
          <p:cNvPicPr/>
          <p:nvPr/>
        </p:nvPicPr>
        <p:blipFill>
          <a:blip r:embed="rId1"/>
          <a:stretch/>
        </p:blipFill>
        <p:spPr>
          <a:xfrm>
            <a:off x="533520" y="895320"/>
            <a:ext cx="65530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5:29:23Z</dcterms:modified>
  <cp:revision>117</cp:revision>
  <dc:subject/>
  <dc:title>C6730 Fázové rovnováhy</dc:title>
</cp:coreProperties>
</file>