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11E5-9E72-4652-8AE5-16DC2910FF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D18-5D04-4C8A-83EF-00D0F1D0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BC4-6492-42EC-88C7-0ABD4A23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1BE-AB55-45AC-961D-9C42534E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132-48C6-401A-9A92-3B07EE52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7F3D-C68F-41C8-9181-CF2352B8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B6F7-338C-42C4-8636-810D26F1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FC1E-DD10-4EB6-81E6-DB6A539C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B88F-DEAF-42E1-8BDF-5470DF83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D994-6AB7-4315-9E70-4D57E0B6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41E9-B377-4630-B403-2BF576E6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DE5E-CAC3-42F4-9137-B0CDE253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AC8-503C-443D-8127-54E561EF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FACE-89D8-4CF5-BB8E-70C61599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9EF0-CF1F-4D49-81B0-E08B629E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F677-DE47-4BE0-8B3E-1739F6A0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7618-AC81-4F00-91C6-BE394D4D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EAAB-0609-4D84-9960-B502FB6A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DCB-511B-4564-9761-48C2E8F0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20F-1BF2-4A47-9D42-F72FE1BD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69F-AB21-41F5-B2D2-C1248E5B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BE3-257A-4E33-90D6-760A804E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4D8-0020-4CAA-8F82-5A6F8863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77C-7575-422E-9654-666B8889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514-3187-457C-B920-056322F5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B195-B99E-4AD9-AD42-AEA9102F090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ADB2-CEC8-4416-9034-D1D1AC45F07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ct.polymtl.ca/thermo_databases.html" TargetMode="External"/><Relationship Id="rId3" Type="http://schemas.openxmlformats.org/officeDocument/2006/relationships/hyperlink" Target="http://www.crct.polymtl.ca/thermo_databases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vlxe.com/" TargetMode="External"/><Relationship Id="rId6" Type="http://schemas.openxmlformats.org/officeDocument/2006/relationships/hyperlink" Target="http://www.vlxe.com/" TargetMode="External"/><Relationship Id="rId7" Type="http://schemas.openxmlformats.org/officeDocument/2006/relationships/hyperlink" Target="http://www.vlxe.com/" TargetMode="External"/><Relationship Id="rId8" Type="http://schemas.openxmlformats.org/officeDocument/2006/relationships/hyperlink" Target="http://www.vlxe.com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asminternational.org/asmenterprise/apd/default.aspx" TargetMode="External"/><Relationship Id="rId12" Type="http://schemas.openxmlformats.org/officeDocument/2006/relationships/hyperlink" Target="http://www.asminternational.org/asmenterprise/apd/default.aspx" TargetMode="External"/><Relationship Id="rId13" Type="http://schemas.openxmlformats.org/officeDocument/2006/relationships/hyperlink" Target="http://www.asminternational.org/asmenterprise/apd/default.aspx" TargetMode="External"/><Relationship Id="rId14" Type="http://schemas.openxmlformats.org/officeDocument/2006/relationships/hyperlink" Target="http://www.asminternational.org/asmenterprise/apd/default.aspx" TargetMode="External"/><Relationship Id="rId15" Type="http://schemas.openxmlformats.org/officeDocument/2006/relationships/hyperlink" Target="http://www.asminternational.org/asmenterprise/apd/default.aspx" TargetMode="External"/><Relationship Id="rId16" Type="http://schemas.openxmlformats.org/officeDocument/2006/relationships/hyperlink" Target="http://www.asminternational.org/asmenterprise/apd/default.aspx" TargetMode="External"/><Relationship Id="rId17" Type="http://schemas.openxmlformats.org/officeDocument/2006/relationships/hyperlink" Target="http://www.asminternational.org/asmenterprise/apd/default.aspx" TargetMode="External"/><Relationship Id="rId18" Type="http://schemas.openxmlformats.org/officeDocument/2006/relationships/hyperlink" Target="http://www.asminternational.org/asmenterprise/apd/default.aspx" TargetMode="External"/><Relationship Id="rId19" Type="http://schemas.openxmlformats.org/officeDocument/2006/relationships/hyperlink" Target="http://www.asminternational.org/asmenterprise/apd/default.aspx" TargetMode="External"/><Relationship Id="rId20" Type="http://schemas.openxmlformats.org/officeDocument/2006/relationships/hyperlink" Target="http://www.asminternational.org/asmenterprise/apd/default.aspx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www1.asminternational.org/AsmEnterprise/APD/" TargetMode="External"/><Relationship Id="rId23" Type="http://schemas.openxmlformats.org/officeDocument/2006/relationships/image" Target="../media/image1.png"/><Relationship Id="rId24" Type="http://schemas.openxmlformats.org/officeDocument/2006/relationships/hyperlink" Target="http://www.crct.polymtl.ca/sgte/index.php" TargetMode="External"/><Relationship Id="rId25" Type="http://schemas.openxmlformats.org/officeDocument/2006/relationships/hyperlink" Target="http://www.crct.polymtl.ca/sgte/index.php" TargetMode="External"/><Relationship Id="rId26" Type="http://schemas.openxmlformats.org/officeDocument/2006/relationships/hyperlink" Target="http://www.crct.polymtl.ca/sgte/index.php" TargetMode="External"/><Relationship Id="rId27" Type="http://schemas.openxmlformats.org/officeDocument/2006/relationships/hyperlink" Target="http://www.crct.polymtl.ca/sgte/index.php" TargetMode="External"/><Relationship Id="rId28" Type="http://schemas.openxmlformats.org/officeDocument/2006/relationships/hyperlink" Target="http://www.crct.polymtl.ca/sgte/index.php" TargetMode="External"/><Relationship Id="rId29" Type="http://schemas.openxmlformats.org/officeDocument/2006/relationships/hyperlink" Target="http://www.crct.polymtl.ca/sgte/index.php" TargetMode="External"/><Relationship Id="rId30" Type="http://schemas.openxmlformats.org/officeDocument/2006/relationships/hyperlink" Target="http://www.crct.polymtl.ca/sgte/index.php" TargetMode="External"/><Relationship Id="rId31" Type="http://schemas.openxmlformats.org/officeDocument/2006/relationships/hyperlink" Target="http://www.crct.polymtl.ca/sgte/index.php" TargetMode="External"/><Relationship Id="rId32" Type="http://schemas.openxmlformats.org/officeDocument/2006/relationships/image" Target="../media/image12.png"/><Relationship Id="rId33" Type="http://schemas.openxmlformats.org/officeDocument/2006/relationships/hyperlink" Target="http://www.nims.go.jp/cmsc/pst/database/periodic.htm" TargetMode="External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jpeg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computherm.com/home.html" TargetMode="External"/><Relationship Id="rId5" Type="http://schemas.openxmlformats.org/officeDocument/2006/relationships/hyperlink" Target="http://www.factsage.com/" TargetMode="External"/><Relationship Id="rId6" Type="http://schemas.openxmlformats.org/officeDocument/2006/relationships/hyperlink" Target="http://www.crct.polymtl.ca/thermo_databases.html" TargetMode="External"/><Relationship Id="rId7" Type="http://schemas.openxmlformats.org/officeDocument/2006/relationships/hyperlink" Target="http://resource.npl.co.uk/mtdata/mtdatasoftware.htm" TargetMode="External"/><Relationship Id="rId8" Type="http://schemas.openxmlformats.org/officeDocument/2006/relationships/hyperlink" Target="http://www.npl.co.uk/science-technology/advanced-materials/measurement-techniques/mtdata/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rmodata.online.fr/anglais.html" TargetMode="External"/><Relationship Id="rId2" Type="http://schemas.openxmlformats.org/officeDocument/2006/relationships/hyperlink" Target="http://thermodata.online.fr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8 SW a termodynamické databáze pro výpočty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209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99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zdroje informací o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http://www.crct.polymtl.ca/thermo_databases.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vlx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co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ttp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asminternationa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org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asmenterpris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apd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/default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asp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1.asminternational.org/AsmEnterprise/APD/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rct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polymt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.ca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sgt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/index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php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Diagramy (JP) NIMS: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tp://www.nims.go.jp/cmsc/pst/database/periodic.htm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Kniha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springerlink.com/content/100270622k03v066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nims_logo" descr=""/>
          <p:cNvPicPr/>
          <p:nvPr/>
        </p:nvPicPr>
        <p:blipFill>
          <a:blip r:embed="rId37"/>
          <a:stretch/>
        </p:blipFill>
        <p:spPr>
          <a:xfrm>
            <a:off x="6553080" y="4191120"/>
            <a:ext cx="14940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ASM_Logo" descr=""/>
          <p:cNvPicPr/>
          <p:nvPr/>
        </p:nvPicPr>
        <p:blipFill>
          <a:blip r:embed="rId38"/>
          <a:stretch/>
        </p:blipFill>
        <p:spPr>
          <a:xfrm>
            <a:off x="6705720" y="1600200"/>
            <a:ext cx="1976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Thermodynamic_2" descr=""/>
          <p:cNvPicPr/>
          <p:nvPr/>
        </p:nvPicPr>
        <p:blipFill>
          <a:blip r:embed="rId1"/>
          <a:stretch/>
        </p:blipFill>
        <p:spPr>
          <a:xfrm>
            <a:off x="914400" y="1349280"/>
            <a:ext cx="7064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H_p91" descr=""/>
          <p:cNvPicPr/>
          <p:nvPr/>
        </p:nvPicPr>
        <p:blipFill>
          <a:blip r:embed="rId1"/>
          <a:stretch/>
        </p:blipFill>
        <p:spPr>
          <a:xfrm>
            <a:off x="0" y="140976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288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ahoma"/>
              </a:rPr>
              <a:t>bcc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ahoma"/>
              </a:rPr>
              <a:t>carbid M23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Carbonitrid 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 MX+M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b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600200"/>
            <a:ext cx="2682720" cy="30348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Řez FD  žárupevné oceli P91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Fe-9%Cr-0,1%Ni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96%Mo-0,3%V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045%N-0,1%C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n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b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c</a:t>
            </a: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c+MX+M23+M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2 bcc+fc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3 bcc+M23+M7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Webdings"/>
                <a:ea typeface="Webdings"/>
              </a:rPr>
              <a:t>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lgoritmus výpočtu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ssessmen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W pro metodu CALPHAD a Termodynamické datab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lgoritmus výpočtz FR metodou CALPHAD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147680"/>
            <a:ext cx="73152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met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792520" y="234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2520" y="2340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35002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3809880" cy="533160"/>
          </a:xfrm>
          <a:prstGeom prst="rect">
            <a:avLst/>
          </a:prstGeom>
          <a:solidFill>
            <a:srgbClr val="ff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Termodynamická datab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257800"/>
            <a:ext cx="2971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Řešení fázové rovnováhy (složení koexistujících fází,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486400"/>
            <a:ext cx="2286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ázový diagram soustav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62840" y="5562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9320" y="35053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1600" y="15238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5280" y="4876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276720"/>
            <a:ext cx="3429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Celkové složení soustavy, T,p, vazné podmínky (zákon zachování hmoty, stechiometrie, elektroneutrality)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09880"/>
            <a:ext cx="3429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Minimalizace celkové Gibbsovy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soustav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4382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všech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5120" y="38862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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914400"/>
            <a:ext cx="518148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Termodynamické parametry (experimentálně dosažitelné z termodynamických měření, získatelné z fázových dat,  „ab-initio výpočet“ 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133720"/>
            <a:ext cx="49528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odynamické modely f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34340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dmíněná minimalizace účelové funkce mnoha proměnný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lgoritmus assessmentu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ALPHAD assess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Calphad%20Scheme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7543800" cy="505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0200" y="6095880"/>
            <a:ext cx="54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flyhy.eu/science_wp3.htm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SW - </a:t>
            </a:r>
            <a:r>
              <a:rPr b="1" lang="en-US" sz="1600" spc="-1" strike="noStrike">
                <a:solidFill>
                  <a:srgbClr val="4d4d4d"/>
                </a:solidFill>
                <a:latin typeface="Arial Unicode MS"/>
              </a:rPr>
              <a:t>DATABASES IN CHEMICAL THERMODYNAMIC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838080"/>
          <a:ext cx="8305560" cy="5132520"/>
        </p:xfrm>
        <a:graphic>
          <a:graphicData uri="http://schemas.openxmlformats.org/drawingml/2006/table">
            <a:tbl>
              <a:tblPr/>
              <a:tblGrid>
                <a:gridCol w="1371600"/>
                <a:gridCol w="1447560"/>
                <a:gridCol w="320040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Thermo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-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3"/>
                        </a:rPr>
                        <a:t>Cal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Royal Institut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Technolog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we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for thermodynam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phase diagram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alculations, speciall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esigned for systems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trongly non-ideal phases. Assessmen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 and workstation, commert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Pand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uTherm LLC</a:t>
                      </a:r>
                      <a:br>
                        <a:rPr sz="1600"/>
                      </a:b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JP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hase diagrams and related thermodynamic calculations. Celkova G energi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ercial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5"/>
                        </a:rPr>
                        <a:t>F*A*C*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6"/>
                        </a:rPr>
                        <a:t>École Polytechnique_x000b_de Montréal</a:t>
                      </a: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(FR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grated 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 which coupl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data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nline, P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web. Commert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7"/>
                        </a:rPr>
                        <a:t>MT-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8"/>
                        </a:rPr>
                        <a:t>NPL</a:t>
                      </a:r>
                      <a:r>
                        <a:rPr b="0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(UK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nk system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 data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-disks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Thermo_Calc_logo" descr=""/>
          <p:cNvPicPr/>
          <p:nvPr/>
        </p:nvPicPr>
        <p:blipFill>
          <a:blip r:embed="rId9"/>
          <a:stretch/>
        </p:blipFill>
        <p:spPr>
          <a:xfrm>
            <a:off x="7772400" y="1905120"/>
            <a:ext cx="884160" cy="766800"/>
          </a:xfrm>
          <a:prstGeom prst="rect">
            <a:avLst/>
          </a:prstGeom>
          <a:ln w="0">
            <a:noFill/>
          </a:ln>
        </p:spPr>
      </p:pic>
      <p:pic>
        <p:nvPicPr>
          <p:cNvPr id="187" name="wwf_panda_logo_1978" descr=""/>
          <p:cNvPicPr/>
          <p:nvPr/>
        </p:nvPicPr>
        <p:blipFill>
          <a:blip r:embed="rId10"/>
          <a:stretch/>
        </p:blipFill>
        <p:spPr>
          <a:xfrm>
            <a:off x="7772400" y="3124080"/>
            <a:ext cx="993600" cy="925560"/>
          </a:xfrm>
          <a:prstGeom prst="rect">
            <a:avLst/>
          </a:prstGeom>
          <a:ln w="0">
            <a:noFill/>
          </a:ln>
        </p:spPr>
      </p:pic>
      <p:pic>
        <p:nvPicPr>
          <p:cNvPr id="188" name="sp_factsage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21718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4488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2484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200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demlog160" descr=""/>
          <p:cNvPicPr/>
          <p:nvPr/>
        </p:nvPicPr>
        <p:blipFill>
          <a:blip r:embed="rId12"/>
          <a:stretch/>
        </p:blipFill>
        <p:spPr>
          <a:xfrm>
            <a:off x="77724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365120"/>
          <a:ext cx="8077320" cy="5086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200400"/>
                <a:gridCol w="228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om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Thermodoc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Gemin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THERMO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elements and substa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 inorganic chemistry,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ir reaction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Bibliographic refere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ertaining to th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 of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elements, stoichiometr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tances, alloys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-stoichiometric phas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interest to dry miner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hemistry)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ranspac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rne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opert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ICST. factu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s (JOIS-F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 relate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 for inorganic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low molecular weight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pounds and up to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3-component system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lanned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WWW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cript.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te: this servic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s temporary dow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2-12T15:02:49Z</dcterms:modified>
  <cp:revision>122</cp:revision>
  <dc:subject/>
  <dc:title>C6730 Fázové rovnováhy</dc:title>
</cp:coreProperties>
</file>