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13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6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BC7C-F0CE-4500-9135-9364B569425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14B0-CDAB-4C26-872A-BF1E2E7E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AED-9187-4DF5-933A-BA85B61E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F1A-0300-4C22-A861-333A0A11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2FD-7468-4075-92FE-C543435C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2017-0A4A-48E1-879C-A325E8D1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5013-AADE-4A1F-8232-58DB7DC5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810B-A279-4D3B-9400-8410FD01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C2AE-80FA-4224-9472-0B710860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2F3A-A5FB-489F-BB8B-79701657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FF73-D653-4F65-AD09-1B54F7E8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83FD-2E12-49E0-8CCD-FAC24AEB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479-C368-44ED-8F4A-BED7C685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775C-35E6-4C2B-B19B-AAA4E546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3AA2-4A41-4A8F-95A4-5946066B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0DE4-D920-4A01-A7FF-EFD3642F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18BD-D55C-489D-B3E7-0DFF48A1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F569-E400-44CC-B06C-E493AC59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078-4C63-4523-96FF-F56D47EB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69FD-8C40-4BD1-A756-D6BE627C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602-C480-4DC3-9DB6-50B1FB9A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7CAA-A313-49C9-87BB-3506097D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C84F-5ADC-4AE0-AAD3-9E360E1C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0BE2-889B-42A3-94A9-A10F5A92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A24-D451-4183-BE72-1EDCF18E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3905-191E-4582-B143-AADF64A7939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AED0-25E2-4BD0-9912-66F9B03AB07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08a Quatermární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Žáropevné oceli P91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Fig_FD_P91_oK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867640" cy="5311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400800" y="10666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=1Atm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e-9wt%Cr-1%Mo-0,2%V-0,01%N-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051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051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26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reasonable_price_of_P91_steel_alloy_pipe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609640" cy="1931760"/>
          </a:xfrm>
          <a:prstGeom prst="rect">
            <a:avLst/>
          </a:prstGeom>
          <a:ln w="0">
            <a:noFill/>
          </a:ln>
        </p:spPr>
      </p:pic>
      <p:pic>
        <p:nvPicPr>
          <p:cNvPr id="189" name="T91p91_1" descr=""/>
          <p:cNvPicPr/>
          <p:nvPr/>
        </p:nvPicPr>
        <p:blipFill>
          <a:blip r:embed="rId3"/>
          <a:stretch/>
        </p:blipFill>
        <p:spPr>
          <a:xfrm>
            <a:off x="6324480" y="4290840"/>
            <a:ext cx="2362320" cy="2122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00800" y="6477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evnost při cree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a_01_ph2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5012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85920"/>
            <a:ext cx="8229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85920"/>
            <a:ext cx="9144000" cy="36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5" name="a_03_ph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832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edikce FD 4 – složkové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Quaternární soustav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65320"/>
            <a:ext cx="4495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rojekce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5311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6516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516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95920" y="3859200"/>
            <a:ext cx="2482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5264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2746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měsné sulfid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CAgSbZ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114800" cy="3911760"/>
          </a:xfrm>
          <a:prstGeom prst="rect">
            <a:avLst/>
          </a:prstGeom>
          <a:ln w="0">
            <a:noFill/>
          </a:ln>
        </p:spPr>
      </p:pic>
      <p:pic>
        <p:nvPicPr>
          <p:cNvPr id="162" name="CAgSbZ6" descr="Three assemblages"/>
          <p:cNvPicPr/>
          <p:nvPr/>
        </p:nvPicPr>
        <p:blipFill>
          <a:blip r:embed="rId2"/>
          <a:stretch/>
        </p:blipFill>
        <p:spPr>
          <a:xfrm>
            <a:off x="4648320" y="1143000"/>
            <a:ext cx="4149720" cy="3944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5334120"/>
            <a:ext cx="86104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'sphalerite' ….ZnS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ArgCal … argentite-chalcocite solid solution (Ag,Cu)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,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Miargyrite….Ag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Pyrargyrite…Ag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ahlore…Cu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5334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research.amnh.org/~debel/sulfide/fahlore/CASZsys1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20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ryovolcanism on icy satellites: Application to Titan.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93040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3040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788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hase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154480" cy="4857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19920" y="114300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http://www.es.ucl.ac.uk/research/planetary/undergraduate/dom/weathering_titan/chap7.ht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clastic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2935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Fe-4Mo-Cr-C%20at%201000%20degree%20C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894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44956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Nerez ocel Fe-18Cr-8Ni-0,2%C-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83265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000680" cy="3782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0" y="3048120"/>
            <a:ext cx="358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Fig 1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Phase diagram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of stainless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AISI 420 (X20Cr13) calculated by Thermocalc including isobars of equilibrium N2 pressure. At a temperature of 1100¿C and P(n2) just below 1 bar, for example, a nitrogen content of 0.35% is expected in the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surface which, together with 0.2% C in the bulk material, is sufficient to produce a surface hardness of about 59 HRC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83266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187164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97000" y="304920"/>
            <a:ext cx="6275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22716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b-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1-66591" descr=""/>
          <p:cNvPicPr/>
          <p:nvPr/>
        </p:nvPicPr>
        <p:blipFill>
          <a:blip r:embed="rId1"/>
          <a:stretch/>
        </p:blipFill>
        <p:spPr>
          <a:xfrm>
            <a:off x="533520" y="895320"/>
            <a:ext cx="65530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5:29:23Z</dcterms:modified>
  <cp:revision>117</cp:revision>
  <dc:subject/>
  <dc:title>C6730 Fázové rovnováhy</dc:title>
</cp:coreProperties>
</file>