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.gif" ContentType="image/gif"/>
  <Override PartName="/ppt/media/image9.png" ContentType="image/png"/>
  <Override PartName="/ppt/media/image13.png" ContentType="image/png"/>
  <Override PartName="/ppt/media/image18.jpeg" ContentType="image/jpeg"/>
  <Override PartName="/ppt/media/image7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6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A163-731A-44F1-8B63-2E35118EF02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EBE4-A8E8-4770-AC91-55132DB4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EC69-EEF4-4DFC-8BB2-E2866887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BF65-0492-4D00-BE2E-68B764294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7C5C-AEE0-468A-A17B-D2D8337E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F58D-0B0B-46F4-BC2E-3DFAFE010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4027-656A-49B0-B67F-78DB2913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1946-5E7F-4A19-865E-CFAD0227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3182-900D-44FD-B823-29B043B5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8CF6-7963-496A-9FED-A62FFF64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6AFA-9092-42E3-959E-E5CE8337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0259-1598-49D8-96FA-D885B1CC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95A5-D830-4327-A4EC-25DC0A6B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BD05-1FE7-4AE7-B00B-DD4792AE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67F0-FB6F-4E74-9203-ADD2D893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8E97-6EDF-49DD-BB3E-52A83C2C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2E17-5C21-4BB9-AAF1-C5090BCB8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B642-AB23-47E4-B54A-3AE9E32A9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910F-7B65-4793-A0FE-84257BB5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91E2-A36C-448C-9F8A-BAA509F3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1242-2E47-4C9F-A98A-A692AB93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277B-ABD3-448D-A1A6-C9A55D28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D518-6057-47BE-A8BE-E7129A38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6164-1C7A-4FBD-AEC6-F923E8C6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0191-F271-4C77-9EB1-1DDE7DD0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83DA-3101-4B89-A84E-0366E13632E2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54AB-BA71-4E38-84FF-96FC8CB7E572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08a Quatermární soustav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Žáropevné oceli P91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3" name="Fig_FD_P91_oK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867640" cy="5311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400800" y="1066680"/>
            <a:ext cx="2514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=1Atm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Fe-9wt%Cr-1%Mo-0,2%V-0,01%N-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0512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0512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260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8" name="reasonable_price_of_P91_steel_alloy_pipe" descr=""/>
          <p:cNvPicPr/>
          <p:nvPr/>
        </p:nvPicPr>
        <p:blipFill>
          <a:blip r:embed="rId2"/>
          <a:stretch/>
        </p:blipFill>
        <p:spPr>
          <a:xfrm>
            <a:off x="6248520" y="2362320"/>
            <a:ext cx="2609640" cy="1931760"/>
          </a:xfrm>
          <a:prstGeom prst="rect">
            <a:avLst/>
          </a:prstGeom>
          <a:ln w="0">
            <a:noFill/>
          </a:ln>
        </p:spPr>
      </p:pic>
      <p:pic>
        <p:nvPicPr>
          <p:cNvPr id="189" name="T91p91_1" descr=""/>
          <p:cNvPicPr/>
          <p:nvPr/>
        </p:nvPicPr>
        <p:blipFill>
          <a:blip r:embed="rId3"/>
          <a:stretch/>
        </p:blipFill>
        <p:spPr>
          <a:xfrm>
            <a:off x="6324480" y="4290840"/>
            <a:ext cx="2362320" cy="21225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400800" y="6477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Pevnost při creep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a_01_ph2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350120" cy="54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385920"/>
            <a:ext cx="82296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85920"/>
            <a:ext cx="9144000" cy="36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5" name="a_03_ph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832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redikce FD 4 – složkové soustav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Quaternární soustav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65320"/>
            <a:ext cx="4495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Projekce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447920"/>
            <a:ext cx="7772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763120" cy="5311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6516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516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95920" y="3859200"/>
            <a:ext cx="2482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5264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62120" y="3429000"/>
            <a:ext cx="27460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22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měsné sulfid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CAgSbZ3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4114800" cy="3911760"/>
          </a:xfrm>
          <a:prstGeom prst="rect">
            <a:avLst/>
          </a:prstGeom>
          <a:ln w="0">
            <a:noFill/>
          </a:ln>
        </p:spPr>
      </p:pic>
      <p:pic>
        <p:nvPicPr>
          <p:cNvPr id="162" name="CAgSbZ6" descr="Three assemblages"/>
          <p:cNvPicPr/>
          <p:nvPr/>
        </p:nvPicPr>
        <p:blipFill>
          <a:blip r:embed="rId2"/>
          <a:stretch/>
        </p:blipFill>
        <p:spPr>
          <a:xfrm>
            <a:off x="4648320" y="1143000"/>
            <a:ext cx="4149720" cy="3944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600" y="5334120"/>
            <a:ext cx="861048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'sphalerite' ….ZnS,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ArgCal … argentite-chalcocite solid solution (Ag,Cu)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,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Miargyrite….AgSbS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. Pyrargyrite…Ag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bS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Fahlore…Cu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b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4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13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86600" y="53341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://research.amnh.org/~debel/sulfide/fahlore/CASZsys1.htm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30420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Cryovolcanism on icy satellites: Application to Titan.</a:t>
            </a:r>
            <a:endParaRPr b="0" lang="en-US" sz="1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293040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3040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1788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phase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5154480" cy="48574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019920" y="1143000"/>
            <a:ext cx="259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http://www.es.ucl.ac.uk/research/planetary/undergraduate/dom/weathering_titan/chap7.ht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1" name="clastic" descr=""/>
          <p:cNvPicPr/>
          <p:nvPr/>
        </p:nvPicPr>
        <p:blipFill>
          <a:blip r:embed="rId2"/>
          <a:stretch/>
        </p:blipFill>
        <p:spPr>
          <a:xfrm>
            <a:off x="5867280" y="2590920"/>
            <a:ext cx="29354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Ocel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Fe-4Mo-Cr-C%20at%201000%20degree%20C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789444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449568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Nerez ocel Fe-18Cr-8Ni-0,2%C-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5" name="83265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000680" cy="3782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572000" y="3048120"/>
            <a:ext cx="358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Fig 1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Phase diagram</a:t>
            </a: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 of stainless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steel</a:t>
            </a: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 AISI 420 (X20Cr13) calculated by Thermocalc including isobars of equilibrium N2 pressure. At a temperature of 1100¿C and P(n2) just below 1 bar, for example, a nitrogen content of 0.35% is expected in the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steel</a:t>
            </a: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 surface which, together with 0.2% C in the bulk material, is sufficient to produce a surface hardness of about 59 HRC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7" name="83266" descr=""/>
          <p:cNvPicPr/>
          <p:nvPr/>
        </p:nvPicPr>
        <p:blipFill>
          <a:blip r:embed="rId2"/>
          <a:stretch/>
        </p:blipFill>
        <p:spPr>
          <a:xfrm>
            <a:off x="6781680" y="304920"/>
            <a:ext cx="187164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097000" y="304920"/>
            <a:ext cx="62755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99840" y="227160"/>
            <a:ext cx="6705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Nb-ocel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1-66591" descr=""/>
          <p:cNvPicPr/>
          <p:nvPr/>
        </p:nvPicPr>
        <p:blipFill>
          <a:blip r:embed="rId1"/>
          <a:stretch/>
        </p:blipFill>
        <p:spPr>
          <a:xfrm>
            <a:off x="533520" y="895320"/>
            <a:ext cx="655308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1T15:29:23Z</dcterms:modified>
  <cp:revision>117</cp:revision>
  <dc:subject/>
  <dc:title>C6730 Fázové rovnováhy</dc:title>
</cp:coreProperties>
</file>