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26.wmf" ContentType="image/x-wmf"/>
  <Override PartName="/ppt/media/image25.wmf" ContentType="image/x-wmf"/>
  <Override PartName="/ppt/media/image24.wmf" ContentType="image/x-wmf"/>
  <Override PartName="/ppt/media/image22.wmf" ContentType="image/x-wmf"/>
  <Override PartName="/ppt/media/image19.png" ContentType="image/png"/>
  <Override PartName="/ppt/media/image21.wmf" ContentType="image/x-wmf"/>
  <Override PartName="/ppt/media/image31.jpeg" ContentType="image/jpeg"/>
  <Override PartName="/ppt/media/image10.wmf" ContentType="image/x-wmf"/>
  <Override PartName="/ppt/media/image4.jpeg" ContentType="image/jpeg"/>
  <Override PartName="/ppt/media/image8.wmf" ContentType="image/x-wmf"/>
  <Override PartName="/ppt/media/image13.png" ContentType="image/png"/>
  <Override PartName="/ppt/media/image33.wmf" ContentType="image/x-wmf"/>
  <Override PartName="/ppt/media/image32.wmf" ContentType="image/x-wmf"/>
  <Override PartName="/ppt/media/image12.wmf" ContentType="image/x-wmf"/>
  <Override PartName="/ppt/media/image7.wmf" ContentType="image/x-wmf"/>
  <Override PartName="/ppt/media/image30.jpeg" ContentType="image/jpeg"/>
  <Override PartName="/ppt/media/image3.jpeg" ContentType="image/jpeg"/>
  <Override PartName="/ppt/media/image9.jpeg" ContentType="image/jpeg"/>
  <Override PartName="/ppt/media/image28.jpeg" ContentType="image/jpeg"/>
  <Override PartName="/ppt/media/image23.wmf" ContentType="image/x-wmf"/>
  <Override PartName="/ppt/media/image34.png" ContentType="image/png"/>
  <Override PartName="/ppt/media/image17.wmf" ContentType="image/x-wmf"/>
  <Override PartName="/ppt/media/image6.wmf" ContentType="image/x-wmf"/>
  <Override PartName="/ppt/media/image11.wmf" ContentType="image/x-wmf"/>
  <Override PartName="/ppt/media/image36.png" ContentType="image/png"/>
  <Override PartName="/ppt/media/image35.wmf" ContentType="image/x-wmf"/>
  <Override PartName="/ppt/media/image5.wmf" ContentType="image/x-wmf"/>
  <Override PartName="/ppt/media/image27.jpeg" ContentType="image/jpeg"/>
  <Override PartName="/ppt/media/image2.gif" ContentType="image/gif"/>
  <Override PartName="/ppt/media/image29.wmf" ContentType="image/x-wmf"/>
  <Override PartName="/ppt/media/image1.png" ContentType="image/png"/>
  <Override PartName="/ppt/media/image14.wmf" ContentType="image/x-wmf"/>
  <Override PartName="/ppt/media/image15.wmf" ContentType="image/x-wmf"/>
  <Override PartName="/ppt/media/image16.wmf" ContentType="image/x-wmf"/>
  <Override PartName="/ppt/media/image18.wmf" ContentType="image/x-wmf"/>
  <Override PartName="/ppt/media/image2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F5403-C121-4FDE-A13E-A5D409034BF5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hodnout termín a místo konání přednášky, seznam posluchačů (vč. jejich zaměření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63189-F963-45CF-871D-A901C438C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32912-24C0-4BE1-8664-6333896B3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03419-CB36-42AB-B42E-1D4029699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FAA3C-8135-4C87-A271-04221EDC8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48463-71EB-4DEE-AD97-572A0264D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DBD67-3038-4287-9DC8-18E8D5B9E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72400-CA08-450F-AD52-E21A041CE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C33CF-929D-4595-B369-E60F74EBE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4351A-DE3B-4DD9-B766-DA170DBAD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7106C-195E-42AD-9D0F-7C0E52CF4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F213C-99E2-40DF-994F-950B03E38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717AC-DA03-41F1-B188-0A66A68B9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5BB8B-89B7-4A3A-A172-9E8FCE665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7D1A1-DA7E-4F39-9DC9-92CCBAB25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BED06-833D-4B8A-9D4F-D3B644280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6BFAA-D8BC-4BF2-81FE-7D6A9FF19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789F0-9C96-4B28-89C0-4F7E7521A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2A976-272C-4B9C-BC7E-0855B2851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835E0-2849-42FE-BA66-DF143C212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67045-C9D7-45F6-B233-48A3324A9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B9AA4-B8DD-46FC-8534-88D8EF877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609FA-2A44-405E-A84C-675C717C4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7374D-9038-45C3-9882-EF804DF85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51033-0D2D-45FD-BE86-02D95418C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4d4d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D7096-8BCC-4757-B3EC-03AFC24CD7CA}" type="slidenum">
              <a:rPr b="0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9cc2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pic>
          <p:nvPicPr>
            <p:cNvPr id="99" name="BTZBUL1A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F3D56-38ED-448A-8D85-67A52505EDD4}" type="slidenum">
              <a:rPr b="0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wmf"/><Relationship Id="rId3" Type="http://schemas.openxmlformats.org/officeDocument/2006/relationships/image" Target="../media/image22.wmf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hyperlink" Target="http://www.google.cz/imgres?q=nucleation+centre&amp;hl=cs&amp;biw=996&amp;bih=522&amp;gbv=2&amp;tbm=isch&amp;tbnid=HX9uUSL_-sqqGM:&amp;imgrefurl=http://www.epj.org/news.html&amp;docid=uVTPgN-MOViRAM&amp;imgurl=http://www.epj.org/_img/news/news_2011-02_5.jpg&amp;w=150&amp;h=197&amp;ei=2KPTTobyFNSYsAbvvYSCBA&amp;zoom=1" TargetMode="External"/><Relationship Id="rId6" Type="http://schemas.openxmlformats.org/officeDocument/2006/relationships/image" Target="../media/image3.jpeg"/><Relationship Id="rId7" Type="http://schemas.openxmlformats.org/officeDocument/2006/relationships/image" Target="../media/image4.jpe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4.png"/><Relationship Id="rId3" Type="http://schemas.openxmlformats.org/officeDocument/2006/relationships/image" Target="../media/image35.wmf"/><Relationship Id="rId4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6730 Fázové rovnováhy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143000" y="198072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P07 Kinetika vzniku vícefázových struktur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oc. Jiří Sopoušek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22788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Rychlost fázové transformace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83" name=""/>
          <p:cNvSpPr/>
          <p:nvPr/>
        </p:nvSpPr>
        <p:spPr>
          <a:xfrm>
            <a:off x="533520" y="838080"/>
            <a:ext cx="7848360" cy="12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NewRoman,Bold"/>
              </a:rPr>
              <a:t>Rychlost: r = 1 / t0.5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NewRoman"/>
              </a:rPr>
              <a:t>Platí Arrheniova závislost: </a:t>
            </a:r>
            <a:r>
              <a:rPr b="0" lang="cs-CZ" sz="1800" spc="-1" strike="noStrike">
                <a:solidFill>
                  <a:srgbClr val="000000"/>
                </a:solidFill>
                <a:latin typeface="TimesNewRoman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TimesNewRoman,Bold"/>
              </a:rPr>
              <a:t>r = A exp (-</a:t>
            </a:r>
            <a:r>
              <a:rPr b="1" lang="cs-CZ" sz="1800" spc="-1" strike="noStrike">
                <a:solidFill>
                  <a:srgbClr val="008100"/>
                </a:solidFill>
                <a:latin typeface="TimesNewRoman,Bold"/>
              </a:rPr>
              <a:t>QA</a:t>
            </a:r>
            <a:r>
              <a:rPr b="1" lang="cs-CZ" sz="1800" spc="-1" strike="noStrike">
                <a:solidFill>
                  <a:srgbClr val="000000"/>
                </a:solidFill>
                <a:latin typeface="TimesNewRoman,Bold"/>
              </a:rPr>
              <a:t>/kT) = A exp (-</a:t>
            </a:r>
            <a:r>
              <a:rPr b="1" lang="cs-CZ" sz="1800" spc="-1" strike="noStrike">
                <a:solidFill>
                  <a:srgbClr val="3333cd"/>
                </a:solidFill>
                <a:latin typeface="TimesNewRoman,Bold"/>
              </a:rPr>
              <a:t>Qm</a:t>
            </a:r>
            <a:r>
              <a:rPr b="1" lang="cs-CZ" sz="1800" spc="-1" strike="noStrike">
                <a:solidFill>
                  <a:srgbClr val="000000"/>
                </a:solidFill>
                <a:latin typeface="TimesNewRoman,Bold"/>
              </a:rPr>
              <a:t>/ RT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7594560" cy="397980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990720" y="617220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Rekrystalizace mědi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28600" y="805680"/>
            <a:ext cx="32767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TTT křivky Fe-C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3368520" cy="319392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3733920" y="235080"/>
            <a:ext cx="5132160" cy="662292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3"/>
          <a:stretch/>
        </p:blipFill>
        <p:spPr>
          <a:xfrm>
            <a:off x="228600" y="5148360"/>
            <a:ext cx="1797120" cy="170964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2057400" y="6019920"/>
            <a:ext cx="1219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Perlit Fe-0,8wt%C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92016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Mikrostruktura a TTT křivky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457200" y="1981080"/>
            <a:ext cx="5607000" cy="418176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6324480" y="1905120"/>
            <a:ext cx="2514600" cy="35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TimesNewRoman"/>
              </a:rPr>
              <a:t>The thickness of the ferrite and cementite layers in pearlit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TimesNewRoman"/>
              </a:rPr>
              <a:t>is ~ 8:1. The absolute layer thickness depends on th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TimesNewRoman"/>
              </a:rPr>
              <a:t>temperature of the transformation. The higher th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TimesNewRoman"/>
              </a:rPr>
              <a:t>temperature, the thicker the layers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379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Baini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380880" y="1219320"/>
            <a:ext cx="5085000" cy="541476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5638680" y="1371600"/>
            <a:ext cx="350532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TimesNewRoman"/>
              </a:rPr>
              <a:t>If transformation temperature is low enough (</a:t>
            </a:r>
            <a:r>
              <a:rPr b="0" lang="cs-CZ" sz="1800" spc="-1" strike="noStrike">
                <a:solidFill>
                  <a:srgbClr val="000066"/>
                </a:solidFill>
                <a:latin typeface="SymbolMT"/>
              </a:rPr>
              <a:t>≤</a:t>
            </a:r>
            <a:r>
              <a:rPr b="0" lang="cs-CZ" sz="1800" spc="-1" strike="noStrike">
                <a:solidFill>
                  <a:srgbClr val="000066"/>
                </a:solidFill>
                <a:latin typeface="TimesNewRoman"/>
              </a:rPr>
              <a:t>540°C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TimesNewRoman"/>
              </a:rPr>
              <a:t>bainite rather than fine pearlite forms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5562720" y="2895480"/>
            <a:ext cx="1542960" cy="195588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3"/>
          <a:stretch/>
        </p:blipFill>
        <p:spPr>
          <a:xfrm>
            <a:off x="7238880" y="2895480"/>
            <a:ext cx="1731960" cy="211608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5943600" y="5133960"/>
            <a:ext cx="2666880" cy="172404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7238880" y="5943600"/>
            <a:ext cx="1676520" cy="7038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66"/>
                </a:solidFill>
                <a:latin typeface="Times New Roman"/>
              </a:rPr>
              <a:t>Sferitizace (700st)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45648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Shrnutí difůzně řízených přeměn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02" name=""/>
          <p:cNvSpPr/>
          <p:nvPr/>
        </p:nvSpPr>
        <p:spPr>
          <a:xfrm>
            <a:off x="304920" y="1066680"/>
            <a:ext cx="8534160" cy="49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NewRoman"/>
              </a:rPr>
              <a:t>The family of S-shaped curves at different T are used to construct the TTT diagrams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NewRoman"/>
              </a:rPr>
              <a:t>The TTT diagrams are for the </a:t>
            </a:r>
            <a:r>
              <a:rPr b="1" lang="cs-CZ" sz="2000" spc="-1" strike="noStrike">
                <a:solidFill>
                  <a:srgbClr val="3333cd"/>
                </a:solidFill>
                <a:latin typeface="TimesNewRoman,Bold"/>
              </a:rPr>
              <a:t>isothermal </a:t>
            </a:r>
            <a:r>
              <a:rPr b="0" lang="cs-CZ" sz="2000" spc="-1" strike="noStrike">
                <a:solidFill>
                  <a:srgbClr val="000000"/>
                </a:solidFill>
                <a:latin typeface="TimesNewRoman"/>
              </a:rPr>
              <a:t>(constant T) transformations (material is cooled quickly to a given temperature before the transformation occurs, and then keep it at that temperature)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NewRoman"/>
              </a:rPr>
              <a:t>At low temperatures, the transformation occurs sooner (it is controlled by the rate of nucleation) and grain growth (that is controlled by diffusion) is reduced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NewRoman"/>
              </a:rPr>
              <a:t>Slow diffusion at low temperatures leads to fine-grained microstructure with thin-layered structure of pearlite (</a:t>
            </a:r>
            <a:r>
              <a:rPr b="1" lang="cs-CZ" sz="2000" spc="-1" strike="noStrike">
                <a:solidFill>
                  <a:srgbClr val="3333cd"/>
                </a:solidFill>
                <a:latin typeface="TimesNewRoman,Bold"/>
              </a:rPr>
              <a:t>fine pearlite</a:t>
            </a:r>
            <a:r>
              <a:rPr b="0" lang="cs-CZ" sz="2000" spc="-1" strike="noStrike">
                <a:solidFill>
                  <a:srgbClr val="000000"/>
                </a:solidFill>
                <a:latin typeface="TimesNewRoman"/>
              </a:rPr>
              <a:t>)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NewRoman"/>
              </a:rPr>
              <a:t>At higher temperatures, high diffusion rates allow for larger grain growth and formation of thick layered structure of pearlite (</a:t>
            </a:r>
            <a:r>
              <a:rPr b="1" lang="cs-CZ" sz="2000" spc="-1" strike="noStrike">
                <a:solidFill>
                  <a:srgbClr val="3333cd"/>
                </a:solidFill>
                <a:latin typeface="TimesNewRoman,Bold"/>
              </a:rPr>
              <a:t>coarse pearlite</a:t>
            </a:r>
            <a:r>
              <a:rPr b="0" lang="cs-CZ" sz="2000" spc="-1" strike="noStrike">
                <a:solidFill>
                  <a:srgbClr val="000000"/>
                </a:solidFill>
                <a:latin typeface="TimesNewRoman"/>
              </a:rPr>
              <a:t>). At compositions other than eutectoid, a proeutectoid phase (ferrite or cementite) coexist with pearlite. Additional curves for proeutectoid transformation must be included on TTT diagrams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Bezdifúzní přeměny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304920" y="1752480"/>
            <a:ext cx="5086080" cy="35179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5254560" y="3581280"/>
            <a:ext cx="3889440" cy="290844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1600200" y="586728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„</a:t>
            </a: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Matrenzitické přeměny“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-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Martenzit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08" name=""/>
          <p:cNvSpPr/>
          <p:nvPr/>
        </p:nvSpPr>
        <p:spPr>
          <a:xfrm>
            <a:off x="228600" y="685800"/>
            <a:ext cx="8686800" cy="50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• 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Martensite forms when austenite is rapidly </a:t>
            </a:r>
            <a:r>
              <a:rPr b="0" lang="cs-CZ" sz="2400" spc="-1" strike="noStrike">
                <a:solidFill>
                  <a:srgbClr val="3333cd"/>
                </a:solidFill>
                <a:latin typeface="TimesNewRoman"/>
              </a:rPr>
              <a:t>quenched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 to room T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• 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The austenite-martensite </a:t>
            </a:r>
            <a:r>
              <a:rPr b="0" lang="cs-CZ" sz="2400" spc="-1" strike="noStrike">
                <a:solidFill>
                  <a:srgbClr val="3333cd"/>
                </a:solidFill>
                <a:latin typeface="TimesNewRoman"/>
              </a:rPr>
              <a:t>does not involve diffusion </a:t>
            </a:r>
            <a:r>
              <a:rPr b="0" lang="cs-CZ" sz="2400" spc="-1" strike="noStrike">
                <a:solidFill>
                  <a:srgbClr val="000000"/>
                </a:solidFill>
                <a:latin typeface="SymbolMT"/>
              </a:rPr>
              <a:t>→ 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no thermal activation is needed,this is called an </a:t>
            </a:r>
            <a:r>
              <a:rPr b="1" lang="cs-CZ" sz="2400" spc="-1" strike="noStrike">
                <a:solidFill>
                  <a:srgbClr val="3333cd"/>
                </a:solidFill>
                <a:latin typeface="TimesNewRoman,Bold"/>
              </a:rPr>
              <a:t>athermal transformation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• 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Each atom displaces a small (sub-atomic) distance to transform FCC </a:t>
            </a:r>
            <a:r>
              <a:rPr b="0" lang="cs-CZ" sz="2400" spc="-1" strike="noStrike">
                <a:solidFill>
                  <a:srgbClr val="000000"/>
                </a:solidFill>
                <a:latin typeface="SymbolMT"/>
              </a:rPr>
              <a:t>γ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-Fe (austenite) to martensite which has a Body Centered Tetragonal (BCT) unit cell (like BCC, but one unit cell axis is longer than the other two)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• 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Martensite is </a:t>
            </a:r>
            <a:r>
              <a:rPr b="0" lang="cs-CZ" sz="2400" spc="-1" strike="noStrike">
                <a:solidFill>
                  <a:srgbClr val="3333cd"/>
                </a:solidFill>
                <a:latin typeface="TimesNewRoman"/>
              </a:rPr>
              <a:t>metastable 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- can persist indefinitely at room temperature, but will transform to equilibrium phases on annealing at an elevated temperature. Martensite can coexist with other phases and/or microstructures in Fe-C systém. It does not appear in phase Fe-C phase diagram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2480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Martenzit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3179880" y="228600"/>
            <a:ext cx="5284800" cy="647712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304920" y="4724280"/>
            <a:ext cx="28191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66"/>
                </a:solidFill>
                <a:latin typeface="TimesNewRoman"/>
              </a:rPr>
              <a:t>Austenite-to-martensite is diffusionless and very fast. The amount of martensite formed depends on temperature only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531800" y="1739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531800" y="1739880"/>
            <a:ext cx="18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789440" y="3848040"/>
            <a:ext cx="2313000" cy="19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94878120" rIns="4294878120" tIns="-4294681200" bIns="-4294681200" anchor="t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619280" y="2900520"/>
            <a:ext cx="93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16" name="images" descr=""/>
          <p:cNvPicPr/>
          <p:nvPr/>
        </p:nvPicPr>
        <p:blipFill>
          <a:blip r:embed="rId2"/>
          <a:stretch/>
        </p:blipFill>
        <p:spPr>
          <a:xfrm>
            <a:off x="228600" y="1143000"/>
            <a:ext cx="2590920" cy="1940040"/>
          </a:xfrm>
          <a:prstGeom prst="rect">
            <a:avLst/>
          </a:prstGeom>
          <a:ln w="0">
            <a:noFill/>
          </a:ln>
        </p:spPr>
      </p:pic>
      <p:pic>
        <p:nvPicPr>
          <p:cNvPr id="217" name="martensite-1500x" descr=""/>
          <p:cNvPicPr/>
          <p:nvPr/>
        </p:nvPicPr>
        <p:blipFill>
          <a:blip r:embed="rId3"/>
          <a:stretch/>
        </p:blipFill>
        <p:spPr>
          <a:xfrm>
            <a:off x="838080" y="3200400"/>
            <a:ext cx="1284480" cy="15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5324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NewRoman"/>
              </a:rPr>
              <a:t>Tepelné zpracování</a:t>
            </a:r>
            <a:endParaRPr b="0" lang="en-US" sz="2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3581280" y="304920"/>
            <a:ext cx="4849920" cy="6167160"/>
          </a:xfrm>
          <a:prstGeom prst="rect">
            <a:avLst/>
          </a:prstGeom>
          <a:ln w="0">
            <a:noFill/>
          </a:ln>
        </p:spPr>
      </p:pic>
      <p:pic>
        <p:nvPicPr>
          <p:cNvPr id="220" name="44" descr=""/>
          <p:cNvPicPr/>
          <p:nvPr/>
        </p:nvPicPr>
        <p:blipFill>
          <a:blip r:embed="rId2"/>
          <a:stretch/>
        </p:blipFill>
        <p:spPr>
          <a:xfrm>
            <a:off x="304920" y="1627200"/>
            <a:ext cx="3124080" cy="2340000"/>
          </a:xfrm>
          <a:prstGeom prst="rect">
            <a:avLst/>
          </a:prstGeom>
          <a:ln w="0">
            <a:noFill/>
          </a:ln>
        </p:spPr>
      </p:pic>
      <p:pic>
        <p:nvPicPr>
          <p:cNvPr id="221" name="6100CT-heat%20treatment" descr=""/>
          <p:cNvPicPr/>
          <p:nvPr/>
        </p:nvPicPr>
        <p:blipFill>
          <a:blip r:embed="rId3"/>
          <a:stretch/>
        </p:blipFill>
        <p:spPr>
          <a:xfrm>
            <a:off x="228600" y="4191120"/>
            <a:ext cx="3124080" cy="22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Zpracování Fe-C slitin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2057400" y="1981080"/>
            <a:ext cx="5029200" cy="45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240" y="39456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 Black"/>
              </a:rPr>
              <a:t>Osnova dnešní přednášky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5181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Termodynamická podmínka vzniku nové fáze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Nukleace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Difúzní a bezdifúzní přeměny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Diskuse 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76200" y="1952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76200" y="1952640"/>
            <a:ext cx="18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63680" y="3112920"/>
            <a:ext cx="93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55" name="images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486400" y="3124080"/>
            <a:ext cx="2681280" cy="3505320"/>
          </a:xfrm>
          <a:prstGeom prst="rect">
            <a:avLst/>
          </a:prstGeom>
          <a:ln w="0">
            <a:noFill/>
          </a:ln>
        </p:spPr>
      </p:pic>
      <p:pic>
        <p:nvPicPr>
          <p:cNvPr id="156" name="Soda_bubbles_macro" descr=""/>
          <p:cNvPicPr/>
          <p:nvPr/>
        </p:nvPicPr>
        <p:blipFill>
          <a:blip r:embed="rId7"/>
          <a:stretch/>
        </p:blipFill>
        <p:spPr>
          <a:xfrm>
            <a:off x="5486400" y="1168560"/>
            <a:ext cx="27432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22788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Další fázové transformace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380880" y="838080"/>
            <a:ext cx="6855120" cy="316872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4114800" y="4110120"/>
            <a:ext cx="4784760" cy="27478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0" y="4005360"/>
            <a:ext cx="3048120" cy="28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52280" y="2271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Tvarová paměť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29" name=""/>
          <p:cNvSpPr/>
          <p:nvPr/>
        </p:nvSpPr>
        <p:spPr>
          <a:xfrm>
            <a:off x="231120" y="1447920"/>
            <a:ext cx="704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http://www.youtube.com/watch?v=hMYC-bLMLZQ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http://www.youtube.com/watch?v=fsBHF_j2FJ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30" name="phase4" descr=""/>
          <p:cNvPicPr/>
          <p:nvPr/>
        </p:nvPicPr>
        <p:blipFill>
          <a:blip r:embed="rId1"/>
          <a:stretch/>
        </p:blipFill>
        <p:spPr>
          <a:xfrm>
            <a:off x="685800" y="2590920"/>
            <a:ext cx="4819680" cy="383220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5943600" y="26668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NiTi,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Diskus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33" name=""/>
          <p:cNvSpPr/>
          <p:nvPr/>
        </p:nvSpPr>
        <p:spPr>
          <a:xfrm>
            <a:off x="838080" y="1828800"/>
            <a:ext cx="74678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70812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Termodynamická podmínka vzniku nové fáze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228600" y="1752480"/>
            <a:ext cx="8686800" cy="42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92016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Energetika kuloviré částice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304920" y="1447920"/>
            <a:ext cx="7391160" cy="391320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5867280" y="4716360"/>
            <a:ext cx="3021120" cy="21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Nukleace nové fáz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304920" y="1981080"/>
            <a:ext cx="8610480" cy="251172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457200" y="5334120"/>
            <a:ext cx="39625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Metastabilní stavy: přechlazení a přehřátí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64960" y="1803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64960" y="1803240"/>
            <a:ext cx="18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424560" y="3902040"/>
            <a:ext cx="2455920" cy="19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94878120" rIns="4294878120" tIns="-4294681200" bIns="-4294681200" anchor="t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52440" y="2963880"/>
            <a:ext cx="93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69" name="images" descr=""/>
          <p:cNvPicPr/>
          <p:nvPr/>
        </p:nvPicPr>
        <p:blipFill>
          <a:blip r:embed="rId2"/>
          <a:stretch/>
        </p:blipFill>
        <p:spPr>
          <a:xfrm>
            <a:off x="5181480" y="4216320"/>
            <a:ext cx="32194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30420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Možnosti snížení nukleační bariéry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534160" cy="507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Metody usnadňující dosažení rovnovážného stavu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152280" y="1600200"/>
            <a:ext cx="8763120" cy="189216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228600" y="4794120"/>
            <a:ext cx="7696080" cy="206388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304920" y="3657600"/>
            <a:ext cx="60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Faktory ovlivňující růst nové fáze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76" name="sss7-29-08-2008" descr=""/>
          <p:cNvPicPr/>
          <p:nvPr/>
        </p:nvPicPr>
        <p:blipFill>
          <a:blip r:embed="rId3"/>
          <a:stretch/>
        </p:blipFill>
        <p:spPr>
          <a:xfrm>
            <a:off x="6019920" y="2590920"/>
            <a:ext cx="2590560" cy="2263680"/>
          </a:xfrm>
          <a:prstGeom prst="rect">
            <a:avLst/>
          </a:prstGeom>
          <a:ln w="9360">
            <a:solidFill>
              <a:srgbClr val="cc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92016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Kinetika fázových transformací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" y="1676520"/>
            <a:ext cx="7924680" cy="340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d"/>
                </a:solidFill>
                <a:latin typeface="TimesNewRoman,Bold"/>
              </a:rPr>
              <a:t>Difúzí řízené bez změny chemického složení a počtu fází 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(e.g. melting, solidification of pure metal, allotropic transformations, recrystallization, etc.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d"/>
                </a:solidFill>
                <a:latin typeface="TimesNewRoman,Bold"/>
              </a:rPr>
              <a:t>Difúzí řízené se změnou chemického složení a počtu fází 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(e.g. Eutectoid transformations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d"/>
                </a:solidFill>
                <a:latin typeface="TimesNewRoman,Bold"/>
              </a:rPr>
              <a:t>Bezdifúzní transformace 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- produces a metastable phase by cooperative small displacements of all atoms in structure (e.g. martensitic transformation discussed in later in this chapter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38016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Kinetika FT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80" name=""/>
          <p:cNvSpPr/>
          <p:nvPr/>
        </p:nvSpPr>
        <p:spPr>
          <a:xfrm>
            <a:off x="838080" y="1143000"/>
            <a:ext cx="746784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d"/>
                </a:solidFill>
                <a:latin typeface="TimesNewRoman,Bold"/>
              </a:rPr>
              <a:t>Nucleation 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of of the new phase - formation of stable small particles (nuclei) of the new phase. Nuclei are often formed at grain boundaries and other defects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d"/>
                </a:solidFill>
                <a:latin typeface="TimesNewRoman,Bold"/>
              </a:rPr>
              <a:t>Growth 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of new phase at the expense of the original phase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1981080" y="3200400"/>
            <a:ext cx="4826160" cy="342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9T09:04:38Z</dcterms:created>
  <dc:creator>Sopoušek Jiří</dc:creator>
  <dc:description/>
  <dc:language>en-US</dc:language>
  <cp:lastModifiedBy>Sopoušek Jiří</cp:lastModifiedBy>
  <dcterms:modified xsi:type="dcterms:W3CDTF">2011-11-28T15:54:39Z</dcterms:modified>
  <cp:revision>119</cp:revision>
  <dc:subject/>
  <dc:title>C6730 Fázové rovnováhy</dc:title>
</cp:coreProperties>
</file>