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17277786"/>
        <c:axId val="41529278"/>
      </c:scatterChart>
      <c:valAx>
        <c:axId val="17277786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1529278"/>
        <c:crosses val="autoZero"/>
        <c:crossBetween val="midCat"/>
        <c:majorUnit val="1"/>
      </c:valAx>
      <c:valAx>
        <c:axId val="41529278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7277786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53331266"/>
        <c:axId val="56258155"/>
      </c:scatterChart>
      <c:valAx>
        <c:axId val="53331266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6258155"/>
        <c:crosses val="autoZero"/>
        <c:crossBetween val="midCat"/>
        <c:majorUnit val="1"/>
      </c:valAx>
      <c:valAx>
        <c:axId val="56258155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3331266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84497590"/>
        <c:axId val="77161069"/>
      </c:scatterChart>
      <c:valAx>
        <c:axId val="84497590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77161069"/>
        <c:crosses val="autoZero"/>
        <c:crossBetween val="midCat"/>
        <c:majorUnit val="2"/>
        <c:minorUnit val="1"/>
      </c:valAx>
      <c:valAx>
        <c:axId val="77161069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84497590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35564988"/>
        <c:axId val="39520203"/>
      </c:scatterChart>
      <c:valAx>
        <c:axId val="3556498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9520203"/>
        <c:crosses val="autoZero"/>
        <c:crossBetween val="midCat"/>
        <c:majorUnit val="2"/>
        <c:minorUnit val="0.05"/>
      </c:valAx>
      <c:valAx>
        <c:axId val="3952020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556498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53821118"/>
        <c:axId val="82326618"/>
      </c:scatterChart>
      <c:valAx>
        <c:axId val="5382111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2326618"/>
        <c:crosses val="autoZero"/>
        <c:crossBetween val="midCat"/>
        <c:majorUnit val="2"/>
        <c:minorUnit val="0.05"/>
      </c:valAx>
      <c:valAx>
        <c:axId val="8232661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382111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1252942"/>
        <c:axId val="28391076"/>
      </c:scatterChart>
      <c:valAx>
        <c:axId val="4125294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8391076"/>
        <c:crosses val="autoZero"/>
        <c:crossBetween val="midCat"/>
        <c:majorUnit val="2"/>
        <c:minorUnit val="0.05"/>
      </c:valAx>
      <c:valAx>
        <c:axId val="28391076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125294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48310777"/>
        <c:axId val="66448296"/>
      </c:scatterChart>
      <c:valAx>
        <c:axId val="4831077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6448296"/>
        <c:crosses val="autoZero"/>
        <c:crossBetween val="midCat"/>
        <c:majorUnit val="2"/>
      </c:valAx>
      <c:valAx>
        <c:axId val="66448296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8310777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1151394"/>
        <c:axId val="17865269"/>
      </c:scatterChart>
      <c:valAx>
        <c:axId val="5115139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7865269"/>
        <c:crosses val="autoZero"/>
        <c:crossBetween val="midCat"/>
        <c:majorUnit val="2"/>
      </c:valAx>
      <c:valAx>
        <c:axId val="17865269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1151394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57465729"/>
        <c:axId val="42588670"/>
      </c:scatterChart>
      <c:valAx>
        <c:axId val="5746572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2588670"/>
        <c:crosses val="autoZero"/>
        <c:crossBetween val="midCat"/>
        <c:majorUnit val="2"/>
        <c:minorUnit val="0.05"/>
      </c:valAx>
      <c:valAx>
        <c:axId val="42588670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746572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670B16-DD94-4DB0-AD7B-E282A70A5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367CA3-91B6-41BD-B62F-0F577E24E21F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C58C85-C240-4582-BE66-FADBD683244D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8988E7-0B56-4FB3-B199-5CE78EB074FF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