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26969999"/>
        <c:axId val="88041724"/>
      </c:scatterChart>
      <c:valAx>
        <c:axId val="26969999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8041724"/>
        <c:crosses val="autoZero"/>
        <c:crossBetween val="midCat"/>
        <c:majorUnit val="1"/>
      </c:valAx>
      <c:valAx>
        <c:axId val="88041724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6969999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16497526"/>
        <c:axId val="67826703"/>
      </c:scatterChart>
      <c:valAx>
        <c:axId val="16497526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7826703"/>
        <c:crosses val="autoZero"/>
        <c:crossBetween val="midCat"/>
        <c:majorUnit val="1"/>
      </c:valAx>
      <c:valAx>
        <c:axId val="67826703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497526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19625733"/>
        <c:axId val="47796954"/>
      </c:scatterChart>
      <c:valAx>
        <c:axId val="19625733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47796954"/>
        <c:crosses val="autoZero"/>
        <c:crossBetween val="midCat"/>
        <c:majorUnit val="2"/>
        <c:minorUnit val="1"/>
      </c:valAx>
      <c:valAx>
        <c:axId val="47796954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9625733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6856840"/>
        <c:axId val="50390132"/>
      </c:scatterChart>
      <c:valAx>
        <c:axId val="4685684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0390132"/>
        <c:crosses val="autoZero"/>
        <c:crossBetween val="midCat"/>
        <c:majorUnit val="2"/>
        <c:minorUnit val="0.05"/>
      </c:valAx>
      <c:valAx>
        <c:axId val="5039013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685684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4303823"/>
        <c:axId val="43260750"/>
      </c:scatterChart>
      <c:valAx>
        <c:axId val="430382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3260750"/>
        <c:crosses val="autoZero"/>
        <c:crossBetween val="midCat"/>
        <c:majorUnit val="2"/>
        <c:minorUnit val="0.05"/>
      </c:valAx>
      <c:valAx>
        <c:axId val="4326075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30382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21706013"/>
        <c:axId val="83018288"/>
      </c:scatterChart>
      <c:valAx>
        <c:axId val="2170601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018288"/>
        <c:crosses val="autoZero"/>
        <c:crossBetween val="midCat"/>
        <c:majorUnit val="2"/>
        <c:minorUnit val="0.05"/>
      </c:valAx>
      <c:valAx>
        <c:axId val="8301828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170601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0562052"/>
        <c:axId val="98771020"/>
      </c:scatterChart>
      <c:valAx>
        <c:axId val="3056205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8771020"/>
        <c:crosses val="autoZero"/>
        <c:crossBetween val="midCat"/>
        <c:majorUnit val="2"/>
      </c:valAx>
      <c:valAx>
        <c:axId val="98771020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56205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084634"/>
        <c:axId val="33840640"/>
      </c:scatterChart>
      <c:valAx>
        <c:axId val="408463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3840640"/>
        <c:crosses val="autoZero"/>
        <c:crossBetween val="midCat"/>
        <c:majorUnit val="2"/>
      </c:valAx>
      <c:valAx>
        <c:axId val="33840640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084634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95920678"/>
        <c:axId val="44227675"/>
      </c:scatterChart>
      <c:valAx>
        <c:axId val="9592067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4227675"/>
        <c:crosses val="autoZero"/>
        <c:crossBetween val="midCat"/>
        <c:majorUnit val="2"/>
        <c:minorUnit val="0.05"/>
      </c:valAx>
      <c:valAx>
        <c:axId val="4422767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92067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D68AFA-771A-40B0-9BA2-24570B2BD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F0C99A-1203-493C-B143-D0C23B94052F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0D80C3-6066-4018-AF82-3395BE4872BC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1CE904-E80D-46C4-88CB-1345E903131F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