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45835726"/>
        <c:axId val="57365471"/>
      </c:scatterChart>
      <c:valAx>
        <c:axId val="45835726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365471"/>
        <c:crosses val="autoZero"/>
        <c:crossBetween val="midCat"/>
        <c:majorUnit val="1"/>
      </c:valAx>
      <c:valAx>
        <c:axId val="57365471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45835726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53338660"/>
        <c:axId val="52813109"/>
      </c:scatterChart>
      <c:valAx>
        <c:axId val="53338660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813109"/>
        <c:crosses val="autoZero"/>
        <c:crossBetween val="midCat"/>
        <c:majorUnit val="1"/>
      </c:valAx>
      <c:valAx>
        <c:axId val="52813109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3338660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81437602"/>
        <c:axId val="43407973"/>
      </c:scatterChart>
      <c:valAx>
        <c:axId val="81437602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43407973"/>
        <c:crosses val="autoZero"/>
        <c:crossBetween val="midCat"/>
        <c:majorUnit val="2"/>
        <c:minorUnit val="1"/>
      </c:valAx>
      <c:valAx>
        <c:axId val="43407973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81437602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73736919"/>
        <c:axId val="80466854"/>
      </c:scatterChart>
      <c:valAx>
        <c:axId val="7373691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466854"/>
        <c:crosses val="autoZero"/>
        <c:crossBetween val="midCat"/>
        <c:majorUnit val="2"/>
        <c:minorUnit val="0.05"/>
      </c:valAx>
      <c:valAx>
        <c:axId val="8046685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73691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99850138"/>
        <c:axId val="23791820"/>
      </c:scatterChart>
      <c:valAx>
        <c:axId val="99850138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3791820"/>
        <c:crosses val="autoZero"/>
        <c:crossBetween val="midCat"/>
        <c:majorUnit val="2"/>
        <c:minorUnit val="0.05"/>
      </c:valAx>
      <c:valAx>
        <c:axId val="2379182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850138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9070261"/>
        <c:axId val="68225631"/>
      </c:scatterChart>
      <c:valAx>
        <c:axId val="8907026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225631"/>
        <c:crosses val="autoZero"/>
        <c:crossBetween val="midCat"/>
        <c:majorUnit val="2"/>
        <c:minorUnit val="0.05"/>
      </c:valAx>
      <c:valAx>
        <c:axId val="6822563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070261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90336215"/>
        <c:axId val="60429670"/>
      </c:scatterChart>
      <c:valAx>
        <c:axId val="9033621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0429670"/>
        <c:crosses val="autoZero"/>
        <c:crossBetween val="midCat"/>
        <c:majorUnit val="2"/>
      </c:valAx>
      <c:valAx>
        <c:axId val="60429670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0336215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6527030"/>
        <c:axId val="15779026"/>
      </c:scatterChart>
      <c:valAx>
        <c:axId val="7652703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5779026"/>
        <c:crosses val="autoZero"/>
        <c:crossBetween val="midCat"/>
        <c:majorUnit val="2"/>
      </c:valAx>
      <c:valAx>
        <c:axId val="15779026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652703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72572929"/>
        <c:axId val="77633024"/>
      </c:scatterChart>
      <c:valAx>
        <c:axId val="7257292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633024"/>
        <c:crosses val="autoZero"/>
        <c:crossBetween val="midCat"/>
        <c:majorUnit val="2"/>
        <c:minorUnit val="0.05"/>
      </c:valAx>
      <c:valAx>
        <c:axId val="7763302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257292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DCB6B6-161D-4D9C-959F-C634FBC4D6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666506-EA42-4AAE-8FB4-9B0920D57731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5C052F-7BB4-4E5E-BD44-4F22374E868D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617D50-9B54-4D93-8FF0-24CF160DA81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