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428713"/>
        <c:axId val="38663257"/>
      </c:scatterChart>
      <c:valAx>
        <c:axId val="842871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8663257"/>
        <c:crosses val="autoZero"/>
        <c:crossBetween val="midCat"/>
        <c:majorUnit val="1"/>
      </c:valAx>
      <c:valAx>
        <c:axId val="38663257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2871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3408372"/>
        <c:axId val="79884149"/>
      </c:scatterChart>
      <c:valAx>
        <c:axId val="1340837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884149"/>
        <c:crosses val="autoZero"/>
        <c:crossBetween val="midCat"/>
        <c:majorUnit val="1"/>
      </c:valAx>
      <c:valAx>
        <c:axId val="7988414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340837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8428156"/>
        <c:axId val="55464084"/>
      </c:scatterChart>
      <c:valAx>
        <c:axId val="98428156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5464084"/>
        <c:crosses val="autoZero"/>
        <c:crossBetween val="midCat"/>
        <c:majorUnit val="2"/>
        <c:minorUnit val="1"/>
      </c:valAx>
      <c:valAx>
        <c:axId val="55464084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8428156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40131106"/>
        <c:axId val="44532675"/>
      </c:scatterChart>
      <c:valAx>
        <c:axId val="4013110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4532675"/>
        <c:crosses val="autoZero"/>
        <c:crossBetween val="midCat"/>
        <c:majorUnit val="2"/>
        <c:minorUnit val="0.05"/>
      </c:valAx>
      <c:valAx>
        <c:axId val="4453267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013110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3636849"/>
        <c:axId val="71267075"/>
      </c:scatterChart>
      <c:valAx>
        <c:axId val="6363684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1267075"/>
        <c:crosses val="autoZero"/>
        <c:crossBetween val="midCat"/>
        <c:majorUnit val="2"/>
        <c:minorUnit val="0.05"/>
      </c:valAx>
      <c:valAx>
        <c:axId val="7126707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63684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4927090"/>
        <c:axId val="4780094"/>
      </c:scatterChart>
      <c:valAx>
        <c:axId val="9492709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780094"/>
        <c:crosses val="autoZero"/>
        <c:crossBetween val="midCat"/>
        <c:majorUnit val="2"/>
        <c:minorUnit val="0.05"/>
      </c:valAx>
      <c:valAx>
        <c:axId val="478009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92709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9428763"/>
        <c:axId val="43994028"/>
      </c:scatterChart>
      <c:valAx>
        <c:axId val="9942876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3994028"/>
        <c:crosses val="autoZero"/>
        <c:crossBetween val="midCat"/>
        <c:majorUnit val="2"/>
      </c:valAx>
      <c:valAx>
        <c:axId val="4399402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428763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52233724"/>
        <c:axId val="97656094"/>
      </c:scatterChart>
      <c:valAx>
        <c:axId val="52233724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7656094"/>
        <c:crosses val="autoZero"/>
        <c:crossBetween val="midCat"/>
        <c:majorUnit val="2"/>
      </c:valAx>
      <c:valAx>
        <c:axId val="9765609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233724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12475313"/>
        <c:axId val="84523769"/>
      </c:scatterChart>
      <c:valAx>
        <c:axId val="1247531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4523769"/>
        <c:crosses val="autoZero"/>
        <c:crossBetween val="midCat"/>
        <c:majorUnit val="2"/>
        <c:minorUnit val="0.05"/>
      </c:valAx>
      <c:valAx>
        <c:axId val="8452376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47531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696EC5-3A1E-4BD7-A1CC-1C5E318CA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007B05-740F-4EF4-A8E1-54211A51E75A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8E4568-CE80-4969-8182-3712287F5AD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D9B38D-D05F-46D8-B062-2BC09E008EF6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