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90A9-162F-47B9-A671-2727A758E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4EB6-CAA8-44F5-9F63-0B1916316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69CE-AD15-471A-BDE4-9AF6CC406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FE58-DBBF-4EFF-9BA4-FCB829EA2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2C912-9807-4B9B-A7FB-01CE2DC06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619B2-8C32-4C27-8CAB-B34D1609F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7F3A2-0A18-483B-A6A7-60BA30CD3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1EC69-93AA-420B-BB88-404E25149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70E20-0569-4241-8CF9-44DAA7F4E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BF3BD-97C8-465B-AA6D-12983303B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26625-1D00-4395-8E64-767F3C25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1956-CC1A-48CF-917A-F27A3041F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FF1A0-B172-4DDD-BCAA-5F24E8A0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A5AFA-713F-4418-A772-B451AEC7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6D56A-73AF-45E4-9817-2483408C7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9F931-11AD-4CB1-8FFD-2EB9CE401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123F3-472A-4386-8316-5AAC225AC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4949-DF65-4699-8D85-B827AD7AF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BE68-67D4-4950-8EB8-A96E695F3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10C7-3532-4B91-9073-02D60A819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4300-BF0C-40C4-9A2C-F1438E6BB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6A42-4CA0-4927-A804-911D9FD5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45A6-9E0B-4E67-BCFE-471173D8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829E-5D43-4E4D-AA78-676F2DB8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1027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1028"/>
              <p:cNvSpPr/>
              <p:nvPr/>
            </p:nvSpPr>
            <p:spPr>
              <a:xfrm flipH="1">
                <a:off x="66600" y="-4680"/>
                <a:ext cx="976320" cy="683280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1029"/>
              <p:cNvSpPr/>
              <p:nvPr/>
            </p:nvSpPr>
            <p:spPr>
              <a:xfrm flipH="1">
                <a:off x="61200" y="169740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1030"/>
              <p:cNvSpPr/>
              <p:nvPr/>
            </p:nvSpPr>
            <p:spPr>
              <a:xfrm flipH="1">
                <a:off x="67320" y="1281240"/>
                <a:ext cx="976680" cy="5029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 flipH="1">
                <a:off x="67320" y="145800"/>
                <a:ext cx="976680" cy="302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1032"/>
              <p:cNvSpPr/>
              <p:nvPr/>
            </p:nvSpPr>
            <p:spPr>
              <a:xfrm flipH="1">
                <a:off x="61200" y="990000"/>
                <a:ext cx="976680" cy="3481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1033"/>
              <p:cNvSpPr/>
              <p:nvPr/>
            </p:nvSpPr>
            <p:spPr>
              <a:xfrm flipH="1">
                <a:off x="63000" y="679680"/>
                <a:ext cx="976680" cy="4327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34"/>
              <p:cNvSpPr/>
              <p:nvPr/>
            </p:nvSpPr>
            <p:spPr>
              <a:xfrm flipH="1">
                <a:off x="64440" y="37188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 flipH="1">
                <a:off x="47520" y="3930120"/>
                <a:ext cx="976320" cy="4993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 flipH="1">
                <a:off x="52920" y="353664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 flipH="1">
                <a:off x="53280" y="2397960"/>
                <a:ext cx="976680" cy="3042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038"/>
              <p:cNvSpPr/>
              <p:nvPr/>
            </p:nvSpPr>
            <p:spPr>
              <a:xfrm flipH="1">
                <a:off x="52920" y="3228480"/>
                <a:ext cx="976680" cy="34704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039"/>
              <p:cNvSpPr/>
              <p:nvPr/>
            </p:nvSpPr>
            <p:spPr>
              <a:xfrm flipH="1">
                <a:off x="52920" y="293148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040"/>
              <p:cNvSpPr/>
              <p:nvPr/>
            </p:nvSpPr>
            <p:spPr>
              <a:xfrm flipH="1">
                <a:off x="53280" y="261576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041"/>
              <p:cNvSpPr/>
              <p:nvPr/>
            </p:nvSpPr>
            <p:spPr>
              <a:xfrm flipH="1">
                <a:off x="48240" y="4962600"/>
                <a:ext cx="976680" cy="4993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042"/>
              <p:cNvSpPr/>
              <p:nvPr/>
            </p:nvSpPr>
            <p:spPr>
              <a:xfrm flipH="1">
                <a:off x="55440" y="4547520"/>
                <a:ext cx="976320" cy="5029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043"/>
              <p:cNvSpPr/>
              <p:nvPr/>
            </p:nvSpPr>
            <p:spPr>
              <a:xfrm flipH="1">
                <a:off x="47520" y="5654520"/>
                <a:ext cx="976320" cy="30276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1044"/>
              <p:cNvSpPr/>
              <p:nvPr/>
            </p:nvSpPr>
            <p:spPr>
              <a:xfrm flipH="1" rot="16200000">
                <a:off x="361440" y="6191280"/>
                <a:ext cx="345960" cy="9781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78120"/>
                  <a:gd name="textAreaBottom" fmla="*/ 978480 h 9781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1045"/>
              <p:cNvSpPr/>
              <p:nvPr/>
            </p:nvSpPr>
            <p:spPr>
              <a:xfrm flipH="1">
                <a:off x="40680" y="619344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1046"/>
              <p:cNvSpPr/>
              <p:nvPr/>
            </p:nvSpPr>
            <p:spPr>
              <a:xfrm flipH="1">
                <a:off x="40680" y="588312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1047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B3830-6B1C-4194-A277-01984A68E7E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7360"/>
              <a:chOff x="-3240" y="2479680"/>
              <a:chExt cx="9146880" cy="10173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480" y="2786760"/>
                <a:ext cx="990360" cy="40428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53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6040" y="2643480"/>
                <a:ext cx="990360" cy="6681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0840" y="2650320"/>
                <a:ext cx="990720" cy="667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840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424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56EB2-FB19-436E-9B38-245D46A36AB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ndat.org/photo-6593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0628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4e3b30"/>
                </a:solidFill>
                <a:latin typeface="Times New Roman"/>
              </a:rPr>
              <a:t>Matematický milionář </a:t>
            </a:r>
            <a:endParaRPr b="0" lang="en-US" sz="7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57360" y="5857920"/>
            <a:ext cx="21430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oto: a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12384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4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3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1">
            <a:hlinkClick r:id="rId1"/>
          </p:cNvPr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12"/>
          <p:cNvSpPr/>
          <p:nvPr/>
        </p:nvSpPr>
        <p:spPr>
          <a:xfrm>
            <a:off x="0" y="63961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Dostupné z Metodického portálu www.rvp.cz, ISSN: 1802-4785, financovaného z ESF a státního rozpočtu ČR.</a:t>
            </a:r>
            <a:br>
              <a:rPr sz="1200"/>
            </a:b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Provozováno Výzkumným ústavem pedagogickým v Pra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7" descr="C:\Katka\Studium Vysoká škola\Foto disertačka\100OLYMP\Pocity z matematiky-fotky\11a - Kopie.JPG"/>
          <p:cNvPicPr/>
          <p:nvPr/>
        </p:nvPicPr>
        <p:blipFill>
          <a:blip r:embed="rId2"/>
          <a:stretch/>
        </p:blipFill>
        <p:spPr>
          <a:xfrm>
            <a:off x="2786040" y="3571920"/>
            <a:ext cx="328608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89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1857240" y="257184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9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3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4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4"/>
          <a:stretch/>
        </p:blipFill>
        <p:spPr>
          <a:xfrm>
            <a:off x="1857240" y="2571840"/>
            <a:ext cx="525600" cy="571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6786720" y="328284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6786720" y="328608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8:41:51Z</dcterms:created>
  <dc:creator>Kateřina Crháková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10-01-31T19:46:09Z</dcterms:modified>
  <cp:revision>44</cp:revision>
  <dc:subject/>
  <dc:title>Matematický milionář</dc:title>
</cp:coreProperties>
</file>