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4180430"/>
        <c:axId val="91596790"/>
      </c:scatterChart>
      <c:valAx>
        <c:axId val="8418043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596790"/>
        <c:crosses val="autoZero"/>
        <c:crossBetween val="midCat"/>
        <c:majorUnit val="1"/>
      </c:valAx>
      <c:valAx>
        <c:axId val="91596790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18043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49569831"/>
        <c:axId val="12515214"/>
      </c:scatterChart>
      <c:valAx>
        <c:axId val="49569831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515214"/>
        <c:crosses val="autoZero"/>
        <c:crossBetween val="midCat"/>
        <c:majorUnit val="1"/>
      </c:valAx>
      <c:valAx>
        <c:axId val="12515214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569831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57808527"/>
        <c:axId val="59047686"/>
      </c:scatterChart>
      <c:valAx>
        <c:axId val="57808527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9047686"/>
        <c:crosses val="autoZero"/>
        <c:crossBetween val="midCat"/>
        <c:majorUnit val="2"/>
        <c:minorUnit val="1"/>
      </c:valAx>
      <c:valAx>
        <c:axId val="59047686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7808527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2884134"/>
        <c:axId val="33374714"/>
      </c:scatterChart>
      <c:valAx>
        <c:axId val="2288413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374714"/>
        <c:crosses val="autoZero"/>
        <c:crossBetween val="midCat"/>
        <c:majorUnit val="2"/>
        <c:minorUnit val="0.05"/>
      </c:valAx>
      <c:valAx>
        <c:axId val="3337471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88413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32556770"/>
        <c:axId val="56477878"/>
      </c:scatterChart>
      <c:valAx>
        <c:axId val="3255677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477878"/>
        <c:crosses val="autoZero"/>
        <c:crossBetween val="midCat"/>
        <c:majorUnit val="2"/>
        <c:minorUnit val="0.05"/>
      </c:valAx>
      <c:valAx>
        <c:axId val="5647787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55677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976083"/>
        <c:axId val="68296774"/>
      </c:scatterChart>
      <c:valAx>
        <c:axId val="597608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296774"/>
        <c:crosses val="autoZero"/>
        <c:crossBetween val="midCat"/>
        <c:majorUnit val="2"/>
        <c:minorUnit val="0.05"/>
      </c:valAx>
      <c:valAx>
        <c:axId val="6829677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7608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8049364"/>
        <c:axId val="75478374"/>
      </c:scatterChart>
      <c:valAx>
        <c:axId val="9804936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478374"/>
        <c:crosses val="autoZero"/>
        <c:crossBetween val="midCat"/>
        <c:majorUnit val="2"/>
      </c:valAx>
      <c:valAx>
        <c:axId val="7547837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04936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6673934"/>
        <c:axId val="95354103"/>
      </c:scatterChart>
      <c:valAx>
        <c:axId val="6667393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354103"/>
        <c:crosses val="autoZero"/>
        <c:crossBetween val="midCat"/>
        <c:majorUnit val="2"/>
      </c:valAx>
      <c:valAx>
        <c:axId val="95354103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667393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38903041"/>
        <c:axId val="11592388"/>
      </c:scatterChart>
      <c:valAx>
        <c:axId val="3890304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592388"/>
        <c:crosses val="autoZero"/>
        <c:crossBetween val="midCat"/>
        <c:majorUnit val="2"/>
        <c:minorUnit val="0.05"/>
      </c:valAx>
      <c:valAx>
        <c:axId val="1159238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90304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CAB311-68EB-4E62-94ED-6A979DA7A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05914B-D5C8-4927-8E1A-7EA659D1A3A9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DE8AC2-C842-4CC5-9C82-E642B9C27A4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5FED3E-2B25-4662-B5AB-0C52633FD49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