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4152625"/>
        <c:axId val="83891975"/>
      </c:scatterChart>
      <c:valAx>
        <c:axId val="4415262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891975"/>
        <c:crosses val="autoZero"/>
        <c:crossBetween val="midCat"/>
        <c:majorUnit val="1"/>
      </c:valAx>
      <c:valAx>
        <c:axId val="83891975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415262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58005690"/>
        <c:axId val="21308712"/>
      </c:scatterChart>
      <c:valAx>
        <c:axId val="5800569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1308712"/>
        <c:crosses val="autoZero"/>
        <c:crossBetween val="midCat"/>
        <c:majorUnit val="1"/>
      </c:valAx>
      <c:valAx>
        <c:axId val="21308712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800569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44551750"/>
        <c:axId val="28776673"/>
      </c:scatterChart>
      <c:valAx>
        <c:axId val="44551750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8776673"/>
        <c:crosses val="autoZero"/>
        <c:crossBetween val="midCat"/>
        <c:majorUnit val="2"/>
        <c:minorUnit val="1"/>
      </c:valAx>
      <c:valAx>
        <c:axId val="28776673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44551750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13641888"/>
        <c:axId val="72452236"/>
      </c:scatterChart>
      <c:valAx>
        <c:axId val="1364188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452236"/>
        <c:crosses val="autoZero"/>
        <c:crossBetween val="midCat"/>
        <c:majorUnit val="2"/>
        <c:minorUnit val="0.05"/>
      </c:valAx>
      <c:valAx>
        <c:axId val="7245223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64188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76490225"/>
        <c:axId val="84980453"/>
      </c:scatterChart>
      <c:valAx>
        <c:axId val="7649022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980453"/>
        <c:crosses val="autoZero"/>
        <c:crossBetween val="midCat"/>
        <c:majorUnit val="2"/>
        <c:minorUnit val="0.05"/>
      </c:valAx>
      <c:valAx>
        <c:axId val="8498045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49022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5228488"/>
        <c:axId val="11774465"/>
      </c:scatterChart>
      <c:valAx>
        <c:axId val="2522848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774465"/>
        <c:crosses val="autoZero"/>
        <c:crossBetween val="midCat"/>
        <c:majorUnit val="2"/>
        <c:minorUnit val="0.05"/>
      </c:valAx>
      <c:valAx>
        <c:axId val="1177446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522848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8750196"/>
        <c:axId val="91109492"/>
      </c:scatterChart>
      <c:valAx>
        <c:axId val="9875019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1109492"/>
        <c:crosses val="autoZero"/>
        <c:crossBetween val="midCat"/>
        <c:majorUnit val="2"/>
      </c:valAx>
      <c:valAx>
        <c:axId val="91109492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8750196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0597854"/>
        <c:axId val="78255843"/>
      </c:scatterChart>
      <c:valAx>
        <c:axId val="2059785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255843"/>
        <c:crosses val="autoZero"/>
        <c:crossBetween val="midCat"/>
        <c:majorUnit val="2"/>
      </c:valAx>
      <c:valAx>
        <c:axId val="78255843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59785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1607500"/>
        <c:axId val="75947745"/>
      </c:scatterChart>
      <c:valAx>
        <c:axId val="160750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947745"/>
        <c:crosses val="autoZero"/>
        <c:crossBetween val="midCat"/>
        <c:majorUnit val="2"/>
        <c:minorUnit val="0.05"/>
      </c:valAx>
      <c:valAx>
        <c:axId val="7594774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0750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3975DE-6607-4F91-B7E3-644AE54D2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69E267-D01A-43B2-B4CF-6B2903693B42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225FE8-60DA-4461-8C2A-66ECF93A4D1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364F04-B154-40B7-ABE4-CE4D4B9A97C6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