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9126342"/>
        <c:axId val="90036785"/>
      </c:scatterChart>
      <c:valAx>
        <c:axId val="2912634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036785"/>
        <c:crosses val="autoZero"/>
        <c:crossBetween val="midCat"/>
        <c:majorUnit val="1"/>
      </c:valAx>
      <c:valAx>
        <c:axId val="9003678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12634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2656412"/>
        <c:axId val="20041763"/>
      </c:scatterChart>
      <c:valAx>
        <c:axId val="8265641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041763"/>
        <c:crosses val="autoZero"/>
        <c:crossBetween val="midCat"/>
        <c:majorUnit val="1"/>
      </c:valAx>
      <c:valAx>
        <c:axId val="2004176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65641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19491741"/>
        <c:axId val="97501435"/>
      </c:scatterChart>
      <c:valAx>
        <c:axId val="1949174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7501435"/>
        <c:crosses val="autoZero"/>
        <c:crossBetween val="midCat"/>
        <c:majorUnit val="2"/>
        <c:minorUnit val="1"/>
      </c:valAx>
      <c:valAx>
        <c:axId val="97501435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949174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3981745"/>
        <c:axId val="74181605"/>
      </c:scatterChart>
      <c:valAx>
        <c:axId val="9398174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181605"/>
        <c:crosses val="autoZero"/>
        <c:crossBetween val="midCat"/>
        <c:majorUnit val="2"/>
        <c:minorUnit val="0.05"/>
      </c:valAx>
      <c:valAx>
        <c:axId val="7418160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98174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7393020"/>
        <c:axId val="35550377"/>
      </c:scatterChart>
      <c:valAx>
        <c:axId val="373930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550377"/>
        <c:crosses val="autoZero"/>
        <c:crossBetween val="midCat"/>
        <c:majorUnit val="2"/>
        <c:minorUnit val="0.05"/>
      </c:valAx>
      <c:valAx>
        <c:axId val="3555037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3930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3264186"/>
        <c:axId val="47717119"/>
      </c:scatterChart>
      <c:valAx>
        <c:axId val="8326418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717119"/>
        <c:crosses val="autoZero"/>
        <c:crossBetween val="midCat"/>
        <c:majorUnit val="2"/>
        <c:minorUnit val="0.05"/>
      </c:valAx>
      <c:valAx>
        <c:axId val="4771711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26418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919720"/>
        <c:axId val="36500568"/>
      </c:scatterChart>
      <c:valAx>
        <c:axId val="29197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500568"/>
        <c:crosses val="autoZero"/>
        <c:crossBetween val="midCat"/>
        <c:majorUnit val="2"/>
      </c:valAx>
      <c:valAx>
        <c:axId val="3650056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197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2870243"/>
        <c:axId val="25596783"/>
      </c:scatterChart>
      <c:valAx>
        <c:axId val="9287024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596783"/>
        <c:crosses val="autoZero"/>
        <c:crossBetween val="midCat"/>
        <c:majorUnit val="2"/>
      </c:valAx>
      <c:valAx>
        <c:axId val="2559678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87024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1827182"/>
        <c:axId val="86095906"/>
      </c:scatterChart>
      <c:valAx>
        <c:axId val="418271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095906"/>
        <c:crosses val="autoZero"/>
        <c:crossBetween val="midCat"/>
        <c:majorUnit val="2"/>
        <c:minorUnit val="0.05"/>
      </c:valAx>
      <c:valAx>
        <c:axId val="8609590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8271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2CA90-36D0-4E81-B45F-F6847C999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B0FFB-321D-4354-8DA5-E64804FAA01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707A3A-E2D3-4000-A750-744FF085B0D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CE79D-CA6C-4E12-B3FF-71BE0BA7EC1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