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1140427"/>
        <c:axId val="99253080"/>
      </c:scatterChart>
      <c:valAx>
        <c:axId val="5114042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253080"/>
        <c:crosses val="autoZero"/>
        <c:crossBetween val="midCat"/>
        <c:majorUnit val="1"/>
      </c:valAx>
      <c:valAx>
        <c:axId val="99253080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14042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48315263"/>
        <c:axId val="34087661"/>
      </c:scatterChart>
      <c:valAx>
        <c:axId val="4831526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087661"/>
        <c:crosses val="autoZero"/>
        <c:crossBetween val="midCat"/>
        <c:majorUnit val="1"/>
      </c:valAx>
      <c:valAx>
        <c:axId val="34087661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31526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4022975"/>
        <c:axId val="68002232"/>
      </c:scatterChart>
      <c:valAx>
        <c:axId val="94022975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8002232"/>
        <c:crosses val="autoZero"/>
        <c:crossBetween val="midCat"/>
        <c:majorUnit val="2"/>
        <c:minorUnit val="1"/>
      </c:valAx>
      <c:valAx>
        <c:axId val="68002232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4022975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618626"/>
        <c:axId val="77361423"/>
      </c:scatterChart>
      <c:valAx>
        <c:axId val="461862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361423"/>
        <c:crosses val="autoZero"/>
        <c:crossBetween val="midCat"/>
        <c:majorUnit val="2"/>
        <c:minorUnit val="0.05"/>
      </c:valAx>
      <c:valAx>
        <c:axId val="7736142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1862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76696035"/>
        <c:axId val="64633358"/>
      </c:scatterChart>
      <c:valAx>
        <c:axId val="7669603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633358"/>
        <c:crosses val="autoZero"/>
        <c:crossBetween val="midCat"/>
        <c:majorUnit val="2"/>
        <c:minorUnit val="0.05"/>
      </c:valAx>
      <c:valAx>
        <c:axId val="6463335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69603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854378"/>
        <c:axId val="11679994"/>
      </c:scatterChart>
      <c:valAx>
        <c:axId val="485437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679994"/>
        <c:crosses val="autoZero"/>
        <c:crossBetween val="midCat"/>
        <c:majorUnit val="2"/>
        <c:minorUnit val="0.05"/>
      </c:valAx>
      <c:valAx>
        <c:axId val="1167999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5437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7299499"/>
        <c:axId val="28429570"/>
      </c:scatterChart>
      <c:valAx>
        <c:axId val="3729949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429570"/>
        <c:crosses val="autoZero"/>
        <c:crossBetween val="midCat"/>
        <c:majorUnit val="2"/>
      </c:valAx>
      <c:valAx>
        <c:axId val="2842957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29949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384185"/>
        <c:axId val="4176650"/>
      </c:scatterChart>
      <c:valAx>
        <c:axId val="638418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76650"/>
        <c:crosses val="autoZero"/>
        <c:crossBetween val="midCat"/>
        <c:majorUnit val="2"/>
      </c:valAx>
      <c:valAx>
        <c:axId val="417665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84185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6531098"/>
        <c:axId val="47379705"/>
      </c:scatterChart>
      <c:valAx>
        <c:axId val="8653109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379705"/>
        <c:crosses val="autoZero"/>
        <c:crossBetween val="midCat"/>
        <c:majorUnit val="2"/>
        <c:minorUnit val="0.05"/>
      </c:valAx>
      <c:valAx>
        <c:axId val="4737970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53109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35EFEE-2453-4949-B396-5E686A5E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606A9B-BDB5-4719-8296-0CDBA2E8A60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557CA9-A749-45E2-9E7B-C0E116A0AE08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9A61CE-FA2A-4969-9A08-64187EF8D72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