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006F-7CF7-44DE-8975-43D0053F2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1D1C-DEE1-4636-8181-E1B3D7028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05BA-92EE-405D-BE2E-E33DE24B4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3923-1327-48C3-9F87-3A91BBD4A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10EE-0F9E-466B-9520-B1EB0D3D9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23FB-E206-496D-AF5F-D8FDDEB6B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C956-3EB4-4671-B1E7-38A6C4D75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CE81-EC81-47B2-9F15-9DE86BF57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5637-5FD2-4E4C-989A-A8485B209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918C-813E-4C7E-BB78-4D0EFE427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78D4-A917-4471-9CD5-22691A1B0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B895-CB51-4F44-9464-28876449C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C518B-2B48-444B-B37E-CE7DC573DE3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91F8C-EAC8-4091-9522-93F3AE6D8D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Bookman Old Style"/>
              </a:rPr>
              <a:t>Čtverec kružítk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Tento trojúhelník je rovnoramenný, a proto výška půlí základn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Z Pythagorovy věty potom pro délku této výšk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LN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platí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1332000" y="1413000"/>
            <a:ext cx="5837040" cy="4892400"/>
          </a:xfrm>
          <a:prstGeom prst="rect">
            <a:avLst/>
          </a:prstGeom>
          <a:ln w="0">
            <a:noFill/>
          </a:ln>
        </p:spPr>
      </p:pic>
      <p:sp>
        <p:nvSpPr>
          <p:cNvPr id="73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…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a to jsme potřebovali. Možný postup j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Jsou dány bod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estrojíme vrcholy pravidelného šestiúhelníku vepsaného do kružnice o poloměru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r = │AB 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estrojíme nad průměrem této kružnice vrchol rovnoramenného trojúhelníku s rameny dlouhými 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│AB│∙√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Použijeme délku jeho výšky k základně a vzdálenost mezi 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jako poloměry dvou kružnic opsaných z bodu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,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resp.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 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, a sestrojíme tak bod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Bod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C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sestrojíme např. na průsečíku kružnic se střed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s poloměr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r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Řešení najdete na další straně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1332000" y="260280"/>
            <a:ext cx="6583320" cy="6116760"/>
          </a:xfrm>
          <a:prstGeom prst="rect">
            <a:avLst/>
          </a:prstGeom>
          <a:ln w="0">
            <a:noFill/>
          </a:ln>
        </p:spPr>
      </p:pic>
      <p:sp>
        <p:nvSpPr>
          <p:cNvPr id="78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5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Jsou dány body A a B. Sestrojte vrcholy C a D čtverce ABCD pouze s použitím kružítka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Zástupný symbol pro zápatí 3"/>
          <p:cNvSpPr/>
          <p:nvPr/>
        </p:nvSpPr>
        <p:spPr>
          <a:xfrm>
            <a:off x="642960" y="637704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Bookman Old Style"/>
              </a:rPr>
              <a:t>Mascheronské konstruk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Bookman Old Style"/>
              </a:rPr>
              <a:t>Ital Lorenzo Mascheroni dokázal, že všechny konstrukce bodů, k jejichž sestrojení je třeba kružítka a pravítka lze sestrojit pouze kružítk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Bookman Old Style"/>
              </a:rPr>
              <a:t>Je to pracnější, zato delší postu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Bookman Old Style"/>
              </a:rPr>
              <a:t>Jednu „mascheronskou“ konstrukci už znáte. Kterou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95280" y="475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Sestrojte vrcholy pravidelného šestiúhelníku vepsaného do dané kružni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2268360" y="1484280"/>
            <a:ext cx="4969080" cy="4549680"/>
          </a:xfrm>
          <a:prstGeom prst="rect">
            <a:avLst/>
          </a:prstGeom>
          <a:ln w="0">
            <a:noFill/>
          </a:ln>
        </p:spPr>
      </p:pic>
      <p:sp>
        <p:nvSpPr>
          <p:cNvPr id="50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Pokusíme se odvodit konstrukci vrcholů čtverce pomocí jeho vlastností a využijeme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i znalost sestrojení šestiúhelník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Na všechny výpočty si vystačíme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s Pythagorovou věto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Nejdříve provedeme několik výpočtů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Přiřaďte délky a úhly k úsečkám 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v obrazcích, je-li a =│AB │= │EF 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6" descr=""/>
          <p:cNvPicPr/>
          <p:nvPr/>
        </p:nvPicPr>
        <p:blipFill>
          <a:blip r:embed="rId1"/>
          <a:stretch/>
        </p:blipFill>
        <p:spPr>
          <a:xfrm>
            <a:off x="652320" y="1600200"/>
            <a:ext cx="7839360" cy="4525920"/>
          </a:xfrm>
          <a:prstGeom prst="rect">
            <a:avLst/>
          </a:prstGeom>
          <a:ln w="0">
            <a:noFill/>
          </a:ln>
        </p:spPr>
      </p:pic>
      <p:sp>
        <p:nvSpPr>
          <p:cNvPr id="56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Řešení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563400" y="1600200"/>
            <a:ext cx="8015400" cy="4525920"/>
          </a:xfrm>
          <a:prstGeom prst="rect">
            <a:avLst/>
          </a:prstGeom>
          <a:ln w="0">
            <a:noFill/>
          </a:ln>
        </p:spPr>
      </p:pic>
      <p:sp>
        <p:nvSpPr>
          <p:cNvPr id="60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Pozor na chyb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197000"/>
            <a:ext cx="81471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Na obrázku to vypadá, že velikost úsečk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EI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(červená) je rovna 7mi základním dílkům rastru pozadí (stran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měří 4 dílky), ale ve skutečnosti je její délka rovn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√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3 =a ∙ 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1,73205080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3995640" y="2637000"/>
            <a:ext cx="3735360" cy="3342960"/>
          </a:xfrm>
          <a:prstGeom prst="rect">
            <a:avLst/>
          </a:prstGeom>
          <a:ln w="0">
            <a:noFill/>
          </a:ln>
        </p:spPr>
      </p:pic>
      <p:sp>
        <p:nvSpPr>
          <p:cNvPr id="65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6840" y="476280"/>
            <a:ext cx="346716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Nyní se můžeme pustit do původní úloh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estrojit vrcholy čtverce kružítkem znamená mít k dispozici dvě délky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√2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.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Délka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je dána umístěním bodů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čtverce, zbývá tedy sestrojit úsečku o velikosti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√2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Použijeme následující trojúhelník, jehož velikosti stran můžeme přenést z pravidelného šestiúhelník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3995640" y="404640"/>
            <a:ext cx="4802400" cy="5616720"/>
          </a:xfrm>
          <a:prstGeom prst="rect">
            <a:avLst/>
          </a:prstGeom>
          <a:ln w="0">
            <a:noFill/>
          </a:ln>
        </p:spPr>
      </p:pic>
      <p:sp>
        <p:nvSpPr>
          <p:cNvPr id="69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6T17:27:27Z</dcterms:created>
  <dc:creator>Mgr. David Hanzlíček</dc:creator>
  <dc:description>Dostupné z Metodického portálu www.rvp.cz, ISSN: 1802-4785, financovaného z ESF a státního rozpočtu ČR. Provozováno Výzkumným ústavem pedagogickým v Praze.</dc:description>
  <dc:language>en-US</dc:language>
  <cp:lastModifiedBy>Martin Klzo</cp:lastModifiedBy>
  <dcterms:modified xsi:type="dcterms:W3CDTF">2010-08-09T11:09:04Z</dcterms:modified>
  <cp:revision>14</cp:revision>
  <dc:subject/>
  <dc:title>Čtverec kružítkem</dc:title>
</cp:coreProperties>
</file>