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3383663"/>
        <c:axId val="67295166"/>
      </c:scatterChart>
      <c:valAx>
        <c:axId val="8338366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295166"/>
        <c:crosses val="autoZero"/>
        <c:crossBetween val="midCat"/>
        <c:majorUnit val="1"/>
      </c:valAx>
      <c:valAx>
        <c:axId val="6729516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38366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4826870"/>
        <c:axId val="5634731"/>
      </c:scatterChart>
      <c:valAx>
        <c:axId val="2482687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34731"/>
        <c:crosses val="autoZero"/>
        <c:crossBetween val="midCat"/>
        <c:majorUnit val="1"/>
      </c:valAx>
      <c:valAx>
        <c:axId val="563473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82687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8017518"/>
        <c:axId val="26318947"/>
      </c:scatterChart>
      <c:valAx>
        <c:axId val="7801751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6318947"/>
        <c:crosses val="autoZero"/>
        <c:crossBetween val="midCat"/>
        <c:majorUnit val="2"/>
        <c:minorUnit val="1"/>
      </c:valAx>
      <c:valAx>
        <c:axId val="2631894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801751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9377149"/>
        <c:axId val="29488440"/>
      </c:scatterChart>
      <c:valAx>
        <c:axId val="693771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488440"/>
        <c:crosses val="autoZero"/>
        <c:crossBetween val="midCat"/>
        <c:majorUnit val="2"/>
        <c:minorUnit val="0.05"/>
      </c:valAx>
      <c:valAx>
        <c:axId val="2948844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37714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9987747"/>
        <c:axId val="48955026"/>
      </c:scatterChart>
      <c:valAx>
        <c:axId val="299877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55026"/>
        <c:crosses val="autoZero"/>
        <c:crossBetween val="midCat"/>
        <c:majorUnit val="2"/>
        <c:minorUnit val="0.05"/>
      </c:valAx>
      <c:valAx>
        <c:axId val="4895502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98774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4478683"/>
        <c:axId val="30226169"/>
      </c:scatterChart>
      <c:valAx>
        <c:axId val="5447868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226169"/>
        <c:crosses val="autoZero"/>
        <c:crossBetween val="midCat"/>
        <c:majorUnit val="2"/>
        <c:minorUnit val="0.05"/>
      </c:valAx>
      <c:valAx>
        <c:axId val="3022616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47868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3816613"/>
        <c:axId val="8660875"/>
      </c:scatterChart>
      <c:valAx>
        <c:axId val="438166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60875"/>
        <c:crosses val="autoZero"/>
        <c:crossBetween val="midCat"/>
        <c:majorUnit val="2"/>
      </c:valAx>
      <c:valAx>
        <c:axId val="866087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81661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6546811"/>
        <c:axId val="92267041"/>
      </c:scatterChart>
      <c:valAx>
        <c:axId val="865468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267041"/>
        <c:crosses val="autoZero"/>
        <c:crossBetween val="midCat"/>
        <c:majorUnit val="2"/>
      </c:valAx>
      <c:valAx>
        <c:axId val="9226704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54681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9575383"/>
        <c:axId val="19246082"/>
      </c:scatterChart>
      <c:valAx>
        <c:axId val="1957538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246082"/>
        <c:crosses val="autoZero"/>
        <c:crossBetween val="midCat"/>
        <c:majorUnit val="2"/>
        <c:minorUnit val="0.05"/>
      </c:valAx>
      <c:valAx>
        <c:axId val="192460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57538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31840D-D995-43DD-BBA1-0C681FEB6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5A936-8D7A-47A6-8BB4-C2E8F55BD57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597BDD-640F-4F33-B06A-5DBDA000A58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361BDB-55E6-4ECD-B5A0-63355980882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