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5409188"/>
        <c:axId val="27541811"/>
      </c:scatterChart>
      <c:valAx>
        <c:axId val="8540918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541811"/>
        <c:crosses val="autoZero"/>
        <c:crossBetween val="midCat"/>
        <c:majorUnit val="1"/>
      </c:valAx>
      <c:valAx>
        <c:axId val="2754181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40918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4942542"/>
        <c:axId val="5314667"/>
      </c:scatterChart>
      <c:valAx>
        <c:axId val="9494254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14667"/>
        <c:crosses val="autoZero"/>
        <c:crossBetween val="midCat"/>
        <c:majorUnit val="1"/>
      </c:valAx>
      <c:valAx>
        <c:axId val="531466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94254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3241078"/>
        <c:axId val="10272791"/>
      </c:scatterChart>
      <c:valAx>
        <c:axId val="7324107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0272791"/>
        <c:crosses val="autoZero"/>
        <c:crossBetween val="midCat"/>
        <c:majorUnit val="2"/>
        <c:minorUnit val="1"/>
      </c:valAx>
      <c:valAx>
        <c:axId val="10272791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324107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0709475"/>
        <c:axId val="9734493"/>
      </c:scatterChart>
      <c:valAx>
        <c:axId val="4070947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34493"/>
        <c:crosses val="autoZero"/>
        <c:crossBetween val="midCat"/>
        <c:majorUnit val="2"/>
        <c:minorUnit val="0.05"/>
      </c:valAx>
      <c:valAx>
        <c:axId val="973449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70947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8734756"/>
        <c:axId val="8378029"/>
      </c:scatterChart>
      <c:valAx>
        <c:axId val="287347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78029"/>
        <c:crosses val="autoZero"/>
        <c:crossBetween val="midCat"/>
        <c:majorUnit val="2"/>
        <c:minorUnit val="0.05"/>
      </c:valAx>
      <c:valAx>
        <c:axId val="83780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73475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2982822"/>
        <c:axId val="76608025"/>
      </c:scatterChart>
      <c:valAx>
        <c:axId val="1298282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608025"/>
        <c:crosses val="autoZero"/>
        <c:crossBetween val="midCat"/>
        <c:majorUnit val="2"/>
        <c:minorUnit val="0.05"/>
      </c:valAx>
      <c:valAx>
        <c:axId val="7660802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98282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0570453"/>
        <c:axId val="88816061"/>
      </c:scatterChart>
      <c:valAx>
        <c:axId val="505704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816061"/>
        <c:crosses val="autoZero"/>
        <c:crossBetween val="midCat"/>
        <c:majorUnit val="2"/>
      </c:valAx>
      <c:valAx>
        <c:axId val="8881606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57045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4864263"/>
        <c:axId val="57330386"/>
      </c:scatterChart>
      <c:valAx>
        <c:axId val="8486426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330386"/>
        <c:crosses val="autoZero"/>
        <c:crossBetween val="midCat"/>
        <c:majorUnit val="2"/>
      </c:valAx>
      <c:valAx>
        <c:axId val="5733038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86426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1397674"/>
        <c:axId val="92658483"/>
      </c:scatterChart>
      <c:valAx>
        <c:axId val="3139767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658483"/>
        <c:crosses val="autoZero"/>
        <c:crossBetween val="midCat"/>
        <c:majorUnit val="2"/>
        <c:minorUnit val="0.05"/>
      </c:valAx>
      <c:valAx>
        <c:axId val="9265848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39767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929295-8204-4EFD-B5CF-B0F01BC3B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DCF71D-5F80-46D7-8AED-87C3DDB2B8D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290C08-B0EE-4030-849C-3EBAE0FC7D6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8F3E4C-2255-4654-9D41-B584F8769DD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