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265317"/>
        <c:axId val="38504013"/>
      </c:scatterChart>
      <c:valAx>
        <c:axId val="8426531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504013"/>
        <c:crosses val="autoZero"/>
        <c:crossBetween val="midCat"/>
        <c:majorUnit val="1"/>
      </c:valAx>
      <c:valAx>
        <c:axId val="3850401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26531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2428005"/>
        <c:axId val="15738568"/>
      </c:scatterChart>
      <c:valAx>
        <c:axId val="6242800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738568"/>
        <c:crosses val="autoZero"/>
        <c:crossBetween val="midCat"/>
        <c:majorUnit val="1"/>
      </c:valAx>
      <c:valAx>
        <c:axId val="1573856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42800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3796029"/>
        <c:axId val="27825613"/>
      </c:scatterChart>
      <c:valAx>
        <c:axId val="1379602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7825613"/>
        <c:crosses val="autoZero"/>
        <c:crossBetween val="midCat"/>
        <c:majorUnit val="2"/>
        <c:minorUnit val="1"/>
      </c:valAx>
      <c:valAx>
        <c:axId val="2782561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379602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0694582"/>
        <c:axId val="5506058"/>
      </c:scatterChart>
      <c:valAx>
        <c:axId val="206945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06058"/>
        <c:crosses val="autoZero"/>
        <c:crossBetween val="midCat"/>
        <c:majorUnit val="2"/>
        <c:minorUnit val="0.05"/>
      </c:valAx>
      <c:valAx>
        <c:axId val="550605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6945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3748561"/>
        <c:axId val="72177160"/>
      </c:scatterChart>
      <c:valAx>
        <c:axId val="537485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177160"/>
        <c:crosses val="autoZero"/>
        <c:crossBetween val="midCat"/>
        <c:majorUnit val="2"/>
        <c:minorUnit val="0.05"/>
      </c:valAx>
      <c:valAx>
        <c:axId val="7217716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7485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9786992"/>
        <c:axId val="19590418"/>
      </c:scatterChart>
      <c:valAx>
        <c:axId val="897869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590418"/>
        <c:crosses val="autoZero"/>
        <c:crossBetween val="midCat"/>
        <c:majorUnit val="2"/>
        <c:minorUnit val="0.05"/>
      </c:valAx>
      <c:valAx>
        <c:axId val="195904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78699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916097"/>
        <c:axId val="86227215"/>
      </c:scatterChart>
      <c:valAx>
        <c:axId val="489160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227215"/>
        <c:crosses val="autoZero"/>
        <c:crossBetween val="midCat"/>
        <c:majorUnit val="2"/>
      </c:valAx>
      <c:valAx>
        <c:axId val="8622721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1609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7117272"/>
        <c:axId val="25813529"/>
      </c:scatterChart>
      <c:valAx>
        <c:axId val="471172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813529"/>
        <c:crosses val="autoZero"/>
        <c:crossBetween val="midCat"/>
        <c:majorUnit val="2"/>
      </c:valAx>
      <c:valAx>
        <c:axId val="2581352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1172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6675185"/>
        <c:axId val="48597917"/>
      </c:scatterChart>
      <c:valAx>
        <c:axId val="766751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97917"/>
        <c:crosses val="autoZero"/>
        <c:crossBetween val="midCat"/>
        <c:majorUnit val="2"/>
        <c:minorUnit val="0.05"/>
      </c:valAx>
      <c:valAx>
        <c:axId val="4859791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6751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89FA9-8B61-4CCF-AD51-47552DF9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B2834E-B612-49F0-AB81-4D209A6ADD0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D3F4BD-9E4F-416E-A80F-BF490AE818A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08730-0ED4-4BD9-9289-F9A6030F8AC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