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8.png" ContentType="image/png"/>
  <Override PartName="/ppt/media/image7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3.png" ContentType="image/png"/>
  <Override PartName="/ppt/media/image5.jpeg" ContentType="image/jpeg"/>
  <Override PartName="/ppt/media/image6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C079F-DA90-4609-8ED9-5508CF5356F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AFB9D-77F0-44EC-ABFD-07A2CF75912E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38CF6-FE94-4C85-A586-A734195E41F0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39292-6439-45C7-9413-398FEFD9D608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B0632-4998-433E-848D-DFF81884D36B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BC96-D9B6-4F7F-BFD9-1CACC2459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5CC6-1232-489D-B163-37F10AF0E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7FFB-D6C3-42FA-88F5-47B63C20F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B49B-0936-45F4-B69C-E9DD9781E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BFB38-F808-48AF-B09A-566EBF604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10476-29B2-4329-B6CC-591565379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9133E-A907-4B47-A8CA-F3C6625FB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09F2F-4B51-4825-B587-F03D480E0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97775-E294-4D2E-8BC9-949F24C73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B234F-A960-4442-BB05-F5380204B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2D8C7-FD03-42D0-9BC6-FDEED71B7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221D-7EE9-4B87-9FBC-07ED20346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D6041-BD44-441D-A4BA-0461C8D66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F3F9B-883A-4067-B9ED-1153C1774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2AD5C-3F06-4FF8-9D8E-A949548AC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B06F2-0876-4DEE-B812-862DE12A0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69AA5-D272-4640-AA3A-B169C6C20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FED8-FA5E-4550-8AEB-29767B216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67AF-1B7C-49AA-92ED-F34B37FB5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AE83-8DDF-482D-A64A-CF030F575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F1AF-14F4-4C5B-904D-F5E81833E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45BB-EA33-4C3C-8B21-28B69D3E8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60E2-459F-42A7-B87D-8833E32B8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09D3-C850-423B-944B-975CD15D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5B6BA-1A2D-4BB6-BECB-B4B5AE360A7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Freeform 4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Freeform 5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Freeform 6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Freeform 7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Freeform 8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Freeform 9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Freeform 10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Freeform 11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Freeform 12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Freeform 13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Rectangle 14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Freeform 15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Freeform 16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Freeform 17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Freeform 18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Rectangle 19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Freeform 20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Freeform 21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Freeform 22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Freeform 23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Freeform 24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Freeform 25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Freeform 26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Freeform 27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Freeform 28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Rectangle 29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Rectangle 30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Rectangle 31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Picture 32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06C1A-D4DC-4C57-8790-2583F5B13B20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opousek@mail.muni.cz" TargetMode="External"/><Relationship Id="rId2" Type="http://schemas.openxmlformats.org/officeDocument/2006/relationships/hyperlink" Target="mailto:sopousek@mail.muni.cz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www.google.cz/url?sa=i&amp;rct=j&amp;q=&amp;esrc=s&amp;source=images&amp;cd=&amp;cad=rja&amp;uact=8&amp;ved=2ahUKEwjJqJez1tfkAhVQIVAKHZtmDR4QjRx6BAgBEAQ&amp;url=https%3A%2F%2Fwww.pinterest.com%2Fpin%2F414894184402859522%2F&amp;psig=AOvVaw2bMv8W_y5ztogEHRLZRYHD&amp;ust=1568803429700853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www.google.cz/url?sa=i&amp;rct=j&amp;q=&amp;esrc=s&amp;source=images&amp;cd=&amp;ved=2ahUKEwiazsWW3tfkAhUMblAKHYLCDWcQjRx6BAgBEAQ&amp;url=https%3A%2F%2Fwww.sciencedirect.com%2Fscience%2Farticle%2Fpii%2FS0364591616302383&amp;psig=AOvVaw2hJUZQfkq0iSPgXJV07xIS&amp;ust=1568805506530172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is.muni.cz/auth/predmety/uplny_vypis.pl?fakulta=1431;obdobi=4443;kod=C6730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ebooks.bfwpub.com/pchemoup.php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is.muni.cz/auth/publication/156266" TargetMode="External"/><Relationship Id="rId2" Type="http://schemas.openxmlformats.org/officeDocument/2006/relationships/hyperlink" Target="https://is.muni.cz/auth/publication/173835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www.google.cz/url?sa=i&amp;rct=j&amp;q=&amp;esrc=s&amp;source=images&amp;cd=&amp;cad=rja&amp;uact=8&amp;ved=2ahUKEwjJqJez1tfkAhVQIVAKHZtmDR4QjRx6BAgBEAQ&amp;url=https%3A%2F%2Fwww.pinterest.com%2Fpin%2F414894184402859522%2F&amp;psig=AOvVaw2bMv8W_y5ztogEHRLZRYHD&amp;ust=1568803429700853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google.cz/url?sa=i&amp;rct=j&amp;q=&amp;esrc=s&amp;source=images&amp;cd=&amp;cad=rja&amp;uact=8&amp;ved=2ahUKEwi5yvy_1dfkAhUGKFAKHZwJCCYQjRx6BAgBEAQ&amp;url=http%3A%2F%2Fsv.rkriz.net%2Fclasses%2FMSE2094_NoteBook%2F96ClassProj%2Fexperimental%2Fternary2.html&amp;psig=AOvVaw3j33MDCwQPbR1EfpPY0R5V&amp;ust=1568803187446169" TargetMode="Externa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br>
              <a:rPr sz="4400"/>
            </a:b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(Phase Equilibria)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1600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J.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Kancelář: UKB, A12, M23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Tel: 549497138, E-mail: </a:t>
            </a:r>
            <a:r>
              <a:rPr b="0" lang="cs-CZ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sopousek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@mail.muni.cz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17400" y="250920"/>
            <a:ext cx="777240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4d4d4d"/>
                </a:solidFill>
                <a:latin typeface="Arial Black"/>
              </a:rPr>
              <a:t>Fe-C phase diagram</a:t>
            </a:r>
            <a:endParaRPr b="0" lang="en-US" sz="36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5" name="Picture 2" descr="Výsledek obrázku pro phase diagram Fe C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95560"/>
            <a:ext cx="9144000" cy="57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Nadpis 1"/>
          <p:cNvSpPr/>
          <p:nvPr/>
        </p:nvSpPr>
        <p:spPr>
          <a:xfrm>
            <a:off x="193680" y="195120"/>
            <a:ext cx="8626320" cy="609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4d4d4d"/>
                </a:solidFill>
                <a:latin typeface="Arial Black"/>
              </a:rPr>
              <a:t>Vybrané projekty na UCh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TextovéPole 8"/>
          <p:cNvSpPr/>
          <p:nvPr/>
        </p:nvSpPr>
        <p:spPr>
          <a:xfrm>
            <a:off x="5508720" y="1644480"/>
            <a:ext cx="3095640" cy="1554120"/>
          </a:xfrm>
          <a:prstGeom prst="rect">
            <a:avLst/>
          </a:prstGeom>
          <a:solidFill>
            <a:srgbClr val="9cc2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Times New Roman"/>
              </a:rPr>
              <a:t>2017-2019, GA17-12844S: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Thermal and phase stability of advanced thermoelectric materials </a:t>
            </a:r>
            <a:r>
              <a:rPr b="1" lang="en-GB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Investigator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: P</a:t>
            </a:r>
            <a:r>
              <a:rPr b="0" lang="en-GB" sz="1600" spc="-1" strike="noStrike">
                <a:solidFill>
                  <a:srgbClr val="000066"/>
                </a:solidFill>
                <a:latin typeface="Times New Roman"/>
              </a:rPr>
              <a:t>. Bro</a:t>
            </a: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ž</a:t>
            </a:r>
            <a:r>
              <a:rPr b="0" lang="en-GB" sz="1600" spc="-1" strike="noStrike">
                <a:solidFill>
                  <a:srgbClr val="000066"/>
                </a:solidFill>
                <a:latin typeface="Times New Roman"/>
              </a:rPr>
              <a:t>). 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 Focused also on nanostructured thermoelectric materials</a:t>
            </a:r>
            <a:r>
              <a:rPr b="0" lang="en-GB" sz="16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8" name="Picture 2" descr="https://www.researchgate.net/profile/Nathan_Newman/publication/268330588/figure/fig2/AS:295404747935745@1447441388439/Figure-13-Schematic-of-thermoelectric-refrigeration-left-power-generation-and-power.png"/>
          <p:cNvPicPr/>
          <p:nvPr/>
        </p:nvPicPr>
        <p:blipFill>
          <a:blip r:embed="rId1"/>
          <a:stretch/>
        </p:blipFill>
        <p:spPr>
          <a:xfrm>
            <a:off x="200160" y="1596960"/>
            <a:ext cx="4948200" cy="31273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" descr="http://ars.els-cdn.com/content/image/1-s2.0-S0196890415008055-fx1.jpg"/>
          <p:cNvPicPr/>
          <p:nvPr/>
        </p:nvPicPr>
        <p:blipFill>
          <a:blip r:embed="rId2"/>
          <a:stretch/>
        </p:blipFill>
        <p:spPr>
          <a:xfrm>
            <a:off x="4057560" y="4724280"/>
            <a:ext cx="4762440" cy="1905120"/>
          </a:xfrm>
          <a:prstGeom prst="rect">
            <a:avLst/>
          </a:prstGeom>
          <a:ln w="0">
            <a:noFill/>
          </a:ln>
        </p:spPr>
      </p:pic>
      <p:sp>
        <p:nvSpPr>
          <p:cNvPr id="180" name="Obdélník 1"/>
          <p:cNvSpPr/>
          <p:nvPr/>
        </p:nvSpPr>
        <p:spPr>
          <a:xfrm>
            <a:off x="200160" y="5695920"/>
            <a:ext cx="336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http://thermoelectrics.matsci.northwestern.edu/thermoelectrics/nanomaterials.html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Obdélník 1"/>
          <p:cNvSpPr/>
          <p:nvPr/>
        </p:nvSpPr>
        <p:spPr>
          <a:xfrm>
            <a:off x="324000" y="100008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Nanostrukturovaná termoelektrika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ovéPole 1"/>
          <p:cNvSpPr/>
          <p:nvPr/>
        </p:nvSpPr>
        <p:spPr>
          <a:xfrm>
            <a:off x="225360" y="376200"/>
            <a:ext cx="84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Studium vlastností nanočástic v závislosti na jejich velikosti (Pinkas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TextovéPole 7"/>
          <p:cNvSpPr/>
          <p:nvPr/>
        </p:nvSpPr>
        <p:spPr>
          <a:xfrm>
            <a:off x="206280" y="1711440"/>
            <a:ext cx="4267440" cy="1310760"/>
          </a:xfrm>
          <a:prstGeom prst="rect">
            <a:avLst/>
          </a:prstGeom>
          <a:solidFill>
            <a:srgbClr val="9cc2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Times New Roman"/>
              </a:rPr>
              <a:t>2017-2019, GA17-15405S: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Advanced experimental and theoretical approaches to phase diagrams of nanoalloys including the influence of particle size</a:t>
            </a:r>
            <a:r>
              <a:rPr b="1" lang="en-GB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Investigator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: </a:t>
            </a:r>
            <a:r>
              <a:rPr b="0" lang="en-GB" sz="1600" spc="-1" strike="noStrike">
                <a:solidFill>
                  <a:srgbClr val="000066"/>
                </a:solidFill>
                <a:latin typeface="Times New Roman"/>
              </a:rPr>
              <a:t>J. Pinkas).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4" name="Picture 8" descr="Výsledek obrázku pro nanoparticle size phase diagra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5360" y="3143160"/>
            <a:ext cx="4273560" cy="3454560"/>
          </a:xfrm>
          <a:prstGeom prst="rect">
            <a:avLst/>
          </a:prstGeom>
          <a:ln w="0">
            <a:noFill/>
          </a:ln>
        </p:spPr>
      </p:pic>
      <p:sp>
        <p:nvSpPr>
          <p:cNvPr id="185" name="Obdélník 1"/>
          <p:cNvSpPr/>
          <p:nvPr/>
        </p:nvSpPr>
        <p:spPr>
          <a:xfrm>
            <a:off x="4705200" y="603720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Times New Roman"/>
              </a:rPr>
              <a:t>http://www.scielo.br/scielo.php?pid=S0001-37652018000200719&amp;script=sci_arttex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6" name="Picture 12" descr="Výsledek obrázku pro nanoparticle size phase diagram"/>
          <p:cNvPicPr/>
          <p:nvPr/>
        </p:nvPicPr>
        <p:blipFill>
          <a:blip r:embed="rId3"/>
          <a:stretch/>
        </p:blipFill>
        <p:spPr>
          <a:xfrm>
            <a:off x="5405400" y="1403280"/>
            <a:ext cx="317196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Syntéza a vlastnosti nanočástic a nanostrukturovaných materiálů (Sopoušek)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8" name="Picture 2" descr="Výsledek obrázku pro nanoparticle synthesis"/>
          <p:cNvPicPr/>
          <p:nvPr/>
        </p:nvPicPr>
        <p:blipFill>
          <a:blip r:embed="rId1"/>
          <a:stretch/>
        </p:blipFill>
        <p:spPr>
          <a:xfrm>
            <a:off x="324000" y="1484280"/>
            <a:ext cx="4286160" cy="1771560"/>
          </a:xfrm>
          <a:prstGeom prst="rect">
            <a:avLst/>
          </a:prstGeom>
          <a:ln w="0">
            <a:noFill/>
          </a:ln>
        </p:spPr>
      </p:pic>
      <p:sp>
        <p:nvSpPr>
          <p:cNvPr id="189" name="TextovéPole 2"/>
          <p:cNvSpPr/>
          <p:nvPr/>
        </p:nvSpPr>
        <p:spPr>
          <a:xfrm>
            <a:off x="5364000" y="1628640"/>
            <a:ext cx="31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Batch and continual synthesi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0" name="Picture 6" descr=""/>
          <p:cNvPicPr/>
          <p:nvPr/>
        </p:nvPicPr>
        <p:blipFill>
          <a:blip r:embed="rId2"/>
          <a:stretch/>
        </p:blipFill>
        <p:spPr>
          <a:xfrm>
            <a:off x="1168560" y="3500280"/>
            <a:ext cx="6881760" cy="32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4920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d4d4d"/>
                </a:solidFill>
                <a:latin typeface="Arial"/>
              </a:rPr>
              <a:t>Upřesněný plán přednášek PS 2019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380880" y="1143000"/>
          <a:ext cx="8382240" cy="4849920"/>
        </p:xfrm>
        <a:graphic>
          <a:graphicData uri="http://schemas.openxmlformats.org/drawingml/2006/table">
            <a:tbl>
              <a:tblPr/>
              <a:tblGrid>
                <a:gridCol w="914400"/>
                <a:gridCol w="2971800"/>
                <a:gridCol w="762120"/>
                <a:gridCol w="3733920"/>
              </a:tblGrid>
              <a:tr h="49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Týden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Program (det. viz anotace)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Týden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Program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Úvod (exkurse po UKB, nebo VUT)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Reálné rovnováhy (destilace, extrakce, oceli, pájky bez olova, …)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738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Základy Termodynamiky, opakování fyzikální chemie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8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Výpočty fázových diagramů (Metoda CALPHAD, ThermoCalc)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988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Fáze a materiál, základní pravidla. Popis rovnovážných stavů, podmínka fázové rovnováhy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Fázové transformace (poruchy krystalové mříže, nukleace, kinetika)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Fázové diagramy, výpočty, konstrukce použití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Mechanismy difúze, mobilita, TD+Kin faktor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663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Experimentální metody sledování FR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1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Kinetika reálných soustav technické materiály, svary ocelí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Exkurse (na AVČR UFM)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2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Souvislosti mezi fáz. a fyz.-mech vlastnostmi reál. soust.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7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Související přednášk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94" name="TextovéPole 2"/>
          <p:cNvSpPr/>
          <p:nvPr/>
        </p:nvSpPr>
        <p:spPr>
          <a:xfrm>
            <a:off x="324000" y="765000"/>
            <a:ext cx="84596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Bc, Studium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C6335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Nanočástice</a:t>
            </a:r>
            <a:r>
              <a:rPr b="1" lang="pt-BR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(PS, Sopoušek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Mgr. Studium (materiálová orientace)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C6750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Materiálová chemie kovů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 (Brož, jaro 2020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C5303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Pokročilé modelování pevných látek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 (podzim 2019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C8888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Nanochemistry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 (JS, Pinkas)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C8870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Syntéza a analýza nových materiálů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 (JS, Pinkas, Brož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Doktorské studium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Times New Roman"/>
              </a:rPr>
              <a:t>C8965 Rovnovážné stavy a fázové transformace materiálů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 (Sopoušek)</a:t>
            </a:r>
            <a:r>
              <a:rPr b="1" lang="pt-BR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66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C9135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Pokročilé fyzikálně-chemické metody studia materiálů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 (jaro 2020)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4d4d4d"/>
                </a:solidFill>
                <a:uFillTx/>
                <a:latin typeface="Arial Black"/>
              </a:rPr>
              <a:t>Oblasti praktického využití výsledkù studia fázových rovnováh</a:t>
            </a:r>
            <a:br>
              <a:rPr sz="2800"/>
            </a:b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96" name="Obdélník 2"/>
          <p:cNvSpPr/>
          <p:nvPr/>
        </p:nvSpPr>
        <p:spPr>
          <a:xfrm>
            <a:off x="179280" y="1052640"/>
            <a:ext cx="8640720" cy="56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 </a:t>
            </a: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Vymezující podmínky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dosažení termodynamické rovnováhy</a:t>
            </a: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vhodný model popisu termodynamických vlastností fáze</a:t>
            </a: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dostupnost termodynamických dat k popisu soustavy</a:t>
            </a: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dostupnost experimentálních fázových dat</a:t>
            </a: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PC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Výpo</a:t>
            </a: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č</a:t>
            </a: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ty fázových rovnováh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Metalurgie (optimalizace tepelného zpracování,  stabilita materiálù p</a:t>
            </a: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ř</a:t>
            </a: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i dlouhodobé tepelné expozici,  sva</a:t>
            </a: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ř</a:t>
            </a: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ování slitin,...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Povrchové úpravy materiálù (nauhlièování, nadusièování,...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Geologie a Mineralogie (pøedpovídání proces</a:t>
            </a: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ů</a:t>
            </a: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, ...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Organická chemie (optimalizace chemických výrob, extrakce, separace plastù, ...)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Chemie oxidù (supravodièe, chemie silikátù,...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Predikce fázových vlastností  materiálu (pevnost , tvrdost, odolnost proti k</a:t>
            </a: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ř</a:t>
            </a: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ehkému lomu,...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Plánování experimentù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  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Výpo</a:t>
            </a: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č</a:t>
            </a: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ty chemických rovnováh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Nízkoteplotní plasma, posuzování možných produktù chemických reakcí, ...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Osnova 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Info z informačního systému MU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Práce s interaktivní osnovou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Sylabus přednášky viz I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Studijní materiály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Časový plán přednášek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Diskus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Studijní materiál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66"/>
                </a:solidFill>
                <a:latin typeface="Arial"/>
              </a:rPr>
              <a:t>Učebnice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66"/>
                </a:solidFill>
                <a:latin typeface="Arial"/>
              </a:rPr>
              <a:t>Atkins' physical chemistry</a:t>
            </a:r>
            <a:r>
              <a:rPr b="0" lang="cs-CZ" sz="2800" spc="-1" strike="noStrike">
                <a:solidFill>
                  <a:srgbClr val="000066"/>
                </a:solidFill>
                <a:latin typeface="Arial"/>
              </a:rPr>
              <a:t> / Peter Atkins, Julio de Paula.. -- 8th ed.. -- Oxford : Oxford University Press, 2006.. -- xxx, 1064 s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http://ebooks.bfwpub.com/pchemoup.php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66"/>
                </a:solidFill>
                <a:latin typeface="Arial"/>
              </a:rPr>
              <a:t>(user: knihovna, heslo: uzivatel1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66"/>
                </a:solidFill>
                <a:latin typeface="Arial"/>
              </a:rPr>
              <a:t>Komentář k fázovým rovnováhám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66"/>
                </a:solidFill>
                <a:latin typeface="Arial"/>
              </a:rPr>
              <a:t>Literatura (knihy, časopisy, konference, programy, komentář k HP, internet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Zahraniční literatura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5" name="TextovéPole 2"/>
          <p:cNvSpPr/>
          <p:nvPr/>
        </p:nvSpPr>
        <p:spPr>
          <a:xfrm>
            <a:off x="431640" y="981000"/>
            <a:ext cx="8280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66"/>
              </a:buClr>
              <a:buSzPct val="8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PORTER, David A. Phase Transfformations in Metal and Alloys. New York: Van Nostrand Reinhol, 1981. 445 s. ISBN 0-442-30439-0. </a:t>
            </a:r>
            <a:r>
              <a:rPr b="0" lang="cs-CZ" sz="2000" spc="-1" strike="noStrike" u="sng">
                <a:solidFill>
                  <a:srgbClr val="003366"/>
                </a:solidFill>
                <a:uFillTx/>
                <a:latin typeface="Times New Roman"/>
                <a:hlinkClick r:id="rId1"/>
              </a:rPr>
              <a:t>info</a:t>
            </a: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SzPct val="8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SAUNDERS, Nigel a Peter A. MIODOWNIK. </a:t>
            </a:r>
            <a:r>
              <a:rPr b="0" i="1" lang="cs-CZ" sz="2000" spc="-1" strike="noStrike">
                <a:solidFill>
                  <a:srgbClr val="000066"/>
                </a:solidFill>
                <a:latin typeface="Times New Roman"/>
              </a:rPr>
              <a:t>Calphad :calculation of phase diagrams : a comprehensive guide</a:t>
            </a: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. Oxford: Pergamon, 1998. xvi, 479 s. ISBN 0-08-042129-6. </a:t>
            </a:r>
            <a:r>
              <a:rPr b="0" lang="cs-CZ" sz="2000" spc="-1" strike="noStrike" u="sng">
                <a:solidFill>
                  <a:srgbClr val="003366"/>
                </a:solidFill>
                <a:uFillTx/>
                <a:latin typeface="Times New Roman"/>
                <a:hlinkClick r:id="rId2"/>
              </a:rPr>
              <a:t>info</a:t>
            </a: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SzPct val="8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Atlasy fázových diagramů (knihy a www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SzPct val="8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Mats Hillert: Phase Equilibria, Phase Diagrams and Phase Transformations (Their Thermodynamic Basis), 2nd Edition, ISBN: 9780521853514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SzPct val="8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6" name="Picture 2" descr="http://assets.cambridge.org/97805215/65844/cover/9780521565844.jpg"/>
          <p:cNvPicPr/>
          <p:nvPr/>
        </p:nvPicPr>
        <p:blipFill>
          <a:blip r:embed="rId3"/>
          <a:stretch/>
        </p:blipFill>
        <p:spPr>
          <a:xfrm>
            <a:off x="4427640" y="3936960"/>
            <a:ext cx="1714320" cy="22287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Výsledek obrázku pro Hillert Phase equilibria transformations Diagrams"/>
          <p:cNvPicPr/>
          <p:nvPr/>
        </p:nvPicPr>
        <p:blipFill>
          <a:blip r:embed="rId4"/>
          <a:stretch/>
        </p:blipFill>
        <p:spPr>
          <a:xfrm>
            <a:off x="2484360" y="3936960"/>
            <a:ext cx="1676520" cy="24382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http://ecx.images-amazon.com/images/I/51MKesOklQL._SX326_BO1,204,203,200_.jpg"/>
          <p:cNvPicPr/>
          <p:nvPr/>
        </p:nvPicPr>
        <p:blipFill>
          <a:blip r:embed="rId5"/>
          <a:stretch/>
        </p:blipFill>
        <p:spPr>
          <a:xfrm>
            <a:off x="431640" y="3830760"/>
            <a:ext cx="1703520" cy="25876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Binary Alloy Phase Diagrams [Hardcover]"/>
          <p:cNvPicPr/>
          <p:nvPr/>
        </p:nvPicPr>
        <p:blipFill>
          <a:blip r:embed="rId6"/>
          <a:stretch/>
        </p:blipFill>
        <p:spPr>
          <a:xfrm>
            <a:off x="6289560" y="3754440"/>
            <a:ext cx="2708280" cy="27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Obdélník 1"/>
          <p:cNvSpPr/>
          <p:nvPr/>
        </p:nvSpPr>
        <p:spPr>
          <a:xfrm>
            <a:off x="404640" y="1484280"/>
            <a:ext cx="7912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66"/>
                </a:solidFill>
                <a:latin typeface="Arial"/>
              </a:rPr>
              <a:t>Prerekvizita pro zkoušku: 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- presentace cca 10min (použití FD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66"/>
                </a:solidFill>
                <a:latin typeface="Arial"/>
              </a:rPr>
              <a:t>Vlastní zkouška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66"/>
                </a:solidFill>
                <a:latin typeface="Arial"/>
              </a:rPr>
              <a:t>čtení fázových diagramů (z odborných článků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66"/>
                </a:solidFill>
                <a:latin typeface="Arial"/>
              </a:rPr>
              <a:t>odpovědi na vylosované otázky (temata viz sylabus)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Obdélník 3"/>
          <p:cNvSpPr/>
          <p:nvPr/>
        </p:nvSpPr>
        <p:spPr>
          <a:xfrm>
            <a:off x="1617840" y="591840"/>
            <a:ext cx="502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Závěrečné hodnocení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3454560" cy="157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Čtení fázových diagramů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3" name="Picture 2" descr="Eutectic is my friend. Article I need for campfire pottery, and everything else ceramic. ternary-diagram-large"/>
          <p:cNvPicPr/>
          <p:nvPr/>
        </p:nvPicPr>
        <p:blipFill>
          <a:blip r:embed="rId1"/>
          <a:stretch/>
        </p:blipFill>
        <p:spPr>
          <a:xfrm>
            <a:off x="4211640" y="189000"/>
            <a:ext cx="3871800" cy="65548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Iron/Carbon/Steel phase diagram"/>
          <p:cNvPicPr/>
          <p:nvPr/>
        </p:nvPicPr>
        <p:blipFill>
          <a:blip r:embed="rId2"/>
          <a:stretch/>
        </p:blipFill>
        <p:spPr>
          <a:xfrm>
            <a:off x="250920" y="2637000"/>
            <a:ext cx="388944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17400" y="250920"/>
            <a:ext cx="777240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4d4d4d"/>
                </a:solidFill>
                <a:latin typeface="Arial Black"/>
              </a:rPr>
              <a:t>Fe-C phase diagram</a:t>
            </a:r>
            <a:endParaRPr b="0" lang="en-US" sz="36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6" name="Picture 2" descr="Výsledek obrázku pro phase diagram Fe C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95560"/>
            <a:ext cx="9144000" cy="57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09680"/>
            <a:ext cx="7772400" cy="76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FD nanočástic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8" name="Picture 4" descr="https://www.mpq.univ-paris-diderot.fr/IMG/jpg/Figure_generale.jpg?1051/c5300bbfec17960fa6628d855136ce2fda1d4607"/>
          <p:cNvPicPr/>
          <p:nvPr/>
        </p:nvPicPr>
        <p:blipFill>
          <a:blip r:embed="rId1"/>
          <a:stretch/>
        </p:blipFill>
        <p:spPr>
          <a:xfrm>
            <a:off x="250920" y="1558800"/>
            <a:ext cx="4686120" cy="4965840"/>
          </a:xfrm>
          <a:prstGeom prst="rect">
            <a:avLst/>
          </a:prstGeom>
          <a:ln w="0">
            <a:noFill/>
          </a:ln>
        </p:spPr>
      </p:pic>
      <p:sp>
        <p:nvSpPr>
          <p:cNvPr id="169" name="Obdélník 2"/>
          <p:cNvSpPr/>
          <p:nvPr/>
        </p:nvSpPr>
        <p:spPr>
          <a:xfrm>
            <a:off x="5292720" y="5351400"/>
            <a:ext cx="3419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https://www.mpq.univ-paris-diderot.fr/Size-and-Shape-of-magnetic-nanoparticles-influence-their-phase-diagram?lang=e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Obdélník 3"/>
          <p:cNvSpPr/>
          <p:nvPr/>
        </p:nvSpPr>
        <p:spPr>
          <a:xfrm>
            <a:off x="5292720" y="1552680"/>
            <a:ext cx="341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ize and Shape of magnetic nanoparticles influence their phase diagram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 (Co-Pt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11280" y="111240"/>
            <a:ext cx="7772400" cy="13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Získání dovednosti používat  fázové diagramy </a:t>
            </a:r>
            <a:br>
              <a:rPr sz="3200"/>
            </a:br>
            <a:r>
              <a:rPr b="0" lang="cs-CZ" sz="1800" spc="-1" strike="noStrike">
                <a:solidFill>
                  <a:srgbClr val="4d4d4d"/>
                </a:solidFill>
                <a:latin typeface="Arial Black"/>
              </a:rPr>
              <a:t>(Např. : odhad vlastností materiálu z fázového diagramu)</a:t>
            </a:r>
            <a:endParaRPr b="0" lang="en-US" sz="1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2" name="Picture 2" descr="Výsledek obrázku pro phase diagram Fe Cr Ni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11280" y="1989000"/>
            <a:ext cx="4400640" cy="4030920"/>
          </a:xfrm>
          <a:prstGeom prst="rect">
            <a:avLst/>
          </a:prstGeom>
          <a:ln w="0">
            <a:noFill/>
          </a:ln>
        </p:spPr>
      </p:pic>
      <p:sp>
        <p:nvSpPr>
          <p:cNvPr id="173" name="Obdélník 1"/>
          <p:cNvSpPr/>
          <p:nvPr/>
        </p:nvSpPr>
        <p:spPr>
          <a:xfrm>
            <a:off x="1548720" y="6237360"/>
            <a:ext cx="642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Fázový diagram Fe-Cr-Ni  (design nerezové oceli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ucitel</cp:lastModifiedBy>
  <dcterms:modified xsi:type="dcterms:W3CDTF">2019-09-17T12:56:29Z</dcterms:modified>
  <cp:revision>48</cp:revision>
  <dc:subject/>
  <dc:title>C6730 Fázové rovnováhy</dc:title>
</cp:coreProperties>
</file>