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52.png" ContentType="image/png"/>
  <Override PartName="/ppt/media/image51.jpeg" ContentType="image/jpeg"/>
  <Override PartName="/ppt/media/image50.png" ContentType="image/png"/>
  <Override PartName="/ppt/media/image46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png" ContentType="image/png"/>
  <Override PartName="/ppt/media/image43.wmf" ContentType="image/x-wmf"/>
  <Override PartName="/ppt/media/image28.png" ContentType="image/png"/>
  <Override PartName="/ppt/media/image70.png" ContentType="image/png"/>
  <Override PartName="/ppt/media/image31.wmf" ContentType="image/x-wmf"/>
  <Override PartName="/ppt/media/image7.jpeg" ContentType="image/jpeg"/>
  <Override PartName="/ppt/media/image16.png" ContentType="image/png"/>
  <Override PartName="/ppt/media/image53.png" ContentType="image/png"/>
  <Override PartName="/ppt/media/image14.wmf" ContentType="image/x-wmf"/>
  <Override PartName="/ppt/media/image32.wmf" ContentType="image/x-wmf"/>
  <Override PartName="/ppt/media/image18.wmf" ContentType="image/x-wmf"/>
  <Override PartName="/ppt/media/image60.wmf" ContentType="image/x-wmf"/>
  <Override PartName="/ppt/media/image56.png" ContentType="image/png"/>
  <Override PartName="/ppt/media/image17.wmf" ContentType="image/x-wmf"/>
  <Override PartName="/ppt/media/image21.png" ContentType="image/png"/>
  <Override PartName="/ppt/media/image23.png" ContentType="image/png"/>
  <Override PartName="/ppt/media/image69.png" ContentType="image/png"/>
  <Override PartName="/ppt/media/image19.jpeg" ContentType="image/jpeg"/>
  <Override PartName="/ppt/media/image65.wmf" ContentType="image/x-wmf"/>
  <Override PartName="/ppt/media/image25.png" ContentType="image/png"/>
  <Override PartName="/ppt/media/image29.png" ContentType="image/png"/>
  <Override PartName="/ppt/media/image63.jpeg" ContentType="image/jpeg"/>
  <Override PartName="/ppt/media/image66.wmf" ContentType="image/x-wmf"/>
  <Override PartName="/ppt/media/image58.png" ContentType="image/png"/>
  <Override PartName="/ppt/media/image15.wmf" ContentType="image/x-wmf"/>
  <Override PartName="/ppt/media/image64.png" ContentType="image/png"/>
  <Override PartName="/ppt/media/image62.wmf" ContentType="image/x-wmf"/>
  <Override PartName="/ppt/media/image22.png" ContentType="image/png"/>
  <Override PartName="/ppt/media/image27.wmf" ContentType="image/x-wmf"/>
  <Override PartName="/ppt/media/image61.png" ContentType="image/png"/>
  <Override PartName="/ppt/media/image59.wmf" ContentType="image/x-wmf"/>
  <Override PartName="/ppt/media/image67.png" ContentType="image/png"/>
  <Override PartName="/ppt/media/image24.wmf" ContentType="image/x-wmf"/>
  <Override PartName="/ppt/media/image11.png" ContentType="image/png"/>
  <Override PartName="/ppt/media/image3.png" ContentType="image/png"/>
  <Override PartName="/ppt/media/image4.jpeg" ContentType="image/jpeg"/>
  <Override PartName="/ppt/media/image38.wmf" ContentType="image/x-wmf"/>
  <Override PartName="/ppt/media/image10.png" ContentType="image/png"/>
  <Override PartName="/ppt/media/image47.png" ContentType="image/png"/>
  <Override PartName="/ppt/media/image2.gif" ContentType="image/gif"/>
  <Override PartName="/ppt/media/image5.png" ContentType="image/png"/>
  <Override PartName="/ppt/media/image26.png" ContentType="image/png"/>
  <Override PartName="/ppt/media/image8.jpeg" ContentType="image/jpeg"/>
  <Override PartName="/ppt/media/image9.wmf" ContentType="image/x-wmf"/>
  <Override PartName="/ppt/media/image41.png" ContentType="image/png"/>
  <Override PartName="/ppt/media/image12.png" ContentType="image/png"/>
  <Override PartName="/ppt/media/image49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wmf" ContentType="image/x-wmf"/>
  <Override PartName="/ppt/media/image33.jpeg" ContentType="image/jpeg"/>
  <Override PartName="/ppt/media/image34.png" ContentType="image/png"/>
  <Override PartName="/ppt/media/image35.wmf" ContentType="image/x-wmf"/>
  <Override PartName="/ppt/media/image68.jpeg" ContentType="image/jpeg"/>
  <Override PartName="/ppt/media/image36.wmf" ContentType="image/x-wmf"/>
  <Override PartName="/ppt/media/image37.png" ContentType="image/png"/>
  <Override PartName="/ppt/media/image40.wmf" ContentType="image/x-wmf"/>
  <Override PartName="/ppt/media/image6.png" ContentType="image/png"/>
  <Override PartName="/ppt/media/image39.png" ContentType="image/pn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627A-5DB0-43D1-83C2-3951BFE6359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B311-234D-4BE3-957B-420992C89D48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2CF4-FB9B-40A6-8C39-7BC65F666CC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560-E8B4-4AE1-820C-5BC67C10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09D-0322-4580-97A8-75256DDC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67D-B00A-47FE-95FF-2CFF31BA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410-15FB-4FE6-B12F-DE734E04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2B94-6AD9-44C1-BB92-2FCA2E80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4780-8AE8-4F52-AC8F-DF0E0514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D4C2-37EC-443A-B0B3-47E00428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9963-2EA9-40D1-9EC5-A7ED3D8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50E8-2DB5-404C-9F75-42FC424F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553D-DF5A-4B65-BF1E-2609C5A8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0FC9-CDF3-4A6C-9C19-73C3A26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05E-DD58-426B-8DAE-AB8BFD4E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54C9-CA1C-4541-8A87-9F4C155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E881-E176-4D1B-9330-234444A9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3884-9F96-4CF0-AAA6-BC1CCE08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CD7E-0404-4849-9336-76DF8D15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8E33-FC54-431E-8E32-C2A809FB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1A6-50B1-42E6-B59B-73B707BD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26C-31CA-41B0-8D52-6226340C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F94-EDA6-479C-BD97-A076C972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C74-2C57-42B7-BF90-3987C7C4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085-B731-4AB7-96A8-B72C7FB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235-5543-4D6F-A6C0-6D6C99BD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276-AEE6-4867-8823-7BC44976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šice září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8CFE-0CA6-48D6-A683-E6640C85AC1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B6DE-96E8-45EB-9A97-81A5386D647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IC_A0008.wa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wmf"/><Relationship Id="rId4" Type="http://schemas.openxmlformats.org/officeDocument/2006/relationships/image" Target="../media/image58.png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6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Rectangle 106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5AC4-5E78-4824-9B96-97EB6E24C69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156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d4d4d"/>
                </a:solidFill>
                <a:latin typeface="Times New Roman"/>
              </a:rPr>
              <a:t>Difúze ve vícesložkových soustavách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43000" y="2361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000066"/>
              </a:solidFill>
              <a:latin typeface="Arial"/>
              <a:ea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711440" y="141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711440" y="141444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1798560" y="25750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609480" y="3581280"/>
            <a:ext cx="46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řednášející: doc. Jiří Sopoušek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6934320" y="6094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Audio test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AutoShape 17">
            <a:hlinkClick r:id="rId1"/>
          </p:cNvPr>
          <p:cNvSpPr/>
          <p:nvPr/>
        </p:nvSpPr>
        <p:spPr>
          <a:xfrm>
            <a:off x="8077320" y="533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8406"/>
                </a:moveTo>
                <a:lnTo>
                  <a:pt x="10017" y="8406"/>
                </a:lnTo>
                <a:lnTo>
                  <a:pt x="14438" y="3794"/>
                </a:lnTo>
                <a:lnTo>
                  <a:pt x="14438" y="17806"/>
                </a:lnTo>
                <a:lnTo>
                  <a:pt x="10017" y="13194"/>
                </a:lnTo>
                <a:lnTo>
                  <a:pt x="5586" y="13194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19599" y="10800"/>
                </a:lnTo>
              </a:path>
              <a:path fill="darken" w="25186" h="21600">
                <a:moveTo>
                  <a:pt x="16092" y="8406"/>
                </a:moveTo>
                <a:lnTo>
                  <a:pt x="19599" y="5639"/>
                </a:lnTo>
              </a:path>
              <a:path fill="darken" w="25186" h="21600">
                <a:moveTo>
                  <a:pt x="16092" y="13194"/>
                </a:moveTo>
                <a:lnTo>
                  <a:pt x="19599" y="15961"/>
                </a:lnTo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8" name="Picture 20" descr="C:\Documents and Settings\Sopoušek\Dokumenty\Obrázky\DICTRA\dictra mob.gif"/>
          <p:cNvPicPr/>
          <p:nvPr/>
        </p:nvPicPr>
        <p:blipFill>
          <a:blip r:embed="rId2"/>
          <a:stretch/>
        </p:blipFill>
        <p:spPr>
          <a:xfrm>
            <a:off x="5943600" y="3505320"/>
            <a:ext cx="26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D315-C354-40B2-A8BA-58652F2B446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v binárních více fázových soustavá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3646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178080" cy="46767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5562720" y="1676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Times New Roman"/>
              </a:rPr>
              <a:t>Změna koncentra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486400" y="5410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Times New Roman"/>
              </a:rPr>
              <a:t>Změna aktiv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39640" y="5950080"/>
            <a:ext cx="41356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latí tzv. lokální rovnováha na fázových hranicích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ovéPole 1"/>
          <p:cNvSpPr/>
          <p:nvPr/>
        </p:nvSpPr>
        <p:spPr>
          <a:xfrm>
            <a:off x="615240" y="524340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1,2…aktivní (operating) tie-lin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ovéPole 2"/>
          <p:cNvSpPr/>
          <p:nvPr/>
        </p:nvSpPr>
        <p:spPr>
          <a:xfrm>
            <a:off x="1562760" y="3203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ovéPole 3"/>
          <p:cNvSpPr/>
          <p:nvPr/>
        </p:nvSpPr>
        <p:spPr>
          <a:xfrm>
            <a:off x="2859840" y="321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ovéPole 4"/>
          <p:cNvSpPr/>
          <p:nvPr/>
        </p:nvSpPr>
        <p:spPr>
          <a:xfrm>
            <a:off x="6229080" y="6118200"/>
            <a:ext cx="930600" cy="36828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ktivit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6BD7-44CE-42F0-A12E-A0F1663E461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Cesty vysoké difúzivi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811840" cy="4300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80880" y="57913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Objemová difúze a difúze po hranicích zrn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194520" y="13716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ran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6477120" y="1828800"/>
            <a:ext cx="2011320" cy="7732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8"/>
          <p:cNvSpPr/>
          <p:nvPr/>
        </p:nvSpPr>
        <p:spPr>
          <a:xfrm>
            <a:off x="6172200" y="2819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Volný povrch (v kavitách a trhlinách):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1954080" cy="561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"/>
          <p:cNvPicPr/>
          <p:nvPr/>
        </p:nvPicPr>
        <p:blipFill>
          <a:blip r:embed="rId4"/>
          <a:stretch/>
        </p:blipFill>
        <p:spPr>
          <a:xfrm>
            <a:off x="6705720" y="5410080"/>
            <a:ext cx="1617480" cy="4636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1"/>
          <p:cNvSpPr/>
          <p:nvPr/>
        </p:nvSpPr>
        <p:spPr>
          <a:xfrm>
            <a:off x="6554160" y="4724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rovná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981080" y="914400"/>
            <a:ext cx="5257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bjem – Volný povrch - hran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752B-6E63-4C74-AE66-97C392537D7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ulk difúze a difúze po hrani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4" name="Picture 3" descr="C:\Documents and Settings\Sopoušek\Dokumenty\Obrázky\Difúze\Difúze objemová a po hranicích.jpg"/>
          <p:cNvPicPr/>
          <p:nvPr/>
        </p:nvPicPr>
        <p:blipFill>
          <a:blip r:embed="rId1"/>
          <a:stretch/>
        </p:blipFill>
        <p:spPr>
          <a:xfrm>
            <a:off x="1371600" y="2514600"/>
            <a:ext cx="6435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D4A1-F3F4-4862-BCFA-0EC0E38FC17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uperpozice objemové a hraniční difúz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473640" cy="42894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447840" y="58770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odel stacionární difúze objemové a hranicemi (hranice kolmé na membránu)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3022560" cy="703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4724280" y="1447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Jednoduché (bez chem. pot .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3922560" cy="6746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8"/>
          <p:cNvSpPr/>
          <p:nvPr/>
        </p:nvSpPr>
        <p:spPr>
          <a:xfrm>
            <a:off x="5057640" y="2711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elkově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4" name="Picture 9" descr=""/>
          <p:cNvPicPr/>
          <p:nvPr/>
        </p:nvPicPr>
        <p:blipFill>
          <a:blip r:embed="rId4"/>
          <a:stretch/>
        </p:blipFill>
        <p:spPr>
          <a:xfrm>
            <a:off x="4343400" y="4800600"/>
            <a:ext cx="2685960" cy="1096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0"/>
          <p:cNvSpPr/>
          <p:nvPr/>
        </p:nvSpPr>
        <p:spPr>
          <a:xfrm>
            <a:off x="4375080" y="42670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Zdánlivý difúzní koeficient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6" name="Přímá spojnice se šipkou 3"/>
          <p:cNvCxnSpPr/>
          <p:nvPr/>
        </p:nvCxnSpPr>
        <p:spPr>
          <a:xfrm flipH="1" flipV="1">
            <a:off x="3995280" y="2255040"/>
            <a:ext cx="1008720" cy="12502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77" name="Přímá spojnice se šipkou 5"/>
          <p:cNvCxnSpPr/>
          <p:nvPr/>
        </p:nvCxnSpPr>
        <p:spPr>
          <a:xfrm flipH="1" flipV="1">
            <a:off x="3923640" y="2895120"/>
            <a:ext cx="1656360" cy="610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3E5A-D396-4FC0-82B3-B218E75ED95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v polykrystalických materiále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286320" cy="4908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609480" y="6019920"/>
            <a:ext cx="6400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ůzný nízkoteplotní a vysokoteplotní mechanismus difúze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C5DD-7E1D-4BAB-8D75-CDB88B84E8D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podél disloka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60960" cy="2208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4419720" y="3809880"/>
            <a:ext cx="2066760" cy="8715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1066680" y="4038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Zdánlivá difúze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74680" y="173160"/>
            <a:ext cx="84405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ifúze v ternárních soustavách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A972-2B25-44D0-A196-5224DFD9D5EA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3924360" y="1454040"/>
            <a:ext cx="5037120" cy="5268960"/>
          </a:xfrm>
          <a:prstGeom prst="rect">
            <a:avLst/>
          </a:prstGeom>
          <a:ln w="0">
            <a:noFill/>
          </a:ln>
        </p:spPr>
      </p:pic>
      <p:sp>
        <p:nvSpPr>
          <p:cNvPr id="295" name="TextovéPole 7"/>
          <p:cNvSpPr/>
          <p:nvPr/>
        </p:nvSpPr>
        <p:spPr>
          <a:xfrm>
            <a:off x="617400" y="1131840"/>
            <a:ext cx="2314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fúzní pá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u-5%Si/Cu-11%Al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539640" y="2205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fúzní cesta ve FD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46080" y="2708280"/>
            <a:ext cx="3878280" cy="3105000"/>
          </a:xfrm>
          <a:prstGeom prst="rect">
            <a:avLst/>
          </a:prstGeom>
          <a:ln w="0">
            <a:noFill/>
          </a:ln>
        </p:spPr>
      </p:pic>
      <p:sp>
        <p:nvSpPr>
          <p:cNvPr id="298" name="Obdélník 8"/>
          <p:cNvSpPr/>
          <p:nvPr/>
        </p:nvSpPr>
        <p:spPr>
          <a:xfrm>
            <a:off x="485640" y="5837400"/>
            <a:ext cx="3222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s://ac.els-cdn.com/S0925838813005434/1-s2.0-S0925838813005434-main.pdf?_tid=4feac710-dfe8-11e7-a52d-00000aacb361&amp;acdnat=1513157642_47186c0e0acae27dc5de2b99062e075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DFEB-BBC9-43B4-AC4C-124CDABDA3A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Up-hill difúze FeSiC/FeC ovlivnění chem. C křemíkem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2649600" y="1844640"/>
            <a:ext cx="3857400" cy="4940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Uphill Diffusion of Carbon in Fe-Si-C Alloy"/>
          <p:cNvPicPr/>
          <p:nvPr/>
        </p:nvPicPr>
        <p:blipFill>
          <a:blip r:embed="rId2"/>
          <a:stretch/>
        </p:blipFill>
        <p:spPr>
          <a:xfrm>
            <a:off x="2124000" y="1177920"/>
            <a:ext cx="5688000" cy="3913200"/>
          </a:xfrm>
          <a:prstGeom prst="rect">
            <a:avLst/>
          </a:prstGeom>
          <a:ln w="0">
            <a:noFill/>
          </a:ln>
        </p:spPr>
      </p:pic>
      <p:sp>
        <p:nvSpPr>
          <p:cNvPr id="304" name="TextovéPole 1"/>
          <p:cNvSpPr/>
          <p:nvPr/>
        </p:nvSpPr>
        <p:spPr>
          <a:xfrm>
            <a:off x="216000" y="1341360"/>
            <a:ext cx="2433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Intersticiální difúze v matrici FeSi/F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2196-8F6B-4BD8-B3C7-945BD915E055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ffusion path - DICT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07" name="Picture 3" descr="C:\Documents and Settings\Sopoušek\Dokumenty\Obrázky\DICTRA\DICTRA diffusion path.jpg"/>
          <p:cNvPicPr/>
          <p:nvPr/>
        </p:nvPicPr>
        <p:blipFill>
          <a:blip r:embed="rId1"/>
          <a:stretch/>
        </p:blipFill>
        <p:spPr>
          <a:xfrm>
            <a:off x="685800" y="1676520"/>
            <a:ext cx="5181480" cy="45050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6172200" y="2133720"/>
            <a:ext cx="2792520" cy="1608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1 fázová slitina !!!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 případě koexistence více fází zahrnuje difúzní cesta rozhraní (dle operating tie-line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9" name="Picture 1" descr=""/>
          <p:cNvPicPr/>
          <p:nvPr/>
        </p:nvPicPr>
        <p:blipFill>
          <a:blip r:embed="rId2"/>
          <a:stretch/>
        </p:blipFill>
        <p:spPr>
          <a:xfrm>
            <a:off x="6732720" y="3929040"/>
            <a:ext cx="1333440" cy="1209600"/>
          </a:xfrm>
          <a:prstGeom prst="rect">
            <a:avLst/>
          </a:prstGeom>
          <a:ln w="0">
            <a:noFill/>
          </a:ln>
        </p:spPr>
      </p:pic>
      <p:sp>
        <p:nvSpPr>
          <p:cNvPr id="310" name="TextovéPole 1"/>
          <p:cNvSpPr/>
          <p:nvPr/>
        </p:nvSpPr>
        <p:spPr>
          <a:xfrm>
            <a:off x="2124000" y="321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ovéPole 8"/>
          <p:cNvSpPr/>
          <p:nvPr/>
        </p:nvSpPr>
        <p:spPr>
          <a:xfrm>
            <a:off x="5457960" y="54579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3"/>
          <a:stretch/>
        </p:blipFill>
        <p:spPr>
          <a:xfrm>
            <a:off x="6738840" y="5300640"/>
            <a:ext cx="1343160" cy="1247760"/>
          </a:xfrm>
          <a:prstGeom prst="rect">
            <a:avLst/>
          </a:prstGeom>
          <a:ln w="0">
            <a:noFill/>
          </a:ln>
        </p:spPr>
      </p:pic>
      <p:sp>
        <p:nvSpPr>
          <p:cNvPr id="313" name="TextovéPole 2"/>
          <p:cNvSpPr/>
          <p:nvPr/>
        </p:nvSpPr>
        <p:spPr>
          <a:xfrm>
            <a:off x="3614760" y="45338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3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ovéPole 3"/>
          <p:cNvSpPr/>
          <p:nvPr/>
        </p:nvSpPr>
        <p:spPr>
          <a:xfrm>
            <a:off x="2822760" y="4718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2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15" name="Přímá spojnice se šipkou 7"/>
          <p:cNvCxnSpPr/>
          <p:nvPr/>
        </p:nvCxnSpPr>
        <p:spPr>
          <a:xfrm flipH="1" flipV="1">
            <a:off x="3611160" y="4717440"/>
            <a:ext cx="3788640" cy="1207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6" name="Přímá spojnice se šipkou 10"/>
          <p:cNvCxnSpPr/>
          <p:nvPr/>
        </p:nvCxnSpPr>
        <p:spPr>
          <a:xfrm flipH="1">
            <a:off x="3196440" y="4365360"/>
            <a:ext cx="4203000" cy="1688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1520" y="3430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fusion path - operating tie-lin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18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913D-293A-4F96-9E15-240E7E0837A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438840" y="6400800"/>
            <a:ext cx="317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sciencedirect.com/science/article/pii/S0364591609000571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498600" y="200160"/>
            <a:ext cx="1429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498600" y="343080"/>
            <a:ext cx="14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2" name="Picture 11" descr="Full-size image (18 K)"/>
          <p:cNvPicPr/>
          <p:nvPr/>
        </p:nvPicPr>
        <p:blipFill>
          <a:blip r:embed="rId1"/>
          <a:stretch/>
        </p:blipFill>
        <p:spPr>
          <a:xfrm>
            <a:off x="1187280" y="1125360"/>
            <a:ext cx="61009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6270-7827-4AA5-AAF3-85F54984E13A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k defektům 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1219320"/>
            <a:ext cx="8077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 tuhé fázi existují místa, kde lze nalézt přimísené atomy ve vyšší koncentraci (defekty)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grace atomů pokračuje tak dlouho dokud existuje gradient chemického potenciálu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80880" y="2133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ůsledky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04920" y="259092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egregace větších atomů na hranicích, C a N na dislokacích, P As apod na hranicích zrn v ocelích (tzv. teplotní zkřehnutí), …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5" name="Picture 9" descr="C:\Documents and Settings\Sopoušek\Dokumenty\Obrázky\Difúze\Atom probe segregation carbon.jpg"/>
          <p:cNvPicPr/>
          <p:nvPr/>
        </p:nvPicPr>
        <p:blipFill>
          <a:blip r:embed="rId1"/>
          <a:stretch/>
        </p:blipFill>
        <p:spPr>
          <a:xfrm>
            <a:off x="533520" y="3352680"/>
            <a:ext cx="2712960" cy="2819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C:\Documents and Settings\Sopoušek\Dokumenty\Obrázky\Difúze\segregation boron.bmp"/>
          <p:cNvPicPr/>
          <p:nvPr/>
        </p:nvPicPr>
        <p:blipFill>
          <a:blip r:embed="rId2"/>
          <a:stretch/>
        </p:blipFill>
        <p:spPr>
          <a:xfrm>
            <a:off x="4038480" y="3200400"/>
            <a:ext cx="4343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304E-DF00-474B-8BE0-0D3B3282AD5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fúzní cesta ternární soustavo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26" name="Picture 3" descr="C:\Documents and Settings\Sopoušek\Dokumenty\Obrázky\DICTRA\Diffusion path Kodetsov.gif"/>
          <p:cNvPicPr/>
          <p:nvPr/>
        </p:nvPicPr>
        <p:blipFill>
          <a:blip r:embed="rId1"/>
          <a:stretch/>
        </p:blipFill>
        <p:spPr>
          <a:xfrm>
            <a:off x="609480" y="1905120"/>
            <a:ext cx="5867640" cy="42861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6705720" y="388620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Lze použít pro stanovení fázových diagramů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D079-C94C-40CD-9225-ED7A0E3A291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Experimentální vývoj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413080" y="1314360"/>
            <a:ext cx="1429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2413080" y="1457280"/>
            <a:ext cx="14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3" name="Picture 6" descr="Full-size image (9 K)"/>
          <p:cNvPicPr/>
          <p:nvPr/>
        </p:nvPicPr>
        <p:blipFill>
          <a:blip r:embed="rId1"/>
          <a:stretch/>
        </p:blipFill>
        <p:spPr>
          <a:xfrm>
            <a:off x="685800" y="2057400"/>
            <a:ext cx="4240080" cy="39434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2384280" y="-1114560"/>
            <a:ext cx="1429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2384280" y="-971640"/>
            <a:ext cx="14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6" name="Picture 10" descr="Full-size image (90 K)"/>
          <p:cNvPicPr/>
          <p:nvPr/>
        </p:nvPicPr>
        <p:blipFill>
          <a:blip r:embed="rId2"/>
          <a:stretch/>
        </p:blipFill>
        <p:spPr>
          <a:xfrm>
            <a:off x="5867280" y="228600"/>
            <a:ext cx="2554560" cy="52293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1"/>
          <p:cNvSpPr/>
          <p:nvPr/>
        </p:nvSpPr>
        <p:spPr>
          <a:xfrm>
            <a:off x="5791320" y="5715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/Ni/Cr (1150stC/16 a 49hod)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3C74-28AC-498C-A694-1537C5EF0E3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CTRA – diffusion path AlCrNi 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41" name="Picture 3" descr="http://www.ecr6.ohio-state.edu/mse/faculty/morral/Phase_1.gif"/>
          <p:cNvPicPr/>
          <p:nvPr/>
        </p:nvPicPr>
        <p:blipFill>
          <a:blip r:embed="rId1"/>
          <a:stretch/>
        </p:blipFill>
        <p:spPr>
          <a:xfrm>
            <a:off x="3124080" y="3352680"/>
            <a:ext cx="2286000" cy="2084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4"/>
          <p:cNvSpPr/>
          <p:nvPr/>
        </p:nvSpPr>
        <p:spPr>
          <a:xfrm>
            <a:off x="3732120" y="2664000"/>
            <a:ext cx="401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3" name="Picture 5" descr="http://www.ecr6.ohio-state.edu/mse/faculty/morral/Phase_2.gif"/>
          <p:cNvPicPr/>
          <p:nvPr/>
        </p:nvPicPr>
        <p:blipFill>
          <a:blip r:embed="rId2"/>
          <a:stretch/>
        </p:blipFill>
        <p:spPr>
          <a:xfrm>
            <a:off x="380880" y="3276720"/>
            <a:ext cx="2438640" cy="21826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3703680" y="2652840"/>
            <a:ext cx="401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5" name="Picture 7" descr="http://www.ecr6.ohio-state.edu/mse/faculty/morral/Gray_reasearch.jpg"/>
          <p:cNvPicPr/>
          <p:nvPr/>
        </p:nvPicPr>
        <p:blipFill>
          <a:blip r:embed="rId3"/>
          <a:stretch/>
        </p:blipFill>
        <p:spPr>
          <a:xfrm>
            <a:off x="380880" y="914400"/>
            <a:ext cx="5943600" cy="22924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8"/>
          <p:cNvSpPr/>
          <p:nvPr/>
        </p:nvSpPr>
        <p:spPr>
          <a:xfrm>
            <a:off x="2496960" y="2629080"/>
            <a:ext cx="4019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124080" y="5715000"/>
            <a:ext cx="2414880" cy="91440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CTRA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simulation of th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in a Ni-Cr-Al couple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457200" y="5638680"/>
            <a:ext cx="2160720" cy="97488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easured diffusion path for a diffusion couple similar to Fig. 1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553080" y="990720"/>
            <a:ext cx="2313000" cy="2057400"/>
          </a:xfrm>
          <a:prstGeom prst="rect">
            <a:avLst/>
          </a:prstGeom>
          <a:solidFill>
            <a:srgbClr val="8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terdiffusion microstucture of the Ni-Cr-Al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couple described in Fig. 2. The dark areas in the gamma layer are Kirkendall porosity.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6162120" y="5943600"/>
            <a:ext cx="242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ecr6.ohio-state.edu/mse/faculty/morral/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5867280" y="3657600"/>
            <a:ext cx="2286000" cy="916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eúspěšné pro Kirkendalovu porozitu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9C5B-C377-4C84-9667-716045BF16B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rift fázových hranic řízený difúz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019840" cy="356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>
            <a:off x="6553080" y="1981080"/>
            <a:ext cx="1447920" cy="534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3"/>
          <a:stretch/>
        </p:blipFill>
        <p:spPr>
          <a:xfrm>
            <a:off x="1523880" y="5181480"/>
            <a:ext cx="3586320" cy="773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4"/>
          <a:stretch/>
        </p:blipFill>
        <p:spPr>
          <a:xfrm>
            <a:off x="3886200" y="6099120"/>
            <a:ext cx="4486320" cy="7588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8"/>
          <p:cNvSpPr/>
          <p:nvPr/>
        </p:nvSpPr>
        <p:spPr>
          <a:xfrm>
            <a:off x="380880" y="6095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ychlost pohybu hranice je tedy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97440" y="53341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1" lang="cs-CZ" sz="1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-J</a:t>
            </a:r>
            <a:r>
              <a:rPr b="1" lang="cs-CZ" sz="1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)dt=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503640" y="4800600"/>
            <a:ext cx="86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aakumulované množství B na hranici difúzí= Množství nutné k posuvu hranice o dx 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2" name="Picture 12" descr=""/>
          <p:cNvPicPr/>
          <p:nvPr/>
        </p:nvPicPr>
        <p:blipFill>
          <a:blip r:embed="rId5"/>
          <a:stretch/>
        </p:blipFill>
        <p:spPr>
          <a:xfrm>
            <a:off x="1600200" y="4267080"/>
            <a:ext cx="1560600" cy="281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"/>
          <p:cNvPicPr/>
          <p:nvPr/>
        </p:nvPicPr>
        <p:blipFill>
          <a:blip r:embed="rId6"/>
          <a:stretch/>
        </p:blipFill>
        <p:spPr>
          <a:xfrm>
            <a:off x="3352680" y="4267080"/>
            <a:ext cx="1447920" cy="281160"/>
          </a:xfrm>
          <a:prstGeom prst="rect">
            <a:avLst/>
          </a:prstGeom>
          <a:ln w="0">
            <a:noFill/>
          </a:ln>
        </p:spPr>
      </p:pic>
      <p:sp>
        <p:nvSpPr>
          <p:cNvPr id="364" name="Line 14"/>
          <p:cNvSpPr/>
          <p:nvPr/>
        </p:nvSpPr>
        <p:spPr>
          <a:xfrm flipH="1">
            <a:off x="3200400" y="2286000"/>
            <a:ext cx="327672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6019920" y="129528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nožství nutné k posuvu 1m2 hranice o dx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5031000" y="541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7" name="Picture 18" descr=""/>
          <p:cNvPicPr/>
          <p:nvPr/>
        </p:nvPicPr>
        <p:blipFill>
          <a:blip r:embed="rId7"/>
          <a:stretch/>
        </p:blipFill>
        <p:spPr>
          <a:xfrm>
            <a:off x="5334120" y="5257800"/>
            <a:ext cx="144756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7FE8-0E5C-4C35-801C-CE6078E687C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osun mřížky v difúzním páru Ni/P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71" name="Picture 3" descr="http://ars.els-cdn.com/content/image/1-s2.0-S1359645499003754-gr14.gif"/>
          <p:cNvPicPr/>
          <p:nvPr/>
        </p:nvPicPr>
        <p:blipFill>
          <a:blip r:embed="rId1"/>
          <a:stretch/>
        </p:blipFill>
        <p:spPr>
          <a:xfrm>
            <a:off x="380880" y="1143000"/>
            <a:ext cx="5486400" cy="38466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762120" y="5105520"/>
            <a:ext cx="784836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rker velocity curve in the Ni/Pd multi-foil diffusion couple annealed at 1100°C for 121 h calculated using experimental data of the present study. Note: the Matano plane is located at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0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5c5c5c"/>
                </a:solidFill>
                <a:latin typeface="Arial Unicode MS"/>
                <a:ea typeface="Arial Unicode MS"/>
              </a:rPr>
              <a:t>http://www.sciencedirect.com/science/article/pii/S1359645499003754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6705720" y="1676520"/>
            <a:ext cx="1981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Kirkendalova rovina (Kirkendal plane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6705720" y="2971800"/>
            <a:ext cx="198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atanova rovina (Matano plane)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7"/>
          <p:cNvSpPr/>
          <p:nvPr/>
        </p:nvSpPr>
        <p:spPr>
          <a:xfrm flipH="1" flipV="1">
            <a:off x="3580920" y="2057400"/>
            <a:ext cx="312444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Line 8"/>
          <p:cNvSpPr/>
          <p:nvPr/>
        </p:nvSpPr>
        <p:spPr>
          <a:xfrm flipH="1" flipV="1">
            <a:off x="3429000" y="3200400"/>
            <a:ext cx="327672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834E-CA99-4A10-9FB0-F4B048E5613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atanova rovin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1752480" y="5486400"/>
            <a:ext cx="4992840" cy="703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Documents and Settings\Sopoušek\Dokumenty\Obrázky\Difúze\Matano plane.jpg"/>
          <p:cNvPicPr/>
          <p:nvPr/>
        </p:nvPicPr>
        <p:blipFill>
          <a:blip r:embed="rId2"/>
          <a:stretch/>
        </p:blipFill>
        <p:spPr>
          <a:xfrm>
            <a:off x="380880" y="1523880"/>
            <a:ext cx="3733920" cy="3659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ars.els-cdn.com/content/image/1-s2.0-S1359645403002106-gr8.gif"/>
          <p:cNvPicPr/>
          <p:nvPr/>
        </p:nvPicPr>
        <p:blipFill>
          <a:blip r:embed="rId3"/>
          <a:stretch/>
        </p:blipFill>
        <p:spPr>
          <a:xfrm>
            <a:off x="4343400" y="1523880"/>
            <a:ext cx="4114800" cy="37623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6"/>
          <p:cNvSpPr/>
          <p:nvPr/>
        </p:nvSpPr>
        <p:spPr>
          <a:xfrm>
            <a:off x="5257800" y="243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i-Al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9731-B030-42BA-AF9D-9C7939C62AC9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xtrémní přípa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0948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hyb hranice je limitován difúzí (řízen rychlostí difúze). Vlastní reorganizace krystalové mřížky je okamžitá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09480" y="3505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hyb hranice je limitován reorganizací krystalové mřížky (řízen reakční rychlostí vzniku fáze). Difúze je vždy dostačující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002A-7D97-446E-8980-C3345EB0085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í a reorganizací hranice řízený pohyb fázové hran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394160" cy="4648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4191120" cy="249264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5181480" y="4343400"/>
            <a:ext cx="21337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Operating tielin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Line 9"/>
          <p:cNvSpPr/>
          <p:nvPr/>
        </p:nvSpPr>
        <p:spPr>
          <a:xfrm>
            <a:off x="5867280" y="2895480"/>
            <a:ext cx="2514600" cy="15264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3B41-E256-48B2-AA65-CCA310533FC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80028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2286000"/>
            <a:ext cx="8915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CTRA: DIffusion Controlled TRAnsform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ozor: Posuv fázové hranice může být řízen reorganizací krystalové mřížku. Tj. Řízen fázovou reakcí. 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56C0-241A-4F1E-8115-9BF91906F7A5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2400" y="1267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íce Kirkendalových rov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403" name="Picture 3" descr="http://ars.els-cdn.com/content/image/1-s2.0-S1359645499003754-gr5.gif"/>
          <p:cNvPicPr/>
          <p:nvPr/>
        </p:nvPicPr>
        <p:blipFill>
          <a:blip r:embed="rId1"/>
          <a:stretch/>
        </p:blipFill>
        <p:spPr>
          <a:xfrm>
            <a:off x="457200" y="1219320"/>
            <a:ext cx="3092400" cy="50338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0"/>
          <p:cNvSpPr/>
          <p:nvPr/>
        </p:nvSpPr>
        <p:spPr>
          <a:xfrm>
            <a:off x="3581280" y="3962520"/>
            <a:ext cx="495324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 Kirkendall velocity in a hypothetical A–B diffusion system, in which the intrinsic diffusion coefficients of A and B are chosen arbitrarily in such a way that on one side of the diffusion zone A is the faster diffusing component and on the other side B has the highest diffusivity. One (a), two (b) or three (c) “Kirkendall” planes (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can emerge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05" name="Picture 12" descr="http://ars.els-cdn.com/content/image/1-s2.0-S1359645499003754-gr1.jpg"/>
          <p:cNvPicPr/>
          <p:nvPr/>
        </p:nvPicPr>
        <p:blipFill>
          <a:blip r:embed="rId2"/>
          <a:stretch/>
        </p:blipFill>
        <p:spPr>
          <a:xfrm>
            <a:off x="5562720" y="1447920"/>
            <a:ext cx="3109680" cy="23461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3"/>
          <p:cNvSpPr/>
          <p:nvPr/>
        </p:nvSpPr>
        <p:spPr>
          <a:xfrm>
            <a:off x="7315200" y="1523880"/>
            <a:ext cx="1371600" cy="211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Ni/Ti diffusion couple annealed at 850°C for 196 h. ThO</a:t>
            </a:r>
            <a:r>
              <a:rPr b="0" lang="cs-CZ" sz="1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 particles. Two “Kirkendall” planes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14"/>
          <p:cNvSpPr/>
          <p:nvPr/>
        </p:nvSpPr>
        <p:spPr>
          <a:xfrm>
            <a:off x="3733920" y="2209680"/>
            <a:ext cx="9144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=x/2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H="1" flipV="1">
            <a:off x="2514240" y="1676160"/>
            <a:ext cx="121932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2971440" y="2438280"/>
            <a:ext cx="76212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Line 17"/>
          <p:cNvSpPr/>
          <p:nvPr/>
        </p:nvSpPr>
        <p:spPr>
          <a:xfrm flipH="1">
            <a:off x="2895120" y="2590920"/>
            <a:ext cx="838440" cy="2361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428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3D atom tomograp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8" name="Zástupný symbol pro zápatí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4FC6-8D13-47F9-963E-0A9FDDA7936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" descr="http://atomprobe.materials.ox.ac.uk/uploads/images/Ni%20superalloy%20gas%20turbine%20together.png"/>
          <p:cNvPicPr/>
          <p:nvPr/>
        </p:nvPicPr>
        <p:blipFill>
          <a:blip r:embed="rId1"/>
          <a:stretch/>
        </p:blipFill>
        <p:spPr>
          <a:xfrm>
            <a:off x="4826160" y="3722760"/>
            <a:ext cx="3816360" cy="2263680"/>
          </a:xfrm>
          <a:prstGeom prst="rect">
            <a:avLst/>
          </a:prstGeom>
          <a:ln w="0">
            <a:noFill/>
          </a:ln>
        </p:spPr>
      </p:pic>
      <p:sp>
        <p:nvSpPr>
          <p:cNvPr id="171" name="Obdélník 4"/>
          <p:cNvSpPr/>
          <p:nvPr/>
        </p:nvSpPr>
        <p:spPr>
          <a:xfrm>
            <a:off x="5344200" y="5986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atomprobe.materials.ox.ac.uk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Obdélník 5"/>
          <p:cNvSpPr/>
          <p:nvPr/>
        </p:nvSpPr>
        <p:spPr>
          <a:xfrm>
            <a:off x="163440" y="4384800"/>
            <a:ext cx="43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dierk-raabe.com/atom-probe-tomography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http://www.dierk-raabe.com/s/cc_images/cache_2433351972.jpg?t=1363990582"/>
          <p:cNvPicPr/>
          <p:nvPr/>
        </p:nvPicPr>
        <p:blipFill>
          <a:blip r:embed="rId2"/>
          <a:stretch/>
        </p:blipFill>
        <p:spPr>
          <a:xfrm>
            <a:off x="276120" y="1058760"/>
            <a:ext cx="53802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0D8A-CB9F-4AC2-8BC3-92955F5A8A69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ysvětlení vícce Kirkendalových rov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414" name="Picture 7" descr="Full-size image (9 K)"/>
          <p:cNvPicPr/>
          <p:nvPr/>
        </p:nvPicPr>
        <p:blipFill>
          <a:blip r:embed="rId1"/>
          <a:stretch/>
        </p:blipFill>
        <p:spPr>
          <a:xfrm>
            <a:off x="990720" y="2438280"/>
            <a:ext cx="3886200" cy="274824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8"/>
          <p:cNvSpPr/>
          <p:nvPr/>
        </p:nvSpPr>
        <p:spPr>
          <a:xfrm>
            <a:off x="609480" y="5486400"/>
            <a:ext cx="518184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arker velocity curve in the multiphase Ti/Ni diffusion couple after annealing at 850°C for 196 h calculated using experimental data of Ref.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[21]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Note: the Matano plane is located at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=0 (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-Ti</a:t>
            </a:r>
            <a:r>
              <a:rPr b="0" lang="cs-CZ" sz="1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s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=b.c.c. solid solution)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562720" y="2514600"/>
            <a:ext cx="213336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Kolik průsečíků f-ce v=x/2t s rychlostmi posunu ve fázích tolik nůže být rovin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5334120" y="4648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eprotína s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11"/>
          <p:cNvSpPr/>
          <p:nvPr/>
        </p:nvSpPr>
        <p:spPr>
          <a:xfrm flipH="1" flipV="1">
            <a:off x="3200400" y="4495320"/>
            <a:ext cx="236232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20" name="Zástupný symbol pro zápatí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1708-30CD-4CDC-ABBA-450CB0FE81D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2" descr="Výsledek obrázku pro &quot;trace diffusion&quot; experiment"/>
          <p:cNvPicPr/>
          <p:nvPr/>
        </p:nvPicPr>
        <p:blipFill>
          <a:blip r:embed="rId1"/>
          <a:stretch/>
        </p:blipFill>
        <p:spPr>
          <a:xfrm>
            <a:off x="871560" y="2205000"/>
            <a:ext cx="67150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1A82-E78E-4A40-B536-8FF400E0388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odel segregace na hrani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3" descr="C:\Documents and Settings\Sopoušek\Dokumenty\Obrázky\Difúze\model segregace v Al kyslík difunduje.jpg"/>
          <p:cNvPicPr/>
          <p:nvPr/>
        </p:nvPicPr>
        <p:blipFill>
          <a:blip r:embed="rId1"/>
          <a:stretch/>
        </p:blipFill>
        <p:spPr>
          <a:xfrm>
            <a:off x="990720" y="1981080"/>
            <a:ext cx="6215040" cy="224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371600" y="4952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še příliš složité. Proto omezení na BULK difúzi (DICTRA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Zástupný symbol pro číslo snímku 5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DFC8-CCDF-4D9E-80F1-46F91FD2B59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9528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tomární mobilit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1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954080" cy="604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3"/>
          <p:cNvSpPr/>
          <p:nvPr/>
        </p:nvSpPr>
        <p:spPr>
          <a:xfrm>
            <a:off x="380880" y="1143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efini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Picture 15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436320" cy="590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30481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57200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Je termodynamická hnací síla difúz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3"/>
          <a:stretch/>
        </p:blipFill>
        <p:spPr>
          <a:xfrm>
            <a:off x="3657600" y="1905120"/>
            <a:ext cx="324000" cy="352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0"/>
          <p:cNvSpPr/>
          <p:nvPr/>
        </p:nvSpPr>
        <p:spPr>
          <a:xfrm>
            <a:off x="4114800" y="1905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Je atomární mobilita = kinetický faktor difúze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80880" y="24382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 kombinaci s Gibbs-Duhemovou rovnicí a definicí chemického potenciálu získáme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Picture 22" descr=""/>
          <p:cNvPicPr/>
          <p:nvPr/>
        </p:nvPicPr>
        <p:blipFill>
          <a:blip r:embed="rId4"/>
          <a:stretch/>
        </p:blipFill>
        <p:spPr>
          <a:xfrm>
            <a:off x="6477120" y="2819520"/>
            <a:ext cx="2404800" cy="32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"/>
          <p:cNvPicPr/>
          <p:nvPr/>
        </p:nvPicPr>
        <p:blipFill>
          <a:blip r:embed="rId5"/>
          <a:stretch/>
        </p:blipFill>
        <p:spPr>
          <a:xfrm>
            <a:off x="685800" y="3352680"/>
            <a:ext cx="4317840" cy="1716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"/>
          <p:cNvPicPr/>
          <p:nvPr/>
        </p:nvPicPr>
        <p:blipFill>
          <a:blip r:embed="rId6"/>
          <a:stretch/>
        </p:blipFill>
        <p:spPr>
          <a:xfrm>
            <a:off x="3276720" y="5257800"/>
            <a:ext cx="2798640" cy="674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5"/>
          <p:cNvSpPr/>
          <p:nvPr/>
        </p:nvSpPr>
        <p:spPr>
          <a:xfrm>
            <a:off x="228600" y="5257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o porovnání s 1. Fickovým zákonem platí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5259600" y="601992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esp.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Picture 27" descr=""/>
          <p:cNvPicPr/>
          <p:nvPr/>
        </p:nvPicPr>
        <p:blipFill>
          <a:blip r:embed="rId7"/>
          <a:stretch/>
        </p:blipFill>
        <p:spPr>
          <a:xfrm>
            <a:off x="6172200" y="6019920"/>
            <a:ext cx="2741760" cy="660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8"/>
          <p:cNvSpPr/>
          <p:nvPr/>
        </p:nvSpPr>
        <p:spPr>
          <a:xfrm>
            <a:off x="5867280" y="3657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ktivitní koeficienty </a:t>
            </a:r>
            <a:r>
              <a:rPr b="1" lang="cs-CZ" sz="1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získáváme z experimentu nebo z  termodynamických modelů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6081840" y="4952880"/>
            <a:ext cx="30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ýraz ve složené závorce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{} 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= termodynamický fakto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2520" y="2602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Působení jiných sil na chemický potenciál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9" name="Zástupný symbol pro zápatí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5E2A-9825-49A4-8DA1-696F18E4B87A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79280" y="1484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okud je chemický potenciál ovlivněn i přítomností elestických napětí (viz např. dislokace) pak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5818320" y="1811160"/>
            <a:ext cx="2966760" cy="33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"/>
          <p:cNvPicPr/>
          <p:nvPr/>
        </p:nvPicPr>
        <p:blipFill>
          <a:blip r:embed="rId2"/>
          <a:stretch/>
        </p:blipFill>
        <p:spPr>
          <a:xfrm>
            <a:off x="2770200" y="2565360"/>
            <a:ext cx="3192480" cy="703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609480" y="357336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odobně je třeba chem. potenciál, pokud atomy difundují v elektrickém poli U (elektromigrace), nebo v místech s teplotním gradientem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20E9-5804-4406-A07C-CBEF611F009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Termodynamick</a:t>
            </a:r>
            <a:r>
              <a:rPr b="0" lang="cs-CZ" sz="1800" spc="-1" strike="noStrike">
                <a:solidFill>
                  <a:srgbClr val="4d4d4d"/>
                </a:solidFill>
                <a:latin typeface="Arial Black"/>
              </a:rPr>
              <a:t>ý</a:t>
            </a: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 faktor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950760" y="981000"/>
            <a:ext cx="7242480" cy="4894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905120" y="5943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Fázový diagram Au-Ni a termodynamický faktor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638680" y="13716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F… termodynamický faktor pro 900stC je významný !!!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1" name="Picture 27" descr=""/>
          <p:cNvPicPr/>
          <p:nvPr/>
        </p:nvPicPr>
        <p:blipFill>
          <a:blip r:embed="rId2"/>
          <a:stretch/>
        </p:blipFill>
        <p:spPr>
          <a:xfrm>
            <a:off x="5030640" y="4508640"/>
            <a:ext cx="2741760" cy="660240"/>
          </a:xfrm>
          <a:prstGeom prst="rect">
            <a:avLst/>
          </a:prstGeom>
          <a:ln w="0">
            <a:noFill/>
          </a:ln>
        </p:spPr>
      </p:pic>
      <p:sp>
        <p:nvSpPr>
          <p:cNvPr id="212" name="TextovéPole 1"/>
          <p:cNvSpPr/>
          <p:nvPr/>
        </p:nvSpPr>
        <p:spPr>
          <a:xfrm>
            <a:off x="5030640" y="4605480"/>
            <a:ext cx="127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F=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DD56-8DFE-4EA8-B81E-6803A94828C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7480" y="18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hermoCalc+DICT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6" name="Picture 3" descr="C:\Documents and Settings\Sopoušek\Dokumenty\Obrázky\DICTRA\termodynamický faktor SnNi.jpg"/>
          <p:cNvPicPr/>
          <p:nvPr/>
        </p:nvPicPr>
        <p:blipFill>
          <a:blip r:embed="rId1"/>
          <a:stretch/>
        </p:blipFill>
        <p:spPr>
          <a:xfrm>
            <a:off x="5715000" y="1676520"/>
            <a:ext cx="3043080" cy="2896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5176080" y="457200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u-Sn (fcc_a1, tj platí pro </a:t>
            </a:r>
            <a:r>
              <a:rPr b="1" lang="cs-CZ" sz="1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a fázi (Cu)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02640" y="6248520"/>
            <a:ext cx="25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metallurgy.nist.gov/phase/solder/cusn.htm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9" name="Picture 8" descr="Calculated Cu-Sn Phase Diagram (percent of mass fraction) (101 KB)"/>
          <p:cNvPicPr/>
          <p:nvPr/>
        </p:nvPicPr>
        <p:blipFill>
          <a:blip r:embed="rId2"/>
          <a:stretch/>
        </p:blipFill>
        <p:spPr>
          <a:xfrm>
            <a:off x="533520" y="1752480"/>
            <a:ext cx="4572000" cy="4314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5638680" y="5105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Přímá spojnice se šipkou 3"/>
          <p:cNvCxnSpPr/>
          <p:nvPr/>
        </p:nvCxnSpPr>
        <p:spPr>
          <a:xfrm flipH="1">
            <a:off x="3850920" y="2781360"/>
            <a:ext cx="1658160" cy="792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2" name="Přímá spojnice se šipkou 5"/>
          <p:cNvCxnSpPr/>
          <p:nvPr/>
        </p:nvCxnSpPr>
        <p:spPr>
          <a:xfrm flipH="1">
            <a:off x="4679640" y="2997000"/>
            <a:ext cx="684720" cy="9133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5215-E286-4226-B982-0A9C3A2D796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jednodušení pro ideální nebo velmi zředěné rozto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516720" y="682560"/>
            <a:ext cx="772920" cy="309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638280" y="1073160"/>
            <a:ext cx="266760" cy="2952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727200" y="1047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. je konstanta nebo 1.   Tj. vztah: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123840" y="2603520"/>
            <a:ext cx="3733920" cy="642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ýpočet atomárních mobilit v SW DICTRA viz další přednáška.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72120" y="6095880"/>
            <a:ext cx="327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nebo http://rspa.royalsocietypublishing.org/content/463/2088/3347.ful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icture 15" descr=""/>
          <p:cNvPicPr/>
          <p:nvPr/>
        </p:nvPicPr>
        <p:blipFill>
          <a:blip r:embed="rId3"/>
          <a:stretch/>
        </p:blipFill>
        <p:spPr>
          <a:xfrm>
            <a:off x="638280" y="1770120"/>
            <a:ext cx="3219480" cy="609480"/>
          </a:xfrm>
          <a:prstGeom prst="rect">
            <a:avLst/>
          </a:prstGeom>
          <a:ln w="0">
            <a:noFill/>
          </a:ln>
        </p:spPr>
      </p:pic>
      <p:sp>
        <p:nvSpPr>
          <p:cNvPr id="231" name="TextovéPole 1"/>
          <p:cNvSpPr/>
          <p:nvPr/>
        </p:nvSpPr>
        <p:spPr>
          <a:xfrm>
            <a:off x="4278240" y="17701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řejde na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"/>
          <p:cNvSpPr/>
          <p:nvPr/>
        </p:nvSpPr>
        <p:spPr>
          <a:xfrm>
            <a:off x="6066000" y="125100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f. Koef stopové difúze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3" name="Přímá spojnice se šipkou 4"/>
          <p:cNvCxnSpPr/>
          <p:nvPr/>
        </p:nvCxnSpPr>
        <p:spPr>
          <a:xfrm flipH="1">
            <a:off x="6227280" y="1620360"/>
            <a:ext cx="145440" cy="1501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234" name="Picture 7" descr=""/>
          <p:cNvPicPr/>
          <p:nvPr/>
        </p:nvPicPr>
        <p:blipFill>
          <a:blip r:embed="rId4"/>
          <a:stretch/>
        </p:blipFill>
        <p:spPr>
          <a:xfrm>
            <a:off x="5819760" y="1787400"/>
            <a:ext cx="2460600" cy="408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"/>
          <p:cNvPicPr/>
          <p:nvPr/>
        </p:nvPicPr>
        <p:blipFill>
          <a:blip r:embed="rId5"/>
          <a:stretch/>
        </p:blipFill>
        <p:spPr>
          <a:xfrm>
            <a:off x="236520" y="3357720"/>
            <a:ext cx="7400880" cy="1161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6"/>
          <a:stretch/>
        </p:blipFill>
        <p:spPr>
          <a:xfrm>
            <a:off x="270000" y="4653000"/>
            <a:ext cx="7334280" cy="195264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5"/>
          <p:cNvSpPr/>
          <p:nvPr/>
        </p:nvSpPr>
        <p:spPr>
          <a:xfrm>
            <a:off x="4500720" y="63216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s://www.nist.gov/sites/default/files/documents/mml/msed/thermodynamics_kinetics/Final-version-NIST-2010-diffusion-workshop-March-24-2010-Yong-Du-China.pdf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7-12-13T09:50:38Z</dcterms:modified>
  <cp:revision>224</cp:revision>
  <dc:subject/>
  <dc:title>C6730 Fázové rovnováhy</dc:title>
</cp:coreProperties>
</file>