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6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19.png" ContentType="image/png"/>
  <Override PartName="/ppt/media/image21.wmf" ContentType="image/x-wmf"/>
  <Override PartName="/ppt/media/image31.jpeg" ContentType="image/jpeg"/>
  <Override PartName="/ppt/media/image10.wmf" ContentType="image/x-wmf"/>
  <Override PartName="/ppt/media/image4.jpeg" ContentType="image/jpeg"/>
  <Override PartName="/ppt/media/image8.wmf" ContentType="image/x-wmf"/>
  <Override PartName="/ppt/media/image13.png" ContentType="image/png"/>
  <Override PartName="/ppt/media/image33.wmf" ContentType="image/x-wmf"/>
  <Override PartName="/ppt/media/image32.wmf" ContentType="image/x-wmf"/>
  <Override PartName="/ppt/media/image12.wmf" ContentType="image/x-wmf"/>
  <Override PartName="/ppt/media/image7.wmf" ContentType="image/x-wmf"/>
  <Override PartName="/ppt/media/image30.jpeg" ContentType="image/jpeg"/>
  <Override PartName="/ppt/media/image3.jpeg" ContentType="image/jpeg"/>
  <Override PartName="/ppt/media/image9.jpeg" ContentType="image/jpeg"/>
  <Override PartName="/ppt/media/image28.jpeg" ContentType="image/jpeg"/>
  <Override PartName="/ppt/media/image23.wmf" ContentType="image/x-wmf"/>
  <Override PartName="/ppt/media/image34.png" ContentType="image/png"/>
  <Override PartName="/ppt/media/image17.wmf" ContentType="image/x-wmf"/>
  <Override PartName="/ppt/media/image6.wmf" ContentType="image/x-wmf"/>
  <Override PartName="/ppt/media/image11.wmf" ContentType="image/x-wmf"/>
  <Override PartName="/ppt/media/image36.png" ContentType="image/png"/>
  <Override PartName="/ppt/media/image35.wmf" ContentType="image/x-wmf"/>
  <Override PartName="/ppt/media/image5.wmf" ContentType="image/x-wmf"/>
  <Override PartName="/ppt/media/image27.jpeg" ContentType="image/jpeg"/>
  <Override PartName="/ppt/media/image2.gif" ContentType="image/gi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8.wmf" ContentType="image/x-wmf"/>
  <Override PartName="/ppt/media/image2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063D0-0A9F-44D4-8CE0-925D1B93B68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153B-1DD3-4121-802D-3A9FDA492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E48A-6EE6-4D8F-A92B-52A0EC1D5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64EB-56B7-4BB8-886D-03962179E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F438-F3BF-48AA-800A-901083E11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D5408-F8C4-4200-A6C4-F40BD399A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B3F67-6256-4BB3-9701-F48045A6C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24241-7BC2-4676-BEBF-9A0E905FE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25DB0-79E8-434E-862A-5E73A905A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84B30-07AC-4805-94CC-CB92EB0E1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4D97C-EBEC-418E-AA65-110541F47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1ACF5-29F1-45A0-903C-37CE681AD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9E72-73F7-4D5F-B897-8558E12B3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E1CD4-D340-4F1F-8884-2BECDF03E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87A1F-AA01-4038-9BBD-C70C0CE98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718A0-29DF-46CC-98C6-BC9F550B1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5FA5B-27C1-4292-8E58-EBA49EC3B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D57BE-071B-4C25-AE53-530CC412C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B4B8-A401-4376-9D40-BA982C94E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28CF-7F84-4ED2-A73E-77831C2C9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E09D-42EE-4E1D-8326-CEC427C26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1BF4-7BB9-4F66-8902-9F5E0E2FB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3236-FE50-4751-A493-8ED730BB9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8540-7935-4DE4-A022-19052769D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633F-252E-4FC8-8ED7-9AC8DB45A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44AB5-0F0B-4CBF-B707-5F1EE29E5E9B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C6BB1-E21E-4E32-BD2B-58649396DFEC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hyperlink" Target="http://www.google.cz/imgres?q=nucleation+centre&amp;hl=cs&amp;biw=996&amp;bih=522&amp;gbv=2&amp;tbm=isch&amp;tbnid=HX9uUSL_-sqqGM:&amp;imgrefurl=http://www.epj.org/news.html&amp;docid=uVTPgN-MOViRAM&amp;imgurl=http://www.epj.org/_img/news/news_2011-02_5.jpg&amp;w=150&amp;h=197&amp;ei=2KPTTobyFNSYsAbvvYSCBA&amp;zoom=1" TargetMode="External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png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07 Kinetika vzniku vícefázových struktur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Rychlost fázové transforma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838080"/>
            <a:ext cx="7848360" cy="12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NewRoman,Bold"/>
              </a:rPr>
              <a:t>Rychlost: r = 1 / t0.5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NewRoman"/>
              </a:rPr>
              <a:t>Platí Arrheniova závislost: </a:t>
            </a:r>
            <a:r>
              <a:rPr b="0" lang="cs-CZ" sz="1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imesNewRoman,Bold"/>
              </a:rPr>
              <a:t>r = A exp (-</a:t>
            </a:r>
            <a:r>
              <a:rPr b="1" lang="cs-CZ" sz="1800" spc="-1" strike="noStrike">
                <a:solidFill>
                  <a:srgbClr val="008100"/>
                </a:solidFill>
                <a:latin typeface="TimesNewRoman,Bold"/>
              </a:rPr>
              <a:t>QA</a:t>
            </a:r>
            <a:r>
              <a:rPr b="1" lang="cs-CZ" sz="1800" spc="-1" strike="noStrike">
                <a:solidFill>
                  <a:srgbClr val="000000"/>
                </a:solidFill>
                <a:latin typeface="TimesNewRoman,Bold"/>
              </a:rPr>
              <a:t>/kT) = A exp (-</a:t>
            </a:r>
            <a:r>
              <a:rPr b="1" lang="cs-CZ" sz="1800" spc="-1" strike="noStrike">
                <a:solidFill>
                  <a:srgbClr val="3333cd"/>
                </a:solidFill>
                <a:latin typeface="TimesNewRoman,Bold"/>
              </a:rPr>
              <a:t>Qm</a:t>
            </a:r>
            <a:r>
              <a:rPr b="1" lang="cs-CZ" sz="1800" spc="-1" strike="noStrike">
                <a:solidFill>
                  <a:srgbClr val="000000"/>
                </a:solidFill>
                <a:latin typeface="TimesNewRoman,Bold"/>
              </a:rPr>
              <a:t>/ R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7594560" cy="39798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990720" y="61722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Rekrystalizace mědi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805680"/>
            <a:ext cx="3276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TTT křivky Fe-C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3368520" cy="31939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3733920" y="235080"/>
            <a:ext cx="5132160" cy="66229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228600" y="5148360"/>
            <a:ext cx="1797120" cy="17096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057400" y="601992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Perlit Fe-0,8wt%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Mikrostruktura a TTT křivky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5607000" cy="41817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6324480" y="1905120"/>
            <a:ext cx="251460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The thickness of the ferrite and cementite layers in pearlit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is ~ 8:1. The absolute layer thickness depends on th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temperature of the transformation. The higher th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temperature, the thicker the layer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79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Baini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5085000" cy="54147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5638680" y="1371600"/>
            <a:ext cx="35053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If transformation temperature is low enough (</a:t>
            </a:r>
            <a:r>
              <a:rPr b="0" lang="cs-CZ" sz="1800" spc="-1" strike="noStrike">
                <a:solidFill>
                  <a:srgbClr val="000066"/>
                </a:solidFill>
                <a:latin typeface="SymbolMT"/>
              </a:rPr>
              <a:t>≤</a:t>
            </a: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540°C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bainite rather than fine pearlite form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5562720" y="2895480"/>
            <a:ext cx="1542960" cy="19558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7238880" y="2895480"/>
            <a:ext cx="1731960" cy="21160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5943600" y="5133960"/>
            <a:ext cx="2666880" cy="17240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7238880" y="5943600"/>
            <a:ext cx="1676520" cy="703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Sferitizace (700st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4564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Shrnutí difůzně řízených přeměn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1066680"/>
            <a:ext cx="853416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The family of S-shaped curves at different T are used to construct the TTT diagram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The TTT diagrams are for the </a:t>
            </a:r>
            <a:r>
              <a:rPr b="1" lang="cs-CZ" sz="2000" spc="-1" strike="noStrike">
                <a:solidFill>
                  <a:srgbClr val="3333cd"/>
                </a:solidFill>
                <a:latin typeface="TimesNewRoman,Bold"/>
              </a:rPr>
              <a:t>isothermal </a:t>
            </a: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(constant T) transformations (material is cooled quickly to a given temperature before the transformation occurs, and then keep it at that temperature)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At low temperatures, the transformation occurs sooner (it is controlled by the rate of nucleation) and grain growth (that is controlled by diffusion) is reduced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Slow diffusion at low temperatures leads to fine-grained microstructure with thin-layered structure of pearlite (</a:t>
            </a:r>
            <a:r>
              <a:rPr b="1" lang="cs-CZ" sz="2000" spc="-1" strike="noStrike">
                <a:solidFill>
                  <a:srgbClr val="3333cd"/>
                </a:solidFill>
                <a:latin typeface="TimesNewRoman,Bold"/>
              </a:rPr>
              <a:t>fine pearlite</a:t>
            </a: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)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At higher temperatures, high diffusion rates allow for larger grain growth and formation of thick layered structure of pearlite (</a:t>
            </a:r>
            <a:r>
              <a:rPr b="1" lang="cs-CZ" sz="2000" spc="-1" strike="noStrike">
                <a:solidFill>
                  <a:srgbClr val="3333cd"/>
                </a:solidFill>
                <a:latin typeface="TimesNewRoman,Bold"/>
              </a:rPr>
              <a:t>coarse pearlite</a:t>
            </a: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). At compositions other than eutectoid, a proeutectoid phase (ferrite or cementite) coexist with pearlite. Additional curves for proeutectoid transformation must be included on TTT diagram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Bezdifúzní přeměn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5086080" cy="35179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5254560" y="3581280"/>
            <a:ext cx="3889440" cy="29084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600200" y="58672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„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Matrenzitické přeměny“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-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Martenzit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" y="685800"/>
            <a:ext cx="868680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Martensite forms when austenite is rapidly </a:t>
            </a:r>
            <a:r>
              <a:rPr b="0" lang="cs-CZ" sz="2400" spc="-1" strike="noStrike">
                <a:solidFill>
                  <a:srgbClr val="3333cd"/>
                </a:solidFill>
                <a:latin typeface="TimesNewRoman"/>
              </a:rPr>
              <a:t>quenched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 to room 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The austenite-martensite </a:t>
            </a:r>
            <a:r>
              <a:rPr b="0" lang="cs-CZ" sz="2400" spc="-1" strike="noStrike">
                <a:solidFill>
                  <a:srgbClr val="3333cd"/>
                </a:solidFill>
                <a:latin typeface="TimesNewRoman"/>
              </a:rPr>
              <a:t>does not involve diffusion </a:t>
            </a:r>
            <a:r>
              <a:rPr b="0" lang="cs-CZ" sz="2400" spc="-1" strike="noStrike">
                <a:solidFill>
                  <a:srgbClr val="000000"/>
                </a:solidFill>
                <a:latin typeface="SymbolMT"/>
              </a:rPr>
              <a:t>→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no thermal activation is needed,this is called an </a:t>
            </a: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athermal transformation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Each atom displaces a small (sub-atomic) distance to transform FCC </a:t>
            </a:r>
            <a:r>
              <a:rPr b="0" lang="cs-CZ" sz="2400" spc="-1" strike="noStrike">
                <a:solidFill>
                  <a:srgbClr val="000000"/>
                </a:solidFill>
                <a:latin typeface="SymbolMT"/>
              </a:rPr>
              <a:t>γ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-Fe (austenite) to martensite which has a Body Centered Tetragonal (BCT) unit cell (like BCC, but one unit cell axis is longer than the other two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Martensite is </a:t>
            </a:r>
            <a:r>
              <a:rPr b="0" lang="cs-CZ" sz="2400" spc="-1" strike="noStrike">
                <a:solidFill>
                  <a:srgbClr val="3333cd"/>
                </a:solidFill>
                <a:latin typeface="TimesNewRoman"/>
              </a:rPr>
              <a:t>metastable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- can persist indefinitely at room temperature, but will transform to equilibrium phases on annealing at an elevated temperature. Martensite can coexist with other phases and/or microstructures in Fe-C systém. It does not appear in phase Fe-C phase diagra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2480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Martenzit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179880" y="228600"/>
            <a:ext cx="5284800" cy="64771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304920" y="4724280"/>
            <a:ext cx="2819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NewRoman"/>
              </a:rPr>
              <a:t>Austenite-to-martensite is diffusionless and very fast. The amount of martensite formed depends on temperature only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31800" y="1739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31800" y="173988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789440" y="3848040"/>
            <a:ext cx="231300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78120" rIns="4294878120" tIns="-4294681200" bIns="-42946812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19280" y="290052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16" name="images" descr=""/>
          <p:cNvPicPr/>
          <p:nvPr/>
        </p:nvPicPr>
        <p:blipFill>
          <a:blip r:embed="rId2"/>
          <a:stretch/>
        </p:blipFill>
        <p:spPr>
          <a:xfrm>
            <a:off x="228600" y="1143000"/>
            <a:ext cx="2590920" cy="1940040"/>
          </a:xfrm>
          <a:prstGeom prst="rect">
            <a:avLst/>
          </a:prstGeom>
          <a:ln w="0">
            <a:noFill/>
          </a:ln>
        </p:spPr>
      </p:pic>
      <p:pic>
        <p:nvPicPr>
          <p:cNvPr id="217" name="martensite-1500x" descr=""/>
          <p:cNvPicPr/>
          <p:nvPr/>
        </p:nvPicPr>
        <p:blipFill>
          <a:blip r:embed="rId3"/>
          <a:stretch/>
        </p:blipFill>
        <p:spPr>
          <a:xfrm>
            <a:off x="838080" y="3200400"/>
            <a:ext cx="128448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5324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NewRoman"/>
              </a:rPr>
              <a:t>Tepelné zpracování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3581280" y="304920"/>
            <a:ext cx="4849920" cy="6167160"/>
          </a:xfrm>
          <a:prstGeom prst="rect">
            <a:avLst/>
          </a:prstGeom>
          <a:ln w="0">
            <a:noFill/>
          </a:ln>
        </p:spPr>
      </p:pic>
      <p:pic>
        <p:nvPicPr>
          <p:cNvPr id="220" name="44" descr=""/>
          <p:cNvPicPr/>
          <p:nvPr/>
        </p:nvPicPr>
        <p:blipFill>
          <a:blip r:embed="rId2"/>
          <a:stretch/>
        </p:blipFill>
        <p:spPr>
          <a:xfrm>
            <a:off x="304920" y="1627200"/>
            <a:ext cx="3124080" cy="2340000"/>
          </a:xfrm>
          <a:prstGeom prst="rect">
            <a:avLst/>
          </a:prstGeom>
          <a:ln w="0">
            <a:noFill/>
          </a:ln>
        </p:spPr>
      </p:pic>
      <p:pic>
        <p:nvPicPr>
          <p:cNvPr id="221" name="6100CT-heat%20treatment" descr=""/>
          <p:cNvPicPr/>
          <p:nvPr/>
        </p:nvPicPr>
        <p:blipFill>
          <a:blip r:embed="rId3"/>
          <a:stretch/>
        </p:blipFill>
        <p:spPr>
          <a:xfrm>
            <a:off x="228600" y="4191120"/>
            <a:ext cx="312408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Zpracování Fe-C slitin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057400" y="1981080"/>
            <a:ext cx="502920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5181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Termodynamická podmínka vzniku nové fáz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Nukleac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Difúzní a bezdifúzní přeměn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76200" y="1952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76200" y="195264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63680" y="311292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5" name="images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486400" y="3124080"/>
            <a:ext cx="2681280" cy="3505320"/>
          </a:xfrm>
          <a:prstGeom prst="rect">
            <a:avLst/>
          </a:prstGeom>
          <a:ln w="0">
            <a:noFill/>
          </a:ln>
        </p:spPr>
      </p:pic>
      <p:pic>
        <p:nvPicPr>
          <p:cNvPr id="156" name="Soda_bubbles_macro" descr=""/>
          <p:cNvPicPr/>
          <p:nvPr/>
        </p:nvPicPr>
        <p:blipFill>
          <a:blip r:embed="rId7"/>
          <a:stretch/>
        </p:blipFill>
        <p:spPr>
          <a:xfrm>
            <a:off x="5486400" y="1168560"/>
            <a:ext cx="27432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Další fázové transforma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6855120" cy="31687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4114800" y="4110120"/>
            <a:ext cx="4784760" cy="27478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0" y="4005360"/>
            <a:ext cx="304812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228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Tvarová paměť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29" name=""/>
          <p:cNvSpPr/>
          <p:nvPr/>
        </p:nvSpPr>
        <p:spPr>
          <a:xfrm>
            <a:off x="231120" y="1447920"/>
            <a:ext cx="70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http://www.youtube.com/watch?v=hMYC-bLMLZQ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http://www.youtube.com/watch?v=fsBHF_j2FJ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30" name="phase4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4819680" cy="38322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5943600" y="26668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NiTi,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33" name=""/>
          <p:cNvSpPr/>
          <p:nvPr/>
        </p:nvSpPr>
        <p:spPr>
          <a:xfrm>
            <a:off x="838080" y="1828800"/>
            <a:ext cx="74678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Termodynamická podmínka vzniku nové fáz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68680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Energetika kuloviré části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7391160" cy="39132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867280" y="4716360"/>
            <a:ext cx="3021120" cy="21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Nukleace nové fáz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8610480" cy="25117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457200" y="5334120"/>
            <a:ext cx="39625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Metastabilní stavy: přechlazení a přehřátí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64960" y="1803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64960" y="180324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424560" y="3902040"/>
            <a:ext cx="245592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78120" rIns="4294878120" tIns="-4294681200" bIns="-42946812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52440" y="296388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9" name="images" descr=""/>
          <p:cNvPicPr/>
          <p:nvPr/>
        </p:nvPicPr>
        <p:blipFill>
          <a:blip r:embed="rId2"/>
          <a:stretch/>
        </p:blipFill>
        <p:spPr>
          <a:xfrm>
            <a:off x="5181480" y="4216320"/>
            <a:ext cx="32194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0420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Možnosti snížení nukleační bariéry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534160" cy="50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Metody usnadňující dosažení rovnovážného stavu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8763120" cy="18921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228600" y="4794120"/>
            <a:ext cx="7696080" cy="20638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04920" y="36576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Faktory ovlivňující růst nové fáz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6" name="sss7-29-08-2008" descr=""/>
          <p:cNvPicPr/>
          <p:nvPr/>
        </p:nvPicPr>
        <p:blipFill>
          <a:blip r:embed="rId3"/>
          <a:stretch/>
        </p:blipFill>
        <p:spPr>
          <a:xfrm>
            <a:off x="6019920" y="2590920"/>
            <a:ext cx="2590560" cy="2263680"/>
          </a:xfrm>
          <a:prstGeom prst="rect">
            <a:avLst/>
          </a:prstGeom>
          <a:ln w="9360">
            <a:solidFill>
              <a:srgbClr val="cc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Kinetika fázových transformací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1676520"/>
            <a:ext cx="7924680" cy="340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Difúzí řízené bez změny chemického složení a počtu fází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(e.g. melting, solidification of pure metal, allotropic transformations, recrystallization, etc.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Difúzí řízené se změnou chemického složení a počtu fází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(e.g. Eutectoid transformations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Bezdifúzní transformace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- produces a metastable phase by cooperative small displacements of all atoms in structure (e.g. martensitic transformation discussed in later in this chapter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Kinetika FT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1143000"/>
            <a:ext cx="74678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Nucleation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of of the new phase - formation of stable small particles (nuclei) of the new phase. Nuclei are often formed at grain boundaries and other defect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Growth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of new phase at the expense of the original phas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981080" y="3200400"/>
            <a:ext cx="4826160" cy="34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1-28T15:54:39Z</dcterms:modified>
  <cp:revision>119</cp:revision>
  <dc:subject/>
  <dc:title>C6730 Fázové rovnováhy</dc:title>
</cp:coreProperties>
</file>