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94560"/>
            <a:ext cx="77724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456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9456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0292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0292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9456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9456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9456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26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9456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9456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4560"/>
            <a:ext cx="77724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7337880" y="6373800"/>
            <a:ext cx="16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ljko Samardz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317160" y="634824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-21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gineering Materials and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ALS OF METAL ALLOY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ILIBRIUM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Partial Solid Solu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4365720" y="4530600"/>
                <a:ext cx="198360" cy="1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958920"/>
            <a:ext cx="77724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ee of solubility depends on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ax. solubility, 183 C: lead holds up to 19.2 wt% tin in a single phase solution, and tin holds up to 2.5wt% lead and still be a single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2" descr="LdEqDiag(5)"/>
          <p:cNvPicPr/>
          <p:nvPr/>
        </p:nvPicPr>
        <p:blipFill>
          <a:blip r:embed="rId1"/>
          <a:stretch/>
        </p:blipFill>
        <p:spPr>
          <a:xfrm>
            <a:off x="2193840" y="839880"/>
            <a:ext cx="4429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Utilization of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1521000" y="1065240"/>
                <a:ext cx="5262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" name="Picture 6" descr="EqDiag(8)"/>
          <p:cNvPicPr/>
          <p:nvPr/>
        </p:nvPicPr>
        <p:blipFill>
          <a:blip r:embed="rId1"/>
          <a:stretch/>
        </p:blipFill>
        <p:spPr>
          <a:xfrm>
            <a:off x="1765440" y="2543040"/>
            <a:ext cx="5281560" cy="38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1479600" y="1693800"/>
                <a:ext cx="531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Examp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9" descr="EqDiag(8)"/>
          <p:cNvPicPr/>
          <p:nvPr/>
        </p:nvPicPr>
        <p:blipFill>
          <a:blip r:embed="rId1"/>
          <a:stretch/>
        </p:blipFill>
        <p:spPr>
          <a:xfrm>
            <a:off x="4441680" y="1254240"/>
            <a:ext cx="4532400" cy="326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Object 19"/>
              <p:cNvSpPr txBox="1"/>
              <p:nvPr/>
            </p:nvSpPr>
            <p:spPr>
              <a:xfrm>
                <a:off x="384120" y="4602240"/>
                <a:ext cx="76359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1"/>
              <p:cNvSpPr txBox="1"/>
              <p:nvPr/>
            </p:nvSpPr>
            <p:spPr>
              <a:xfrm>
                <a:off x="395280" y="5610240"/>
                <a:ext cx="69008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25"/>
              <p:cNvSpPr txBox="1"/>
              <p:nvPr/>
            </p:nvSpPr>
            <p:spPr>
              <a:xfrm>
                <a:off x="244440" y="1254240"/>
                <a:ext cx="4599000" cy="29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qu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ount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Utilization of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ases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ition of each phase ( single phase region or two phase reg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 phase regi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ie-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uld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each phase present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ver-la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culation using a tie-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Three Ph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schematic(9)"/>
          <p:cNvPicPr/>
          <p:nvPr/>
        </p:nvPicPr>
        <p:blipFill>
          <a:blip r:embed="rId1"/>
          <a:stretch/>
        </p:blipFill>
        <p:spPr>
          <a:xfrm>
            <a:off x="160200" y="1844640"/>
            <a:ext cx="88059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4 Iron-Carbon Equilibrium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IronCarbon(10)"/>
          <p:cNvPicPr/>
          <p:nvPr/>
        </p:nvPicPr>
        <p:blipFill>
          <a:blip r:embed="rId1"/>
          <a:stretch/>
        </p:blipFill>
        <p:spPr>
          <a:xfrm>
            <a:off x="3114720" y="863640"/>
            <a:ext cx="6213600" cy="496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147600" y="3284640"/>
                <a:ext cx="3567240" cy="29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erri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C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ustenit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C</m:t>
                            </m:r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errit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ementit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t xml:space="preserve">%C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i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nmag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ition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440" y="1402920"/>
            <a:ext cx="3809880" cy="4961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7960" y="1402920"/>
            <a:ext cx="3809880" cy="4961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Fig. 3"/>
          <p:cNvPicPr/>
          <p:nvPr/>
        </p:nvPicPr>
        <p:blipFill>
          <a:blip r:embed="rId3"/>
          <a:stretch/>
        </p:blipFill>
        <p:spPr>
          <a:xfrm>
            <a:off x="976320" y="131760"/>
            <a:ext cx="744840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26720"/>
            <a:ext cx="870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4 Iron-Carbon Equilibrium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402920"/>
            <a:ext cx="884232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(present only at extreme tempera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ustenit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CC, high formability, high solubility of C, over 2%C can be dissolved in it, most of heat treatments begin with this single ph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er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CC, stable form of iron below 912 deg.C, only up to 0.02 wt% C in solid solution and leads to two phase mixture in most of ste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ment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ron-carbide), stoichiometric intermetalic compound, hard, brittle, exact melting point unkn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urrie 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770 deg. C), atomic level nonmagnetic-to-magnetic tran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527040" y="1463760"/>
                <a:ext cx="20653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errit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4 Three Ph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ite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t 1495 deg.C, with low wt% C alloys (almost no engineering importanc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ute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t 1148 deg.C, with 4.3wt% C, hapends to all alloys of more than 2.11wt% C and they are call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st ir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tectoid, at 727 deg.C with eutectoid composition of 0.77wt% C, alloys bellow 2.11%C miss the eutectic reaction to create two-phase mixture. They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5 Stee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798480" y="5451480"/>
                <a:ext cx="76611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stenite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%C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F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rrite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%C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BC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mentite</m:t>
                        </m:r>
                      </m:e>
                      <m:sub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%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7" name="Picture 9" descr="simplified(11)"/>
          <p:cNvPicPr/>
          <p:nvPr/>
        </p:nvPicPr>
        <p:blipFill>
          <a:blip r:embed="rId1"/>
          <a:stretch/>
        </p:blipFill>
        <p:spPr>
          <a:xfrm>
            <a:off x="1389240" y="1015920"/>
            <a:ext cx="63388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2 What is a Ph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orm of material having characteristic structure and properti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: form of material 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iable composition (chemistry), definable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tinctive boundaries (interfac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separate it from other ph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5 Eutectoid Ste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000" y="1391760"/>
            <a:ext cx="380988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0.77%C by cooling from austenite (FCC) changes to BCC-ferrite (max 0.02%C) and excess C forms intermetalic cement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crystalline solid separation gives fine mixture of ferrite and cementite. Perlite (right), 1000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Pearlite(12)"/>
          <p:cNvPicPr/>
          <p:nvPr/>
        </p:nvPicPr>
        <p:blipFill>
          <a:blip r:embed="rId1"/>
          <a:stretch/>
        </p:blipFill>
        <p:spPr>
          <a:xfrm>
            <a:off x="4432320" y="1368360"/>
            <a:ext cx="45673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5 Hypoeutectoid Ste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400" y="1371600"/>
            <a:ext cx="441468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less than 0.77%C from austenite by cooling transformation leads to growth of low-C ferrite growth. At 727deg.C austenite transforms in to pearl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ture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eutectoid fer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ite) and regions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earl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ification 500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hypsteel(13)"/>
          <p:cNvPicPr/>
          <p:nvPr/>
        </p:nvPicPr>
        <p:blipFill>
          <a:blip r:embed="rId1"/>
          <a:stretch/>
        </p:blipFill>
        <p:spPr>
          <a:xfrm>
            <a:off x="4357800" y="1353960"/>
            <a:ext cx="4786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5 Hypereutectoid Ste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18800"/>
            <a:ext cx="46483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ore than 0.77%C, from austenite transformation leads to proeutectoid primary cementite and secondary ferrite. At 727 deg.C austenite changes to pearl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f primar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ment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earl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ification 500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hypsteel(14)"/>
          <p:cNvPicPr/>
          <p:nvPr/>
        </p:nvPicPr>
        <p:blipFill>
          <a:blip r:embed="rId1"/>
          <a:stretch/>
        </p:blipFill>
        <p:spPr>
          <a:xfrm>
            <a:off x="4440240" y="1249200"/>
            <a:ext cx="470376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Cast I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920" y="1402920"/>
            <a:ext cx="42894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-Carbon alloys of 2.11%C or more are cast i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omposition: 2.0-4.0%C,0.5-3.0% Si, less than 1.0% Mn and less than 0.2%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-substitutes partially for C and promotes formation of graphite as the carbon rich component instead Fe3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IronCarbon(15)"/>
          <p:cNvPicPr/>
          <p:nvPr/>
        </p:nvPicPr>
        <p:blipFill>
          <a:blip r:embed="rId1"/>
          <a:stretch/>
        </p:blipFill>
        <p:spPr>
          <a:xfrm>
            <a:off x="4422600" y="1951200"/>
            <a:ext cx="47214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Gray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158840"/>
            <a:ext cx="504828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es of: 2.5-4.0%C, 1.0-3.0%Si and 0.4-1.0% 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tructure: 3-D graphite flakes formed during eutectic reaction. They have pointed edges to act as voids and crack initiation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by class (class 20 has min. tensile strength of 20,000 psi is a high C-equivalent metal in ferrite matrix ). Class 40 would have pearlite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GrayCI(16)"/>
          <p:cNvPicPr/>
          <p:nvPr/>
        </p:nvPicPr>
        <p:blipFill>
          <a:blip r:embed="rId1"/>
          <a:stretch/>
        </p:blipFill>
        <p:spPr>
          <a:xfrm>
            <a:off x="4973760" y="1712880"/>
            <a:ext cx="41702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Gray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803736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: excellent compressive strength, excellent machinability, good resistance to adhesive wear (self lubrication due to graphite flakes), outstanding damping capacity ( graphite flakes absorb transmitted energy), good corrosion resistance and it has good fluidity needed for casting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widely used, especially for large equipment parts subjected to compressive loads and vibra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Whit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es of: 1.8-3.6%C, 0.5-1.9%Si and 0.25-0.8%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its carbon is in the form of  iron-carbide (Fe3C). It is called white because of distinctive white fracture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very hard and brittle (a lot of Fe3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d where a high wear resistance is dominant requirement (coupled hard martensite matrix and iron-carbide). Thin coatings over steel  (mill roll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Malleabl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02920"/>
            <a:ext cx="5464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extensive heat treatment around 900 degC, Fe3C will dissociate and form irregular shaped graphite nodules. Rapid cooling restricts production amount to up to 5 kg. Less voids and not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ritic MCI: 10% EL,35 ksi yield strength, 50 ksi tensile strength. Excellent impact strength, good corrosion resistance and good machin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MalleableIron(17)"/>
          <p:cNvPicPr/>
          <p:nvPr/>
        </p:nvPicPr>
        <p:blipFill>
          <a:blip r:embed="rId1"/>
          <a:stretch/>
        </p:blipFill>
        <p:spPr>
          <a:xfrm>
            <a:off x="5375160" y="2405160"/>
            <a:ext cx="3768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Pearlitic Malleabl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2520" y="1914120"/>
            <a:ext cx="829296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rlitic MCI: by rapid cooling through eutectic transformation of austenite to pearlite or martensite matr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ition: 1-4% EL, 45-85 ksi yield strength, 65-105 ksi tensile strength. Not as machinable as ferritic malleable cast i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til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heat treatment by addition of ferrosilicon (MgFeSi) formation of smooth spheres (nodules) of graphite is promo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: 2-18% EL, 40-90 ksi yield strength, 60-120 ksi tensile str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ve engineering material due to: good ductility, high strength, toughness, wear resistance, machinability and low melting point cast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2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080" y="1403280"/>
            <a:ext cx="42354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can be continuous (air in the room) or discontinuous (salt grains in the shak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, liquid or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substance or solution ( uniform structure throughou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lava lamp"/>
          <p:cNvPicPr/>
          <p:nvPr/>
        </p:nvPicPr>
        <p:blipFill>
          <a:blip r:embed="rId1"/>
          <a:stretch/>
        </p:blipFill>
        <p:spPr>
          <a:xfrm>
            <a:off x="4973760" y="1173240"/>
            <a:ext cx="3816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Malleabl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41832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tile iron with ferrite matrix (top) and pearlite matrix (bottom) at 500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oidal shape of the graphite nodule is achieved in each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uctile(18)"/>
          <p:cNvPicPr/>
          <p:nvPr/>
        </p:nvPicPr>
        <p:blipFill>
          <a:blip r:embed="rId1"/>
          <a:stretch/>
        </p:blipFill>
        <p:spPr>
          <a:xfrm>
            <a:off x="5545080" y="973080"/>
            <a:ext cx="274968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5520" y="5283360"/>
            <a:ext cx="814716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ular cast i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globular%20castiron"/>
          <p:cNvPicPr/>
          <p:nvPr/>
        </p:nvPicPr>
        <p:blipFill>
          <a:blip r:embed="rId1"/>
          <a:stretch/>
        </p:blipFill>
        <p:spPr>
          <a:xfrm>
            <a:off x="1363680" y="988920"/>
            <a:ext cx="6391080" cy="42609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C Uni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1" descr="scan1-2"/>
          <p:cNvPicPr/>
          <p:nvPr/>
        </p:nvPicPr>
        <p:blipFill>
          <a:blip r:embed="rId1"/>
          <a:stretch/>
        </p:blipFill>
        <p:spPr>
          <a:xfrm>
            <a:off x="1895400" y="1057320"/>
            <a:ext cx="483552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C Uni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scan2"/>
          <p:cNvPicPr/>
          <p:nvPr/>
        </p:nvPicPr>
        <p:blipFill>
          <a:blip r:embed="rId1"/>
          <a:stretch/>
        </p:blipFill>
        <p:spPr>
          <a:xfrm>
            <a:off x="1793880" y="1065240"/>
            <a:ext cx="585324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Equilibrium Phas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339920"/>
            <a:ext cx="402264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mapping of the natural tendencies of a material or a material system (equilibrium for all possible conditio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variables: temperature, pressure and com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-T diagram (the simple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PT(1)"/>
          <p:cNvPicPr/>
          <p:nvPr/>
        </p:nvPicPr>
        <p:blipFill>
          <a:blip r:embed="rId1"/>
          <a:stretch/>
        </p:blipFill>
        <p:spPr>
          <a:xfrm>
            <a:off x="4376880" y="1289160"/>
            <a:ext cx="46177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3 Temperature-Composition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02920"/>
            <a:ext cx="380988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processes conducted at atmospheric pressure (P/T variatio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: temperature-composition phase dia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Mapping(1)"/>
          <p:cNvPicPr/>
          <p:nvPr/>
        </p:nvPicPr>
        <p:blipFill>
          <a:blip r:embed="rId1"/>
          <a:stretch/>
        </p:blipFill>
        <p:spPr>
          <a:xfrm>
            <a:off x="4559400" y="1407960"/>
            <a:ext cx="4584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Cooling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116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ing curves for NaCl-H20 combin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oolingcurve(3)"/>
          <p:cNvPicPr/>
          <p:nvPr/>
        </p:nvPicPr>
        <p:blipFill>
          <a:blip r:embed="rId1"/>
          <a:stretch/>
        </p:blipFill>
        <p:spPr>
          <a:xfrm>
            <a:off x="1028880" y="1630440"/>
            <a:ext cx="72864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Cooling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24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equilibrium diagram of NaCl-H20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PartialeqDiag(4)"/>
          <p:cNvPicPr/>
          <p:nvPr/>
        </p:nvPicPr>
        <p:blipFill>
          <a:blip r:embed="rId1"/>
          <a:stretch/>
        </p:blipFill>
        <p:spPr>
          <a:xfrm>
            <a:off x="382680" y="2508120"/>
            <a:ext cx="840564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Solu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02920"/>
            <a:ext cx="800748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bility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of solubility determines proper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-Two metals completely soluble i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- Two metals soluble in liquid state and insoluble in solid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-Two metals soluble in liquid state and partially soluble in solid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Complete Solu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24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per-Nickel equilibrium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CopperNklDiag(6)"/>
          <p:cNvPicPr/>
          <p:nvPr/>
        </p:nvPicPr>
        <p:blipFill>
          <a:blip r:embed="rId1"/>
          <a:stretch/>
        </p:blipFill>
        <p:spPr>
          <a:xfrm>
            <a:off x="777960" y="1871640"/>
            <a:ext cx="7278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7T04:02:28Z</dcterms:created>
  <dc:creator>Simon and Kelly Bickerton</dc:creator>
  <dc:description/>
  <dc:language>en-US</dc:language>
  <cp:lastModifiedBy>sopousek</cp:lastModifiedBy>
  <cp:lastPrinted>2002-12-01T22:28:42Z</cp:lastPrinted>
  <dcterms:modified xsi:type="dcterms:W3CDTF">2019-04-23T12:56:56Z</dcterms:modified>
  <cp:revision>244</cp:revision>
  <dc:subject/>
  <dc:title>Advanced Materials Manufacturing</dc:title>
</cp:coreProperties>
</file>