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2770-A485-4DF4-BE12-A189A36F9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0224-63A5-4871-9BB7-645921133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12A7-7A9A-4435-AE4D-85F10C6B5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3ED7-2888-4522-B8F2-426122A22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D848-220C-46EB-8BFC-8D1AD7DE6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3B00-A804-40D7-A682-9C951311B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16F5-CF83-406C-AB23-4844A22A4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3E5C-AE44-4CCB-ABBA-C46A71F7F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52B7-D88E-42D8-B1A9-170F0340F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3B2B-630C-4D1B-9EF3-DF01E6DA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C7C9-B192-4E9E-84E6-ADA5E9AA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29C4-0D5C-43D2-B754-CDD464AE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EF06E-B401-4FC6-B440-F163A19720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D7B47-DB9B-4C6B-B7C0-EB05E68477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Čtverec kružítk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ento trojúhelník je rovnoramenný, a proto výška půlí základn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Z Pythagorovy věty potom pro délku této výš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LN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platí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5837040" cy="4892400"/>
          </a:xfrm>
          <a:prstGeom prst="rect">
            <a:avLst/>
          </a:prstGeom>
          <a:ln w="0">
            <a:noFill/>
          </a:ln>
        </p:spPr>
      </p:pic>
      <p:sp>
        <p:nvSpPr>
          <p:cNvPr id="7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 to jsme potřebovali. Možný postup 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sou dány bo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vrcholy pravidelného šestiúhelníku vepsaného do kružnice o poloměr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 = │AB 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nad průměrem této kružnice vrchol rovnoramenného trojúhelníku s rameny dlouhými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│AB│∙√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délku jeho výšky k základně a vzdálenost mezi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jako poloměry dvou kružnic opsaných z bod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esp.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 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, a sestrojíme tak 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estrojíme např. na průsečíku kružnic se stře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 poloměr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Řešení najdete na další straně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583320" cy="6116760"/>
          </a:xfrm>
          <a:prstGeom prst="rect">
            <a:avLst/>
          </a:prstGeom>
          <a:ln w="0">
            <a:noFill/>
          </a:ln>
        </p:spPr>
      </p:pic>
      <p:sp>
        <p:nvSpPr>
          <p:cNvPr id="78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Jsou dány body A a B. Sestrojte vrcholy C a D čtverce ABCD pouze s použitím kružítk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ástupný symbol pro zápatí 3"/>
          <p:cNvSpPr/>
          <p:nvPr/>
        </p:nvSpPr>
        <p:spPr>
          <a:xfrm>
            <a:off x="642960" y="637704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Bookman Old Style"/>
              </a:rPr>
              <a:t>Mascheronské konstru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Ital Lorenzo Mascheroni dokázal, že všechny konstrukce bodů, k jejichž sestrojení je třeba kružítka a pravítka lze sestrojit pouze kružítk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 to pracnější, zato delší post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dnu „mascheronskou“ konstrukci už znáte. Kter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estrojte vrcholy pravidelného šestiúhelníku vepsaného do dané kružn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969080" cy="4549680"/>
          </a:xfrm>
          <a:prstGeom prst="rect">
            <a:avLst/>
          </a:prstGeom>
          <a:ln w="0">
            <a:noFill/>
          </a:ln>
        </p:spPr>
      </p:pic>
      <p:sp>
        <p:nvSpPr>
          <p:cNvPr id="5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Pokusíme se odvodit konstrukci vrcholů čtverce pomocí jeho vlastností a využije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i znalost sestrojení šestiúhelní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a všechny výpočty si vystačí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 Pythagorovou vět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ejdříve provedeme několik výpočt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řiřaďte délky a úhly k úsečkám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v obrazcích, je-li a =│AB │= │EF 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652320" y="1600200"/>
            <a:ext cx="78393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Řeš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63400" y="1600200"/>
            <a:ext cx="80154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ozor na chyb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a obrázku to vypadá, že velikost úseč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EI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(červená) je rovna 7mi základním dílkům rastru pozadí (stran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měří 4 dílky), ale ve skutečnosti je její délka rov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√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3 =a ∙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1,73205080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995640" y="2637000"/>
            <a:ext cx="3735360" cy="3342960"/>
          </a:xfrm>
          <a:prstGeom prst="rect">
            <a:avLst/>
          </a:prstGeom>
          <a:ln w="0">
            <a:noFill/>
          </a:ln>
        </p:spPr>
      </p:pic>
      <p:sp>
        <p:nvSpPr>
          <p:cNvPr id="65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346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yní se můžeme pustit do původní úloh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it vrcholy čtverce kružítkem znamená mít k dispozici dvě délky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élka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e dána umístěním bodů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čtverce, zbývá tedy sestrojit úsečku o velikosti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následující trojúhelník, jehož velikosti stran můžeme přenést z pravidelného šestiúhelní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995640" y="404640"/>
            <a:ext cx="4802400" cy="5616720"/>
          </a:xfrm>
          <a:prstGeom prst="rect">
            <a:avLst/>
          </a:prstGeom>
          <a:ln w="0">
            <a:noFill/>
          </a:ln>
        </p:spPr>
      </p:pic>
      <p:sp>
        <p:nvSpPr>
          <p:cNvPr id="69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7:27:27Z</dcterms:created>
  <dc:creator>Mgr. David Hanzlíček</dc:creator>
  <dc:description>Dostupné z Metodického portálu www.rvp.cz, ISSN: 1802-4785, financovaného z ESF a státního rozpočtu ČR. Provozováno Výzkumným ústavem pedagogickým v Praze.</dc:description>
  <dc:language>en-US</dc:language>
  <cp:lastModifiedBy>Martin Klzo</cp:lastModifiedBy>
  <dcterms:modified xsi:type="dcterms:W3CDTF">2010-08-09T11:09:04Z</dcterms:modified>
  <cp:revision>14</cp:revision>
  <dc:subject/>
  <dc:title>Čtverec kružítkem</dc:title>
</cp:coreProperties>
</file>