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3216765"/>
        <c:axId val="47842965"/>
      </c:scatterChart>
      <c:valAx>
        <c:axId val="4321676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842965"/>
        <c:crosses val="autoZero"/>
        <c:crossBetween val="midCat"/>
        <c:majorUnit val="1"/>
      </c:valAx>
      <c:valAx>
        <c:axId val="47842965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21676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41110589"/>
        <c:axId val="87048060"/>
      </c:scatterChart>
      <c:valAx>
        <c:axId val="4111058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048060"/>
        <c:crosses val="autoZero"/>
        <c:crossBetween val="midCat"/>
        <c:majorUnit val="1"/>
      </c:valAx>
      <c:valAx>
        <c:axId val="87048060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11058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89553596"/>
        <c:axId val="74289316"/>
      </c:scatterChart>
      <c:valAx>
        <c:axId val="89553596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4289316"/>
        <c:crosses val="autoZero"/>
        <c:crossBetween val="midCat"/>
        <c:majorUnit val="2"/>
        <c:minorUnit val="1"/>
      </c:valAx>
      <c:valAx>
        <c:axId val="74289316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9553596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1901549"/>
        <c:axId val="52076097"/>
      </c:scatterChart>
      <c:valAx>
        <c:axId val="9190154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076097"/>
        <c:crosses val="autoZero"/>
        <c:crossBetween val="midCat"/>
        <c:majorUnit val="2"/>
        <c:minorUnit val="0.05"/>
      </c:valAx>
      <c:valAx>
        <c:axId val="5207609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90154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33059572"/>
        <c:axId val="49649574"/>
      </c:scatterChart>
      <c:valAx>
        <c:axId val="3305957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649574"/>
        <c:crosses val="autoZero"/>
        <c:crossBetween val="midCat"/>
        <c:majorUnit val="2"/>
        <c:minorUnit val="0.05"/>
      </c:valAx>
      <c:valAx>
        <c:axId val="4964957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05957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6432161"/>
        <c:axId val="75201376"/>
      </c:scatterChart>
      <c:valAx>
        <c:axId val="9643216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201376"/>
        <c:crosses val="autoZero"/>
        <c:crossBetween val="midCat"/>
        <c:majorUnit val="2"/>
        <c:minorUnit val="0.05"/>
      </c:valAx>
      <c:valAx>
        <c:axId val="7520137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643216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8007589"/>
        <c:axId val="87957744"/>
      </c:scatterChart>
      <c:valAx>
        <c:axId val="3800758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957744"/>
        <c:crosses val="autoZero"/>
        <c:crossBetween val="midCat"/>
        <c:majorUnit val="2"/>
      </c:valAx>
      <c:valAx>
        <c:axId val="8795774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00758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2966520"/>
        <c:axId val="52766037"/>
      </c:scatterChart>
      <c:valAx>
        <c:axId val="5296652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766037"/>
        <c:crosses val="autoZero"/>
        <c:crossBetween val="midCat"/>
        <c:majorUnit val="2"/>
      </c:valAx>
      <c:valAx>
        <c:axId val="5276603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96652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57316663"/>
        <c:axId val="19551922"/>
      </c:scatterChart>
      <c:valAx>
        <c:axId val="5731666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9551922"/>
        <c:crosses val="autoZero"/>
        <c:crossBetween val="midCat"/>
        <c:majorUnit val="2"/>
        <c:minorUnit val="0.05"/>
      </c:valAx>
      <c:valAx>
        <c:axId val="1955192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31666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F267FE-B5C4-439A-AA1C-F418E350D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0D4E8F-1B13-417E-9A07-F214E4E23FF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277F55-C44A-4541-9C93-A06ED8DE257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4F76B2-5BE6-4474-8681-D9C5199FE361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