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9285174"/>
        <c:axId val="72429248"/>
      </c:scatterChart>
      <c:valAx>
        <c:axId val="8928517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429248"/>
        <c:crosses val="autoZero"/>
        <c:crossBetween val="midCat"/>
        <c:majorUnit val="1"/>
      </c:valAx>
      <c:valAx>
        <c:axId val="72429248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28517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87189748"/>
        <c:axId val="89005328"/>
      </c:scatterChart>
      <c:valAx>
        <c:axId val="8718974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005328"/>
        <c:crosses val="autoZero"/>
        <c:crossBetween val="midCat"/>
        <c:majorUnit val="1"/>
      </c:valAx>
      <c:valAx>
        <c:axId val="8900532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18974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3112337"/>
        <c:axId val="55177236"/>
      </c:scatterChart>
      <c:valAx>
        <c:axId val="5311233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5177236"/>
        <c:crosses val="autoZero"/>
        <c:crossBetween val="midCat"/>
        <c:majorUnit val="2"/>
        <c:minorUnit val="1"/>
      </c:valAx>
      <c:valAx>
        <c:axId val="5517723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311233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849564"/>
        <c:axId val="52096982"/>
      </c:scatterChart>
      <c:valAx>
        <c:axId val="684956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096982"/>
        <c:crosses val="autoZero"/>
        <c:crossBetween val="midCat"/>
        <c:majorUnit val="2"/>
        <c:minorUnit val="0.05"/>
      </c:valAx>
      <c:valAx>
        <c:axId val="5209698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4956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7651567"/>
        <c:axId val="11192064"/>
      </c:scatterChart>
      <c:valAx>
        <c:axId val="6765156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192064"/>
        <c:crosses val="autoZero"/>
        <c:crossBetween val="midCat"/>
        <c:majorUnit val="2"/>
        <c:minorUnit val="0.05"/>
      </c:valAx>
      <c:valAx>
        <c:axId val="1119206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65156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4848104"/>
        <c:axId val="16262137"/>
      </c:scatterChart>
      <c:valAx>
        <c:axId val="1484810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262137"/>
        <c:crosses val="autoZero"/>
        <c:crossBetween val="midCat"/>
        <c:majorUnit val="2"/>
        <c:minorUnit val="0.05"/>
      </c:valAx>
      <c:valAx>
        <c:axId val="1626213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84810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5281557"/>
        <c:axId val="89266452"/>
      </c:scatterChart>
      <c:valAx>
        <c:axId val="7528155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266452"/>
        <c:crosses val="autoZero"/>
        <c:crossBetween val="midCat"/>
        <c:majorUnit val="2"/>
      </c:valAx>
      <c:valAx>
        <c:axId val="8926645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281557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763573"/>
        <c:axId val="69350208"/>
      </c:scatterChart>
      <c:valAx>
        <c:axId val="676357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350208"/>
        <c:crosses val="autoZero"/>
        <c:crossBetween val="midCat"/>
        <c:majorUnit val="2"/>
      </c:valAx>
      <c:valAx>
        <c:axId val="6935020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6357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0320848"/>
        <c:axId val="92911683"/>
      </c:scatterChart>
      <c:valAx>
        <c:axId val="4032084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911683"/>
        <c:crosses val="autoZero"/>
        <c:crossBetween val="midCat"/>
        <c:majorUnit val="2"/>
        <c:minorUnit val="0.05"/>
      </c:valAx>
      <c:valAx>
        <c:axId val="9291168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32084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D2CF64-DA41-49A4-A71A-9C1803D37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C42BF2-AE72-458A-82EB-FAA94ADBC56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853184-02FA-4891-973F-214FA7E4015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F87598-1FB2-495E-ABFB-366B72F8E62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