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png" ContentType="image/pn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59F-0B49-4E1A-8177-FD96A10F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683-26F9-44EE-885A-6FBD86B7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A5E-BF21-4CA4-AAE1-27A388B0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9EC-0645-4142-8865-DF634D6D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5CC-59B7-430E-BA56-D2E024E2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FDB-217C-417A-8D65-9A2E2AD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C4B-292D-4602-A643-C3ACEFD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D60-210B-4769-9CA6-D49A54B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CC5-5C86-4F07-A17B-CE4213AF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CD2-F52E-48B6-BCA3-7CCBFA2C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429-95D7-40D0-A048-9F7D5673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2E2-15A3-427C-87D5-7484DCA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08FD-0B06-490D-8FF4-EA64B431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science-press.com/browse/cellcycle/illustrations/2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uniovi.es/bos/Asignaturas/Botanica/9.htm" TargetMode="External"/><Relationship Id="rId5" Type="http://schemas.openxmlformats.org/officeDocument/2006/relationships/hyperlink" Target="http://www.uniovi.es/bos/Asignaturas/Botanica/9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http://ocwus.us.es/produccion-vegetal/sanidad-vegetal/Sanidad_vegetal/Tema%2021_HTML/page_09.htm" TargetMode="External"/><Relationship Id="rId4" Type="http://schemas.openxmlformats.org/officeDocument/2006/relationships/hyperlink" Target="http://ocwus.us.es/produccion-vegetal/sanidad-vegetal/Sanidad_vegetal/Tema%2021_HTML/page_09.htm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mmanster.eu/commanster/Mushrooms/Asco/SpAsco/Taphrina.betulina.html" TargetMode="External"/><Relationship Id="rId7" Type="http://schemas.openxmlformats.org/officeDocument/2006/relationships/hyperlink" Target="http://www.commanster.eu/commanster/Mushrooms/Asco/SpAsco/Taphrina.betulina.html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nature-diary.co.uk/2005-09-16c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http://www.uniovi.es/bos/Asignaturas/Botanica/9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ygomycetes.org/index.php?id=9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med.ncku.edu.tw/HsuML/mycology/&#22294;&#29255;/Zygospores_of_Mucorales_drawing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Dikarya - Ascomycota: Taphrinomycotina, Sacchar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83822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APHR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parafyletická skupina, "slepená" na základě molekulárních analý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na bázi vývoje vřeckatých h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CHIZOSACCHA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cky podobná tří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aky v sekvencích DN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NA ukazují spí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ost s dalšími řády než s pravými kvasin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jednotlivé buň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vláknité ty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saccharomyces pom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ýroba "afrického piva" z p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saccharomyces oct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e fících a hroznech (kvašení v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10360"/>
            <a:ext cx="396216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rovnání způsobů tvorby nových buněk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a) pučení u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accharomyces cerevisi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) dělení buně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chizosaccharomyces pom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ew-science-press.com/browse/cellcycle/illustrations/2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32092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>
            <a:off x="456840" y="4572000"/>
            <a:ext cx="4457880" cy="191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65760" y="46274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http://www.uniovi.es/b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5"/>
              </a:rPr>
              <a:t>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01200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7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APHR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parazité rostlin, liší se od předchozích tříd (i od druhé čeledi v této třídě) tvorbou dikaryotického parazitického myc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306440"/>
            <a:ext cx="4470120" cy="522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320840"/>
            <a:ext cx="48006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idní fáze je saprofyt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vasinkovité buňky =&gt; kopulace vypučivších blastospor nebo párování jader v pseudomyceliu =&gt; dikaryotické mycelium (parazitické, 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; netvoří se gametangia ani as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ní hyfy), vytváří na povrchu hostitele chlamydospor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ch karyog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rozdělení v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ální degeneruje, z terminální se vyvine vřecko s dvojvrstevnou stěnou =&gt; spory se uvolňují pod tlakem štěrbinou =&gt; zase pučí (mohou se takto pomnožit už ve vřec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4038480" cy="131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572000"/>
            <a:ext cx="5562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hluk askogenních buněk; J: 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aphrina de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řecka se sporami na povrchu lis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Genera of Asc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ycetes, vol. II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04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38862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 de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kadeřavost listů broskvo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kresba: a. listy, b. vřecka, c. 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+ foto vpravo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pr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uchoř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zrávající a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tvořené pl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ivo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uprostřed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cerasi, T. bet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uj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ech pupenů, způsobují tvorbu čarověníků (zmnožení vě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vlevo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3_taphrina-obr" descr=""/>
          <p:cNvPicPr/>
          <p:nvPr/>
        </p:nvPicPr>
        <p:blipFill>
          <a:blip r:embed="rId1"/>
          <a:stretch/>
        </p:blipFill>
        <p:spPr>
          <a:xfrm>
            <a:off x="4114800" y="322200"/>
            <a:ext cx="4649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26_taphrina-deformans" descr=""/>
          <p:cNvPicPr/>
          <p:nvPr/>
        </p:nvPicPr>
        <p:blipFill>
          <a:blip r:embed="rId2"/>
          <a:stretch/>
        </p:blipFill>
        <p:spPr>
          <a:xfrm>
            <a:off x="5943600" y="3321000"/>
            <a:ext cx="275760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0642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ocwus.us.es/produccion-vegetal/sanidad-vege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/Sanidad_vegetal/Tema%2021_HTML/page_0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7_taphrina-betulina" descr=""/>
          <p:cNvPicPr/>
          <p:nvPr/>
        </p:nvPicPr>
        <p:blipFill>
          <a:blip r:embed="rId5"/>
          <a:stretch/>
        </p:blipFill>
        <p:spPr>
          <a:xfrm>
            <a:off x="479520" y="4000680"/>
            <a:ext cx="2971800" cy="198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60642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A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SpAsco/Taphrina.betuli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8_taphrina-pruni" descr=""/>
          <p:cNvPicPr/>
          <p:nvPr/>
        </p:nvPicPr>
        <p:blipFill>
          <a:blip r:embed="rId8"/>
          <a:stretch/>
        </p:blipFill>
        <p:spPr>
          <a:xfrm>
            <a:off x="3511440" y="3321000"/>
            <a:ext cx="238464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606420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nature-diary.co.uk/2005-09-16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t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ostlin s mezibuněčným, přehrádkovaným myceliem s mnohojadernými buňkami, zjištěna u nich celulóza v buněčné stěn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se vytvářejí interkalárně tlustostěnné chlamydospory s dvouvrstevnou st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 přezimování praská vnější exospor, vyhřezne endospor =&gt; je z něj meiosporangium =&gt; meioza =&gt; čtveřice jader vzniklých dělením jednotlivých jader představují "bezblanné vřecko", celý útvar se nazývá synaskus =&gt; tlakem zvětšující se vakuoly jsou jádra vypuzena ze synasku =&gt; buď se množí pučení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kopulují =&gt; diploidní mycelium =&gt; dalš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s macr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razit miřík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030480" cy="224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9520" y="2590920"/>
            <a:ext cx="1993680" cy="37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5283360"/>
            <a:ext cx="36417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„hálky“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bršlici; uprostřed a. „hálky“, b. průřez hálkou, c. chlamydospory - askogenní buňky, d. uvolnění vřecka, e. ask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Kresba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627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Carl Farmer, http: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www.nature-diary.co.uk/2007-09-1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43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452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CCHA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CCHAROMYCE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VASI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387360"/>
            <a:ext cx="3657600" cy="111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41280"/>
            <a:ext cx="8382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statné buňky nebo pučivé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, převažuje nepohlavní rozmnožování (tvorba blasto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saprofyté, jejich fermentace cukrů (rozklad na etanol a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téza různých organických látek jsou bohatě využívány v bio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08120"/>
            <a:ext cx="4567320" cy="343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3044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s cerevisi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vasinka pivní) - výroba piva, droždí; haplo-diplobiotický cyklus, v kultuře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buňk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tvorba arthrospor (mycelium se rozpadá na úseky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od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áknité endofytické mycelium, zvláštností je kop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1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í; na podobnosti pohlavního procesu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 (Zygomycete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a teorie o vývinu této skupiny právě od předků spájiv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9436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r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ebaryomyce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anseni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eget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uňky,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učení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o,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a; dol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podascu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id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celium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a, d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y.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378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2880" y="38088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somatogamické (vzácněji kopulují gametangia nebo aplanogamety) =&gt; v zygotě je pouze 1 jádro (splývaly-li vícejaderné buňky, ostatní jádra degenerují) =&gt; vřec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nikají přímo ze zygoty (holozygotní) nebo jako výrůstek ze zygoty (exozygotní druhy) nebo ze zygoty vyroste diploidní myceliu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vytvoří vřecka =&gt; spory se uvolní rozpadem vřecka nebo pórem na vrchol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u různých druhů haplobiotický, haplo-diplobiotický (převážně izomorfická rodozm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diplobio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o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4459320" cy="288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45932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4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4214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7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75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70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794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41360"/>
            <a:ext cx="5943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u někt. druhů se v tekutých médiích vytvoří přehrádky nebo mycelium rozpadne na buňky =&gt;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porangia mnohosporová (až 1000 spor), u odvozenějších typů méně spor ve sporangiu (až jedna =&gt;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ětšinou saprofyté na půdě, trusu, potravinách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ěchomršť –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užití: fermentace cukrů a bílkovin, výroba různých organick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464160" y="3364920"/>
            <a:ext cx="449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ed.ncku.edu.tw/HsuML/mycology/圖片/Zygospores_of_Mucorales_draw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C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70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305160"/>
            <a:ext cx="838224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zemní druhy, starší mycelia přehrádkovan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nestejně velká gamet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se tvoří na tzv. epigoniu - výrůst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ího gametangia =&gt; jsou hustě obaleny hyf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o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iný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ažovaný svého času jako možný vývojový předchů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řeckat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odvozené zna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y v myceliu, tvor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okarp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dálení plazmogamie a kary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gamie předchází karyogamii, ale nelze ještě hovořit o skutečné dikaryofá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n párování jader v mladé zygospo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tier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ůdní saprofyté bez kolumely ve sporan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000240"/>
            <a:ext cx="2857320" cy="18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97200" y="2924280"/>
            <a:ext cx="29718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dogone lactiflu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p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. Trappe, http://www.natruffling.org/enla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691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386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382240" cy="69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A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pa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hub, prvoků a živočic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ICKXELL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argar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aktéž parazité, pro změnu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ou půdní nebo koprofilní saprofyté, jejich sporangia se tvoří na specializovaných větvích zvaných sporokla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 pohlavní proces a tvorba zyg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žijí v larvách sladkovodního hmyzu, podobné znaky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el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. proces pozorov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nezná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ují se arthrosporami, žijí na korýších nebo chvostoskocí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dva řády mají společnou ekolog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jí v zažívacím traktu členov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 byly dříve řazeny do samostatné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rich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mycelium je pouze přichyceno na stě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oniká do buněk; pravděpodobně jsou komenzál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řiživují se na potravě živočich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bázi red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a je speciální přichycovací apará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žení bun. stěny různé u růz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itin, glukosamin, galaktosam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 sporangiospory, arthrospory (rozpad vláken), u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icho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sporová sporangia s přívěsky (spojeny se stěnou sporangia), po dozrání vystřelov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454" t="0" r="0" b="12980"/>
          <a:stretch/>
        </p:blipFill>
        <p:spPr>
          <a:xfrm>
            <a:off x="6377040" y="3578400"/>
            <a:ext cx="2314440" cy="175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2520" y="51595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bsu.edu/classes/ruch/msa/litchwart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57960" y="354636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Arial"/>
              </a:rPr>
              <a:t>mycelium s trichospora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Stachvl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pedi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657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11440"/>
            <a:ext cx="83822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 mus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vodce mušího moru (sporangium vyklíčí na povrchu těla mouchy ve vlákno =&gt; vroste dovnitř =&gt; rozroste se a rozpadne na hyfová tělíska; moucha uhyne =&gt; na povrch těla vyrostou sporangiofory =&gt; vytvoří se a jsou odmrštěna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7717" t="23329" r="17717" b="0"/>
          <a:stretch/>
        </p:blipFill>
        <p:spPr>
          <a:xfrm>
            <a:off x="5940360" y="457200"/>
            <a:ext cx="280188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13280" y="22780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botit.botany.wisc.edu/toms_fungi/mar2000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10163" b="0"/>
          <a:stretch/>
        </p:blipFill>
        <p:spPr>
          <a:xfrm>
            <a:off x="457200" y="3822840"/>
            <a:ext cx="2048040" cy="22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5240" y="3822840"/>
            <a:ext cx="3487680" cy="223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1063" t="0" r="21260" b="0"/>
          <a:stretch/>
        </p:blipFill>
        <p:spPr>
          <a:xfrm>
            <a:off x="5981760" y="3822840"/>
            <a:ext cx="2762280" cy="223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5559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NTOMOPHTH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v dospělosti přehrádkované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y zástupců se rozpadá na tzv. hyfová tělíska (mohou spolu i somatogamicky kopulova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onosporická, odmršťovaná pod tla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kul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rostlin, hub nebo živočichů (i lidí), především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524400"/>
            <a:ext cx="586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sa sporangií na povrchu těla mouchy, nahoře sporul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1000" y="3757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uoguelph.ca/~gbarron/MISCELLANEOUS/entomoph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0" y="6165720"/>
            <a:ext cx="8424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asidiobo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aprofyté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trusu žab), asi příbuzní chytr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52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516640"/>
            <a:ext cx="83822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ekologii má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má ve své sté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ymbiotické endocyane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važován za jediný lichenizovaný druh, jehož mykobiontem je jiná houba než vřeckatá nebo stopkovýtrus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44960" cy="399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18772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3787920"/>
            <a:ext cx="156384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38088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= VAM; má ji asi 80 % cévnatých rostlin): mycelium proniká do 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54680" y="1998000"/>
            <a:ext cx="160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956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730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38224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IKARY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VŘECKA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sdružující houby, jejichž výtrusy vznikají ve (více či méně dokonale vyvinutém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atins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žné čísl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o má povahu meiosporangia - zralé vřecko je diploidní buňka, ve které dochází k meiozi při vzniku spor (obvykle je jedinou diploidní buňkou v živ. cykl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se tvoří endogenně, obvykle v počtu 8 v jednom vřecku (po meioze ještě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óza, ale může jich být i jiný poč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mnoha zástupců se vřecka a askospory za normálních podmínek vůbec netvoří a houba žije jen v imperfektním stadiu (anamo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přehrádko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u kvasinek i jednotlivé buňky, resp. jejich kolonie, příp. pučivé pseudomycelium); vegetativní mycelium je haploidní (výjimky opět u kvasin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hrádky mají ve střed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chý pó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jimečně chyb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zástupc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zizomycot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hlavním procesu dochází ke vzniku dikaryotických hyf, tvoříc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ask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 plodnicích pak dochází ke karyogamii v koncových buňká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kogenních hy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 nich vznikají vřec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dikaryotické mycelium se vyskytuje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omyce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á se o nejpočetnější skupinu hub, zahrnující cca 60 % známých taxon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tohoto pododdělení patří většina známých lichenizovaných hub a taktéž většina známých imperfektních hub (žijících pouze jako anamorfy) přísluší 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44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6:17Z</dcterms:modified>
  <cp:revision>179</cp:revision>
  <dc:subject/>
  <dc:title>Snímek 1</dc:title>
</cp:coreProperties>
</file>