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3277308"/>
        <c:axId val="40322093"/>
      </c:scatterChart>
      <c:valAx>
        <c:axId val="7327730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322093"/>
        <c:crosses val="autoZero"/>
        <c:crossBetween val="midCat"/>
        <c:majorUnit val="1"/>
      </c:valAx>
      <c:valAx>
        <c:axId val="40322093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27730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95040033"/>
        <c:axId val="39779802"/>
      </c:scatterChart>
      <c:valAx>
        <c:axId val="9504003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779802"/>
        <c:crosses val="autoZero"/>
        <c:crossBetween val="midCat"/>
        <c:majorUnit val="1"/>
      </c:valAx>
      <c:valAx>
        <c:axId val="3977980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04003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1284508"/>
        <c:axId val="16856843"/>
      </c:scatterChart>
      <c:valAx>
        <c:axId val="1128450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6856843"/>
        <c:crosses val="autoZero"/>
        <c:crossBetween val="midCat"/>
        <c:majorUnit val="2"/>
        <c:minorUnit val="1"/>
      </c:valAx>
      <c:valAx>
        <c:axId val="1685684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128450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5591606"/>
        <c:axId val="85499667"/>
      </c:scatterChart>
      <c:valAx>
        <c:axId val="9559160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499667"/>
        <c:crosses val="autoZero"/>
        <c:crossBetween val="midCat"/>
        <c:majorUnit val="2"/>
        <c:minorUnit val="0.05"/>
      </c:valAx>
      <c:valAx>
        <c:axId val="8549966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59160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4952112"/>
        <c:axId val="21730904"/>
      </c:scatterChart>
      <c:valAx>
        <c:axId val="2495211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730904"/>
        <c:crosses val="autoZero"/>
        <c:crossBetween val="midCat"/>
        <c:majorUnit val="2"/>
        <c:minorUnit val="0.05"/>
      </c:valAx>
      <c:valAx>
        <c:axId val="2173090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95211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8925557"/>
        <c:axId val="74662693"/>
      </c:scatterChart>
      <c:valAx>
        <c:axId val="589255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662693"/>
        <c:crosses val="autoZero"/>
        <c:crossBetween val="midCat"/>
        <c:majorUnit val="2"/>
        <c:minorUnit val="0.05"/>
      </c:valAx>
      <c:valAx>
        <c:axId val="7466269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92555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2104477"/>
        <c:axId val="71729427"/>
      </c:scatterChart>
      <c:valAx>
        <c:axId val="7210447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729427"/>
        <c:crosses val="autoZero"/>
        <c:crossBetween val="midCat"/>
        <c:majorUnit val="2"/>
      </c:valAx>
      <c:valAx>
        <c:axId val="7172942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10447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852082"/>
        <c:axId val="1229194"/>
      </c:scatterChart>
      <c:valAx>
        <c:axId val="885208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29194"/>
        <c:crosses val="autoZero"/>
        <c:crossBetween val="midCat"/>
        <c:majorUnit val="2"/>
      </c:valAx>
      <c:valAx>
        <c:axId val="122919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5208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4013837"/>
        <c:axId val="53005438"/>
      </c:scatterChart>
      <c:valAx>
        <c:axId val="740138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005438"/>
        <c:crosses val="autoZero"/>
        <c:crossBetween val="midCat"/>
        <c:majorUnit val="2"/>
        <c:minorUnit val="0.05"/>
      </c:valAx>
      <c:valAx>
        <c:axId val="5300543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01383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01B9AB-7A6C-4310-89AB-BB3509932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F3EC11-FAB8-43C2-9897-E010B24BA9B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A1A36A-9ACE-4963-8796-6C4D17F110B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0E9D4F-3327-4A9A-B7A3-68B05FDCB09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