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2374482"/>
        <c:axId val="68765808"/>
      </c:scatterChart>
      <c:valAx>
        <c:axId val="5237448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8765808"/>
        <c:crosses val="autoZero"/>
        <c:crossBetween val="midCat"/>
        <c:majorUnit val="1"/>
      </c:valAx>
      <c:valAx>
        <c:axId val="68765808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237448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75249537"/>
        <c:axId val="56684910"/>
      </c:scatterChart>
      <c:valAx>
        <c:axId val="75249537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684910"/>
        <c:crosses val="autoZero"/>
        <c:crossBetween val="midCat"/>
        <c:majorUnit val="1"/>
      </c:valAx>
      <c:valAx>
        <c:axId val="56684910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249537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73538883"/>
        <c:axId val="73160184"/>
      </c:scatterChart>
      <c:valAx>
        <c:axId val="73538883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3160184"/>
        <c:crosses val="autoZero"/>
        <c:crossBetween val="midCat"/>
        <c:majorUnit val="2"/>
        <c:minorUnit val="1"/>
      </c:valAx>
      <c:valAx>
        <c:axId val="73160184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3538883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22700033"/>
        <c:axId val="62901486"/>
      </c:scatterChart>
      <c:valAx>
        <c:axId val="2270003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901486"/>
        <c:crosses val="autoZero"/>
        <c:crossBetween val="midCat"/>
        <c:majorUnit val="2"/>
        <c:minorUnit val="0.05"/>
      </c:valAx>
      <c:valAx>
        <c:axId val="6290148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70003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39103226"/>
        <c:axId val="48500927"/>
      </c:scatterChart>
      <c:valAx>
        <c:axId val="3910322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500927"/>
        <c:crosses val="autoZero"/>
        <c:crossBetween val="midCat"/>
        <c:majorUnit val="2"/>
        <c:minorUnit val="0.05"/>
      </c:valAx>
      <c:valAx>
        <c:axId val="4850092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910322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69427495"/>
        <c:axId val="25111287"/>
      </c:scatterChart>
      <c:valAx>
        <c:axId val="6942749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5111287"/>
        <c:crosses val="autoZero"/>
        <c:crossBetween val="midCat"/>
        <c:majorUnit val="2"/>
        <c:minorUnit val="0.05"/>
      </c:valAx>
      <c:valAx>
        <c:axId val="2511128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942749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0047335"/>
        <c:axId val="26013894"/>
      </c:scatterChart>
      <c:valAx>
        <c:axId val="7004733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6013894"/>
        <c:crosses val="autoZero"/>
        <c:crossBetween val="midCat"/>
        <c:majorUnit val="2"/>
      </c:valAx>
      <c:valAx>
        <c:axId val="2601389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0047335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0659820"/>
        <c:axId val="238884"/>
      </c:scatterChart>
      <c:valAx>
        <c:axId val="5065982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38884"/>
        <c:crosses val="autoZero"/>
        <c:crossBetween val="midCat"/>
        <c:majorUnit val="2"/>
      </c:valAx>
      <c:valAx>
        <c:axId val="23888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659820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27671286"/>
        <c:axId val="75614054"/>
      </c:scatterChart>
      <c:valAx>
        <c:axId val="2767128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614054"/>
        <c:crosses val="autoZero"/>
        <c:crossBetween val="midCat"/>
        <c:majorUnit val="2"/>
        <c:minorUnit val="0.05"/>
      </c:valAx>
      <c:valAx>
        <c:axId val="7561405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767128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410E45-845B-4230-A911-9EFEBD91E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197713-15B5-4B37-B7F3-2646E82E2FA1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24FA4F-A05B-4E83-9F7C-3D0DA4DBBCE5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C0EC43-8321-4B86-B678-F7A3AEE51E1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