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4.png" ContentType="image/png"/>
  <Override PartName="/ppt/media/image21.png" ContentType="image/png"/>
  <Override PartName="/ppt/media/image13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6.jpeg" ContentType="image/jpeg"/>
  <Override PartName="/ppt/media/chimes.wav" ContentType="audio/x-wav"/>
  <Override PartName="/ppt/media/image11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23FF-1AE1-43ED-9D7D-9F2C73703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A26D-D000-4066-8134-7DA106003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7490-0F17-4575-9514-16E45576E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68B0-D4FF-4598-AE50-52F9850AF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6597-BF89-4353-9D11-52273BDDB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BB30-095D-4DD8-B974-F086A6136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FA6C-DE04-4C09-B066-D3F6DB2E0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BDB2-2721-4467-8ADC-E2D512111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20C4-C8D9-404E-B03E-42D5EC166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9BEE-1395-4562-A3D8-404EEEE8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2AC1-F8B0-4019-8951-BC907986E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D4D1-7E51-4457-BC88-DEA1E7B31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92E48-AC87-4A42-B727-D341138794C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20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Arial"/>
                <a:ea typeface="Arial"/>
              </a:rPr>
              <a:t>SKLADBA PC 1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3715920"/>
            <a:ext cx="7993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10253f"/>
                </a:solidFill>
                <a:latin typeface="Arial"/>
                <a:ea typeface="Arial"/>
              </a:rPr>
              <a:t>EU OP VK VYT 2.14 TEST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ovéPole 3"/>
          <p:cNvSpPr/>
          <p:nvPr/>
        </p:nvSpPr>
        <p:spPr>
          <a:xfrm>
            <a:off x="0" y="5457960"/>
            <a:ext cx="914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osef Vlach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Dostupné z Metodického portálu www.rvp.cz, ISSN: 1802–4785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Provozuje Národní ústav pro vzdělávání, školské poradenské zařízení a zařízení pro další vzdělávání pedagogických pracovníků (NÚV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2771640" y="1628640"/>
            <a:ext cx="5661000" cy="3600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276720" y="1170000"/>
            <a:ext cx="5689440" cy="568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323388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600" spc="-1" strike="noStrike">
                <a:solidFill>
                  <a:srgbClr val="ffff00"/>
                </a:solidFill>
                <a:latin typeface="Arial"/>
                <a:ea typeface="Arial"/>
              </a:rPr>
              <a:t>TEST č.1</a:t>
            </a:r>
            <a:endParaRPr b="0" lang="en-US" sz="1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Konec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Řešení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32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it ‒ zn. </a:t>
            </a:r>
            <a:r>
              <a:rPr b="1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Nejmenší jednotka informace dvojkové soustavy – vyjadřuje, že se nějaký systém nacház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jednom ze DVOU možných stavů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(ano – ne, 0–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500" spc="-1" strike="noStrike">
                <a:solidFill>
                  <a:srgbClr val="000000"/>
                </a:solidFill>
                <a:latin typeface="Arial"/>
                <a:ea typeface="Arial"/>
              </a:rPr>
              <a:t>byte – zn. B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loučení 8 bitů – název  „bajt“, kombinac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8 jedniček a nul lze zapsat 256 znaků (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00"/>
                </a:solidFill>
                <a:latin typeface="Arial"/>
                <a:ea typeface="Arial"/>
              </a:rPr>
              <a:t>Počet otázek ‒ 2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K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kilo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M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mega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KB = 1 048 576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G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gigabajt)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MB = 1 048 576 KB = 1 073 741 824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eřská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herbo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Základní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PROCES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SLOT 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PCI EXPRES VG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PARALELNÍ 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AUDIO IN O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LAN + 2x US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EKTOR MYŠ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. KLÁVESN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139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140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141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142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3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144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145" name="Obdélník 11" descr=""/>
          <p:cNvPicPr/>
          <p:nvPr/>
        </p:nvPicPr>
        <p:blipFill>
          <a:blip r:embed="rId8"/>
          <a:stretch/>
        </p:blipFill>
        <p:spPr>
          <a:xfrm>
            <a:off x="297504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6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10" name="chimes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3178080" y="11430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ZDROJ NAPÁJENÍ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TRANSFORMUJE SÍŤOVÉ NAPĚTÍ</a:t>
            </a:r>
            <a:br>
              <a:rPr sz="2200"/>
            </a:b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220 V NA BEZPEČNÉ NAPĚTÍ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12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5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3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PRO NAPÁJENÍ JEDNOTLIVÝCH KOMPONENTŮ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RAM – operační paměť, po odpojení napájení obsah paměti zmizí – obsah paměti NENÍ ulož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MSI nVidia N8400GS-D512H, 512MB DDR2, 64bit, DVI, Fan"/>
          <p:cNvPicPr/>
          <p:nvPr/>
        </p:nvPicPr>
        <p:blipFill>
          <a:blip r:embed="rId1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GA – Grafická karta (PCI Expr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pro převedení numerických hodnot PC na vizuální prostředí – převede data na monitor – výstupní zaříze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3376440" y="1916280"/>
            <a:ext cx="5659560" cy="36003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CPU – proces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o dvoujádrový procesor – zpracovává všechny  zadávané informace – základní prvek P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ÍŤOVÁ KARTA 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vek umožňující zapojení PC do sítí INTRANETU</a:t>
            </a:r>
            <a:br>
              <a:rPr sz="2400"/>
            </a:b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a INTERNETU – zajišťuje komunikaci PC se síťovými prv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provedení PC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HDD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hard drive disc)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– pevný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k ukládání dat – úložiště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ovedení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C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CHLADICÍ PRV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 o kombinaci aktivního a pasivního chlazen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Aktivní – větráč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asivní – blok hliníkového chladič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odvedení nežádoucího tepla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 prvků PC, jako je procesor, koprocesor, grafická karta at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it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HP fotoskener ScanJet G3110"/>
          <p:cNvPicPr/>
          <p:nvPr/>
        </p:nvPicPr>
        <p:blipFill>
          <a:blip r:embed="rId1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SCANER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(SKENER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Vstupní zařízení, které slouží pro digitalizaci obrazových či textových předloh určených k dalšímu zpracování pomocí PC. Pomocí software OCR je možné digitalizovaný text převést do textového editoru a dále jej editova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TISKÁR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ýstupní zařízení – zde je na první pohled vidět, že se jedná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o inkoustovou tiskárnu, primárně určenou na tisk fotografií. Nevýhodou inkoustového tisku je vysoká nákladnost tisku a potřebného spotřebního materiál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HP inkoustová tiskárna DeskJet D2660 (A4, 28 ppm, USB 2.0)"/>
          <p:cNvPicPr/>
          <p:nvPr/>
        </p:nvPicPr>
        <p:blipFill>
          <a:blip r:embed="rId1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WEBKAM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vizualizaci prostředí eventuálně pro vizuální komunikaci pomocí sítě INTRANETU či INTERNET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alší možností jsou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abezpečení pros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álkový dohl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ožnost připojení k PC přímo či pomocí LAN sít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TP-LINK TL-SC3130G, WiFi IP Kamera, 3GPP, 2-way (mikrofon i repro), VGA při 30fps"/>
          <p:cNvPicPr/>
          <p:nvPr/>
        </p:nvPicPr>
        <p:blipFill>
          <a:blip r:embed="rId1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17375e"/>
                </a:solidFill>
                <a:latin typeface="Arial"/>
                <a:ea typeface="Arial"/>
              </a:rPr>
              <a:t>Použité zdro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ovéPole 10"/>
          <p:cNvSpPr/>
          <p:nvPr/>
        </p:nvSpPr>
        <p:spPr>
          <a:xfrm>
            <a:off x="826920" y="1413000"/>
            <a:ext cx="749016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 prezentaci jsou použity obrazové a textové zdroje f. T.S. BOHEMIA s jejím souhlas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Obrázek 11" descr="tsbohemia_logo.gif"/>
          <p:cNvPicPr/>
          <p:nvPr/>
        </p:nvPicPr>
        <p:blipFill>
          <a:blip r:embed="rId1"/>
          <a:stretch/>
        </p:blipFill>
        <p:spPr>
          <a:xfrm>
            <a:off x="2556000" y="3068640"/>
            <a:ext cx="4390920" cy="199692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yte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  <a:ea typeface="Arial"/>
              </a:rPr>
              <a:t>Zapište: </a:t>
            </a:r>
            <a:r>
              <a:rPr b="0" i="1" lang="cs-CZ" sz="6800" spc="-1" strike="noStrike">
                <a:solidFill>
                  <a:srgbClr val="000000"/>
                </a:solidFill>
                <a:latin typeface="Arial"/>
                <a:ea typeface="Arial"/>
              </a:rPr>
              <a:t>běžně používané násobky „byte“ a číselně vyjádřete jejich hodnotu v byte</a:t>
            </a: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62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63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64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65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66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67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68" name="Obdélník 11" descr=""/>
          <p:cNvPicPr/>
          <p:nvPr/>
        </p:nvPicPr>
        <p:blipFill>
          <a:blip r:embed="rId8"/>
          <a:stretch/>
        </p:blipFill>
        <p:spPr>
          <a:xfrm>
            <a:off x="2992320" y="4870440"/>
            <a:ext cx="1330560" cy="1603440"/>
          </a:xfrm>
          <a:prstGeom prst="rect">
            <a:avLst/>
          </a:prstGeom>
          <a:ln w="0">
            <a:noFill/>
          </a:ln>
        </p:spPr>
      </p:pic>
      <p:pic>
        <p:nvPicPr>
          <p:cNvPr id="69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 advTm="60000">
    <p:fade/>
    <p:sndAc>
      <p:stSnd>
        <p:snd r:embed="rId10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2916360" y="11430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06:57:46Z</dcterms:created>
  <dc:creator>vlachj</dc:creator>
  <dc:description>Autorem materiálu a všech jeho částí, není-li uvedeno jinak, je Mgr. Josef Vlach.
Dostupné z Metodického portálu www.rvp.cz, ISSN: 1802–4785. Provozuje Národní ústav pro vzdělávání, školské poradenské zařízení a zařízení pro další vzdělávání pedagogických pracovníků (NÚV).</dc:description>
  <dc:language>en-US</dc:language>
  <cp:lastModifiedBy>Krobot Ivo</cp:lastModifiedBy>
  <dcterms:modified xsi:type="dcterms:W3CDTF">2012-12-13T08:25:07Z</dcterms:modified>
  <cp:revision>43</cp:revision>
  <dc:subject/>
  <dc:title>TEST č.1</dc:title>
</cp:coreProperties>
</file>