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8911607"/>
        <c:axId val="43813241"/>
      </c:scatterChart>
      <c:valAx>
        <c:axId val="88911607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3813241"/>
        <c:crosses val="autoZero"/>
        <c:crossBetween val="midCat"/>
        <c:majorUnit val="1"/>
      </c:valAx>
      <c:valAx>
        <c:axId val="43813241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8911607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81103246"/>
        <c:axId val="26330412"/>
      </c:scatterChart>
      <c:valAx>
        <c:axId val="81103246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6330412"/>
        <c:crosses val="autoZero"/>
        <c:crossBetween val="midCat"/>
        <c:majorUnit val="1"/>
      </c:valAx>
      <c:valAx>
        <c:axId val="26330412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1103246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58410548"/>
        <c:axId val="3128189"/>
      </c:scatterChart>
      <c:valAx>
        <c:axId val="58410548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3128189"/>
        <c:crosses val="autoZero"/>
        <c:crossBetween val="midCat"/>
        <c:majorUnit val="2"/>
        <c:minorUnit val="1"/>
      </c:valAx>
      <c:valAx>
        <c:axId val="3128189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58410548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29020612"/>
        <c:axId val="62834627"/>
      </c:scatterChart>
      <c:valAx>
        <c:axId val="2902061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2834627"/>
        <c:crosses val="autoZero"/>
        <c:crossBetween val="midCat"/>
        <c:majorUnit val="2"/>
        <c:minorUnit val="0.05"/>
      </c:valAx>
      <c:valAx>
        <c:axId val="6283462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902061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92117937"/>
        <c:axId val="10333698"/>
      </c:scatterChart>
      <c:valAx>
        <c:axId val="9211793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0333698"/>
        <c:crosses val="autoZero"/>
        <c:crossBetween val="midCat"/>
        <c:majorUnit val="2"/>
        <c:minorUnit val="0.05"/>
      </c:valAx>
      <c:valAx>
        <c:axId val="1033369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211793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80516397"/>
        <c:axId val="87657312"/>
      </c:scatterChart>
      <c:valAx>
        <c:axId val="8051639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7657312"/>
        <c:crosses val="autoZero"/>
        <c:crossBetween val="midCat"/>
        <c:majorUnit val="2"/>
        <c:minorUnit val="0.05"/>
      </c:valAx>
      <c:valAx>
        <c:axId val="8765731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051639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5220547"/>
        <c:axId val="6398018"/>
      </c:scatterChart>
      <c:valAx>
        <c:axId val="8522054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398018"/>
        <c:crosses val="autoZero"/>
        <c:crossBetween val="midCat"/>
        <c:majorUnit val="2"/>
      </c:valAx>
      <c:valAx>
        <c:axId val="6398018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5220547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20993472"/>
        <c:axId val="99710244"/>
      </c:scatterChart>
      <c:valAx>
        <c:axId val="2099347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9710244"/>
        <c:crosses val="autoZero"/>
        <c:crossBetween val="midCat"/>
        <c:majorUnit val="2"/>
      </c:valAx>
      <c:valAx>
        <c:axId val="99710244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0993472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50296811"/>
        <c:axId val="2781967"/>
      </c:scatterChart>
      <c:valAx>
        <c:axId val="5029681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781967"/>
        <c:crosses val="autoZero"/>
        <c:crossBetween val="midCat"/>
        <c:majorUnit val="2"/>
        <c:minorUnit val="0.05"/>
      </c:valAx>
      <c:valAx>
        <c:axId val="278196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0296811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81C401-E1D8-4C93-BA6A-9820A2AF7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626BFD-1CFE-4F9A-8A60-13515570505B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888CB2-C185-4D7E-ACB5-E8CA42A2C06A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112D05-3325-4A5C-89E1-A02772D30C8C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