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1690601"/>
        <c:axId val="52994576"/>
      </c:scatterChart>
      <c:valAx>
        <c:axId val="5169060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994576"/>
        <c:crosses val="autoZero"/>
        <c:crossBetween val="midCat"/>
        <c:majorUnit val="1"/>
      </c:valAx>
      <c:valAx>
        <c:axId val="5299457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69060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0891185"/>
        <c:axId val="43974764"/>
      </c:scatterChart>
      <c:valAx>
        <c:axId val="1089118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974764"/>
        <c:crosses val="autoZero"/>
        <c:crossBetween val="midCat"/>
        <c:majorUnit val="1"/>
      </c:valAx>
      <c:valAx>
        <c:axId val="4397476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89118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7442474"/>
        <c:axId val="77041390"/>
      </c:scatterChart>
      <c:valAx>
        <c:axId val="97442474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7041390"/>
        <c:crosses val="autoZero"/>
        <c:crossBetween val="midCat"/>
        <c:majorUnit val="2"/>
        <c:minorUnit val="1"/>
      </c:valAx>
      <c:valAx>
        <c:axId val="7704139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7442474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386088"/>
        <c:axId val="93505353"/>
      </c:scatterChart>
      <c:valAx>
        <c:axId val="53860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505353"/>
        <c:crosses val="autoZero"/>
        <c:crossBetween val="midCat"/>
        <c:majorUnit val="2"/>
        <c:minorUnit val="0.05"/>
      </c:valAx>
      <c:valAx>
        <c:axId val="9350535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860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44330524"/>
        <c:axId val="76894678"/>
      </c:scatterChart>
      <c:valAx>
        <c:axId val="4433052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894678"/>
        <c:crosses val="autoZero"/>
        <c:crossBetween val="midCat"/>
        <c:majorUnit val="2"/>
        <c:minorUnit val="0.05"/>
      </c:valAx>
      <c:valAx>
        <c:axId val="7689467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33052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365103"/>
        <c:axId val="18350542"/>
      </c:scatterChart>
      <c:valAx>
        <c:axId val="136510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350542"/>
        <c:crosses val="autoZero"/>
        <c:crossBetween val="midCat"/>
        <c:majorUnit val="2"/>
        <c:minorUnit val="0.05"/>
      </c:valAx>
      <c:valAx>
        <c:axId val="1835054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6510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264378"/>
        <c:axId val="72558109"/>
      </c:scatterChart>
      <c:valAx>
        <c:axId val="726437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558109"/>
        <c:crosses val="autoZero"/>
        <c:crossBetween val="midCat"/>
        <c:majorUnit val="2"/>
      </c:valAx>
      <c:valAx>
        <c:axId val="7255810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6437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9599772"/>
        <c:axId val="71814700"/>
      </c:scatterChart>
      <c:valAx>
        <c:axId val="8959977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814700"/>
        <c:crosses val="autoZero"/>
        <c:crossBetween val="midCat"/>
        <c:majorUnit val="2"/>
      </c:valAx>
      <c:valAx>
        <c:axId val="7181470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59977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3373153"/>
        <c:axId val="29957066"/>
      </c:scatterChart>
      <c:valAx>
        <c:axId val="1337315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957066"/>
        <c:crosses val="autoZero"/>
        <c:crossBetween val="midCat"/>
        <c:majorUnit val="2"/>
        <c:minorUnit val="0.05"/>
      </c:valAx>
      <c:valAx>
        <c:axId val="2995706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37315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D03835-5D4B-4536-9BA4-50DD5D421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3D6E55-D42F-49F7-A80D-911ED511AD1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AEB013-7F1E-4A5F-B897-AB27E9B639A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750D34-740D-431E-9051-61C1A887F8B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