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A920-C022-46FD-B05A-D3730A784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1D4C-E086-4CB0-9F2F-F3B8A41D3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889D-9D45-4495-A816-4F26942EB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D2B6-7FD0-4BFE-B5C4-C01B950B9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37F1A-70EC-40A7-AE04-948913F05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056DF-9C49-4F2C-82CF-A372C88E0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3191B-F641-44BB-9082-92DEDF289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D0EEC-4AF2-4339-93B4-9FCD9F9FB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E1AAF-A59D-448C-B4D5-5E8A0E3E2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93507-BE67-4F0D-8574-996D0B13C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BAD8E-CDF2-4928-8D5E-66B53BF2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0946-E651-4F1C-AFC1-DCE8EB0FE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A629C-1F75-4F1C-AD53-D1EE0344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3859D-E465-4D06-9BDA-5CC07114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AE7D7-5341-45A1-A0AB-89E3D46B8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AE6C8-3078-4130-A235-9B592FA88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FABA9-FAC6-433A-832C-5122BD41D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38D78-409E-4910-BDD0-C88FE024B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E203A-CF07-4890-A57B-8C3629C45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FBAEB-A0BF-447C-8063-2E9D8DBD3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EA4D8-26BF-4D04-8A1F-8243AA6A1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B27EF-9C40-407C-A42C-0EB421D3B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C564-1932-4021-B983-C3C3C5875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1B5E9-AEBE-4A1B-8724-E134882BD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3C700-C820-49F0-A354-D0B51F26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39B1D-77D2-4166-8F97-95F177C4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706F7-E5B1-4E67-A93F-358FD010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09AEC-9E7A-4F88-B705-9384F0B89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470E7-5EE6-4B8C-B711-23009282C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0DF60-F3DA-4589-9DD7-5B6B5CD22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BD84-E344-4CC6-B195-77749FC7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A1D8-3A31-4D9F-8EAB-54EAAC17F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54B5-5C9E-4F59-A620-9903F8614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441B-5FD2-472B-9FD3-05B13F72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BB59-B54D-4547-9C12-11683FDB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EE7E-8D3B-4D13-A920-55D353B5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646C557-7F2B-4CE9-81C3-15F8A53B5D16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F90C194-EC18-4039-9729-046F23A44704}" type="slidenum"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7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275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C88E035-3011-4736-89E4-FC650FB17A13}" type="slidenum">
              <a:rPr b="1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ffice.microsoft.com/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24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26920" y="1844640"/>
            <a:ext cx="7848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KOLA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um, Tanvald, Školní 305, příspěvková organiz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CZ.1.07/1.5.00/34.0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ablony – Gymnázium Tanv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ŠABLON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VI/2 Vytváření podmínek pro rozvoj znalosti, schopností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ovedností v oblasti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UTOR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rmila Moravc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TEMATICKÁ OBLAST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 matematik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ropáčkovi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OŘADOVÉ ČÍSLO DUMu: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ÓD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M_VI/2_FIN_GRAM_MAT_I_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ATUM TVORB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29.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NOTACE (ROČNÍK)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rezentace je určena pro žáky 6.ročníku ZŠ nebo primy víceletých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í.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Seznamuje žáky se základy hospodaření rodiny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ožnostmi úsp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ETODICKÝ POKYN: Prezentace navazuje na dum č. 13 a podrobněji se zabývá možností,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k snížit některé výdaje rodi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0000"/>
                </a:solidFill>
                <a:latin typeface="Times New Roman"/>
              </a:rPr>
              <a:t>Př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181440" y="1773360"/>
            <a:ext cx="9001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33"/>
                </a:solidFill>
                <a:latin typeface="Times New Roman"/>
              </a:rPr>
              <a:t>       </a:t>
            </a:r>
            <a:r>
              <a:rPr b="0" lang="cs-CZ" sz="2200" spc="-1" strike="noStrike">
                <a:solidFill>
                  <a:srgbClr val="000033"/>
                </a:solidFill>
                <a:latin typeface="Times New Roman"/>
              </a:rPr>
              <a:t>Pan Kropáček jezdí do města vzdáleného 15 km od místa bydliště kvůli pracovním povinnostem a nákupům 6 x týdně. Když si cesty lépe zorganizuje pojede pouze 4 x týdně. Spočítejte, kolik ušetří za čtyři týdny za benzín, když spotřeba jeho auta je 5,2 litru na 100 km a cena benzínu, který kupuje je 32,46 Kč. Výsledek zaokrouhlete na celé koruny.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3573360"/>
            <a:ext cx="82296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ýpočet:</a:t>
            </a:r>
            <a:br>
              <a:rPr sz="24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ušetří cest za 4 týdny ………………………2*4 = 8 cest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1 cesta……………………….2 * 15 = 30 km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8 cest………………………..8 * 30 = 240 km</a:t>
            </a:r>
            <a:br>
              <a:rPr sz="8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00 km…….5,2 * 32,46 = 168,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 km………. 168,792 : 100 = 1,68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240 km…… 240 * 1,68792 = 405,10 Kč</a:t>
            </a:r>
            <a:br>
              <a:rPr sz="22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Tatínek za měsíc ( 4 týdny ) ušetří 405 Kč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5013360"/>
            <a:ext cx="7848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Závěr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Dnes jsme našli možnost úspor v nákladech na benzí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rotože se cena benzínu stále zvyšuje, bude možná pan Kropáček potřebovat víc peněz na provoz auta, i když omezil jízdy.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Bude na tom přesto lépe, než kdyby situaci neřešil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S paní Kropáčkovou příště posoudíme její nákup potravi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aní Kropáčková chce přispět do rozpočtu rodiny tím, že omezí služby kadeřníka a návštěvy kosmetiky bude platit z položky „ kapesné rodičů“. Tím ušetří měsíčně 650 Kč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nes se s vámi Kropáčkovi louč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3" name="imgPreview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1258920" y="1844640"/>
            <a:ext cx="5905440" cy="4464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195640" y="5229360"/>
            <a:ext cx="345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Nashledan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7560" y="736560"/>
            <a:ext cx="7948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Times New Roman"/>
              </a:rPr>
              <a:t>použité zdroj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8360">
              <a:spcBef>
                <a:spcPts val="476"/>
              </a:spcBef>
              <a:buClr>
                <a:srgbClr val="000033"/>
              </a:buClr>
              <a:buSzPct val="65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Times New Roman"/>
              </a:rPr>
              <a:t>Obrázky: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326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8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AUTOR NEUVEDEN. </a:t>
            </a:r>
            <a:r>
              <a:rPr b="1" i="1" lang="cs-CZ" sz="1700" spc="-1" strike="noStrike">
                <a:solidFill>
                  <a:srgbClr val="000033"/>
                </a:solidFill>
                <a:latin typeface="Times New Roman"/>
              </a:rPr>
              <a:t>Kliparty Microsoft Office</a:t>
            </a: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 [online]. [cit. 28.11.2012]. Dostupný na WWW: </a:t>
            </a:r>
            <a:r>
              <a:rPr b="0" lang="cs-CZ" sz="17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://office.microsoft.com/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Rodina Kropáčkova chce šetřit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4" name="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3203640" y="2060640"/>
            <a:ext cx="4824360" cy="3673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4360" y="2205000"/>
            <a:ext cx="230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Mami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Tatín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Eli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Davíd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o nás dnes čeká 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můžeme rodině Kropáčkovic hledat úspo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třídíme výdaje do skupi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soudíme situaci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myslíme, kde a kolik chceme ušetři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navrhneme řešení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dělíme úko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vedeme výpočt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Rozhodnutí z minulé hodiny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828440"/>
            <a:ext cx="8435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Kropáčkovi zjistili, že příjmy rodiny se jim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v dohledné době nepodaří zvýšit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Pokusí se tedy snížit výdaje a to asi                                                                                           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o </a:t>
            </a:r>
            <a:r>
              <a:rPr b="1" lang="cs-CZ" sz="2800" spc="-1" strike="noStrike" u="sng">
                <a:solidFill>
                  <a:srgbClr val="cc0000"/>
                </a:solidFill>
                <a:uFillTx/>
                <a:latin typeface="Times New Roman"/>
              </a:rPr>
              <a:t>2 000 až 3 000 Kč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cc0000"/>
                </a:solidFill>
                <a:latin typeface="Times New Roman"/>
              </a:rPr>
              <a:t>Otevřete si sešity si a porovnejte své návrh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479736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4724280"/>
            <a:ext cx="86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72428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44500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75c6d"/>
                </a:solidFill>
                <a:latin typeface="Times New Roman"/>
              </a:rPr>
              <a:t>Jaké položky máte v 1. 2. a 3. sloupc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49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600" spc="-1" strike="noStrike">
                <a:solidFill>
                  <a:srgbClr val="003366"/>
                </a:solidFill>
                <a:latin typeface="Arial"/>
              </a:rPr>
              <a:t>Paní Kropáčková zapsala průměrné měsíční výdaje v Kč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1268280"/>
          <a:ext cx="4038480" cy="5256360"/>
        </p:xfrm>
        <a:graphic>
          <a:graphicData uri="http://schemas.openxmlformats.org/drawingml/2006/table">
            <a:tbl>
              <a:tblPr/>
              <a:tblGrid>
                <a:gridCol w="3166920"/>
                <a:gridCol w="87156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yt: nájem a služ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 42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elektřina: zálo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ojištění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ve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v restaura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telefon, internet, telev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rogerie,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ůj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3 3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716360" y="1268280"/>
          <a:ext cx="4038840" cy="5254920"/>
        </p:xfrm>
        <a:graphic>
          <a:graphicData uri="http://schemas.openxmlformats.org/drawingml/2006/table">
            <a:tbl>
              <a:tblPr/>
              <a:tblGrid>
                <a:gridCol w="3095640"/>
                <a:gridCol w="94320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leč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opr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enzín a au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nihy a kul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škola a krouž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dět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deřník a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stat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219640" y="76500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ůjčky                      3 3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765000"/>
            <a:ext cx="3228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rogerie, kosmetika   6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765000"/>
            <a:ext cx="3228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tel., int., televize      1 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836640"/>
            <a:ext cx="3229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v restauraci        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doma               4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rodičů           2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ve škole        1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765000"/>
            <a:ext cx="3229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ojištění                     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elektřina: záloha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765000"/>
            <a:ext cx="30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yt: nájem             7 420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5254 L -0.32292 0.25185 E">
                                      <p:cBhvr>
                                        <p:cTn id="18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11 0.02315 L -0.3184 0.31713 E">
                                      <p:cBhvr>
                                        <p:cTn id="192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29 0.0125 L -0.32622 0.40116 E">
                                      <p:cBhvr>
                                        <p:cTn id="20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0.00208 L -0.31041 0.46412 E">
                                      <p:cBhvr>
                                        <p:cTn id="20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10717 L -0.55451 0.70555 E">
                                      <p:cBhvr>
                                        <p:cTn id="21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09 0.03356 L -0.54671 0.54815 E">
                                      <p:cBhvr>
                                        <p:cTn id="22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8334 0.44305 E">
                                      <p:cBhvr>
                                        <p:cTn id="23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0368 L 0.06754 0.25717 E">
                                      <p:cBhvr>
                                        <p:cTn id="24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-0.04004 L -0.271 0.63195 E">
                                      <p:cBhvr>
                                        <p:cTn id="24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93 0.03356 L -0.3184 0.77893 E">
                                      <p:cBhvr>
                                        <p:cTn id="25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219640" y="90792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981000"/>
            <a:ext cx="309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statní               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rodičů     1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sport                         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deřník                    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9640" y="907920"/>
            <a:ext cx="309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dětí            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škola a kroužky        4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907920"/>
            <a:ext cx="3168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nihy a kultura         6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907920"/>
            <a:ext cx="309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enzín a auto         1 4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oprava                    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907920"/>
            <a:ext cx="3097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lečení                 1 0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0.025 L -0.27951 0.22454 E">
                                      <p:cBhvr>
                                        <p:cTn id="300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6771 0.28356 E">
                                      <p:cBhvr>
                                        <p:cTn id="30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3681 L 0.0434 0.23635 E">
                                      <p:cBhvr>
                                        <p:cTn id="31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2754 L -0.57483 0.48033 E">
                                      <p:cBhvr>
                                        <p:cTn id="32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8351 0.39907 E">
                                      <p:cBhvr>
                                        <p:cTn id="332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-0.26371 0.53565 E">
                                      <p:cBhvr>
                                        <p:cTn id="34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3542 L -0.57864 0.67986 E">
                                      <p:cBhvr>
                                        <p:cTn id="348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3519 L 0.03542 0.35 E">
                                      <p:cBhvr>
                                        <p:cTn id="35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5504 0.55648 E">
                                      <p:cBhvr>
                                        <p:cTn id="364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5254 L -0.27951 0.75602 E">
                                      <p:cBhvr>
                                        <p:cTn id="3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jídlo do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Maminka se pokusí ušetřit na jídle,které jí rodina doma, ale protože ceny potravin stále rostou, tak nečeká velké úsp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 příště si připraví seznam potravin, které kupu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Společně vybereme, které potraviny jsou pro zdravý jídelníček potřebné a nechceme je omezit a které jsou dokonce nezdravé a omezit bychom je mě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Rodina se shodla, že do restaurace půjdou jen někdy na výletě a tím sníží tento výdaj na polovi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benzín a provoz aut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potřebuje auto ke své práci, proto nemůže příliš omezit jeho provo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Protože se ceny benzínu stále zvyšují, promyslí si lépe trasy svých c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příklad na větší nákup do města nebude jezdit       v sobotu dopoledne, ale nakoupí už v pátek več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si spočítal, že takto ušetří asi 400 Kč měsíčn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5:09:32Z</dcterms:created>
  <dc:creator>herrmannova</dc:creator>
  <dc:description/>
  <dc:language>en-US</dc:language>
  <cp:lastModifiedBy>RNDr. Zdeněk Moravec</cp:lastModifiedBy>
  <dcterms:modified xsi:type="dcterms:W3CDTF">2013-02-01T13:21:36Z</dcterms:modified>
  <cp:revision>70</cp:revision>
  <dc:subject/>
  <dc:title>Snímek 1</dc:title>
</cp:coreProperties>
</file>