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4278664"/>
        <c:axId val="17602189"/>
      </c:scatterChart>
      <c:valAx>
        <c:axId val="74278664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7602189"/>
        <c:crosses val="autoZero"/>
        <c:crossBetween val="midCat"/>
        <c:majorUnit val="1"/>
      </c:valAx>
      <c:valAx>
        <c:axId val="17602189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4278664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99905684"/>
        <c:axId val="19632563"/>
      </c:scatterChart>
      <c:valAx>
        <c:axId val="99905684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9632563"/>
        <c:crosses val="autoZero"/>
        <c:crossBetween val="midCat"/>
        <c:majorUnit val="1"/>
      </c:valAx>
      <c:valAx>
        <c:axId val="19632563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9905684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34955847"/>
        <c:axId val="79505449"/>
      </c:scatterChart>
      <c:valAx>
        <c:axId val="34955847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9505449"/>
        <c:crosses val="autoZero"/>
        <c:crossBetween val="midCat"/>
        <c:majorUnit val="2"/>
        <c:minorUnit val="1"/>
      </c:valAx>
      <c:valAx>
        <c:axId val="79505449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34955847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75702133"/>
        <c:axId val="79015118"/>
      </c:scatterChart>
      <c:valAx>
        <c:axId val="7570213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9015118"/>
        <c:crosses val="autoZero"/>
        <c:crossBetween val="midCat"/>
        <c:majorUnit val="2"/>
        <c:minorUnit val="0.05"/>
      </c:valAx>
      <c:valAx>
        <c:axId val="7901511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70213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7804137"/>
        <c:axId val="29323984"/>
      </c:scatterChart>
      <c:valAx>
        <c:axId val="780413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9323984"/>
        <c:crosses val="autoZero"/>
        <c:crossBetween val="midCat"/>
        <c:majorUnit val="2"/>
        <c:minorUnit val="0.05"/>
      </c:valAx>
      <c:valAx>
        <c:axId val="2932398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0413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14105109"/>
        <c:axId val="71067789"/>
      </c:scatterChart>
      <c:valAx>
        <c:axId val="1410510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067789"/>
        <c:crosses val="autoZero"/>
        <c:crossBetween val="midCat"/>
        <c:majorUnit val="2"/>
        <c:minorUnit val="0.05"/>
      </c:valAx>
      <c:valAx>
        <c:axId val="7106778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10510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2608437"/>
        <c:axId val="63963209"/>
      </c:scatterChart>
      <c:valAx>
        <c:axId val="3260843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3963209"/>
        <c:crosses val="autoZero"/>
        <c:crossBetween val="midCat"/>
        <c:majorUnit val="2"/>
      </c:valAx>
      <c:valAx>
        <c:axId val="63963209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2608437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9222136"/>
        <c:axId val="16679586"/>
      </c:scatterChart>
      <c:valAx>
        <c:axId val="9922213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6679586"/>
        <c:crosses val="autoZero"/>
        <c:crossBetween val="midCat"/>
        <c:majorUnit val="2"/>
      </c:valAx>
      <c:valAx>
        <c:axId val="16679586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9222136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74859646"/>
        <c:axId val="73426517"/>
      </c:scatterChart>
      <c:valAx>
        <c:axId val="7485964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426517"/>
        <c:crosses val="autoZero"/>
        <c:crossBetween val="midCat"/>
        <c:majorUnit val="2"/>
        <c:minorUnit val="0.05"/>
      </c:valAx>
      <c:valAx>
        <c:axId val="7342651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485964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5AEF77-516E-435C-80EE-202A5A2A1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D0D1E2-0D0D-48CB-897B-31BE087C0F7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57558A-546C-434D-B400-D8C72D5C059C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287968-E7F2-44C0-BFCB-32EF0D76E0D3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