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25659750"/>
        <c:axId val="9589824"/>
      </c:scatterChart>
      <c:valAx>
        <c:axId val="2565975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89824"/>
        <c:crosses val="autoZero"/>
        <c:crossBetween val="midCat"/>
        <c:majorUnit val="1"/>
      </c:valAx>
      <c:valAx>
        <c:axId val="9589824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565975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138017"/>
        <c:axId val="70844507"/>
      </c:scatterChart>
      <c:valAx>
        <c:axId val="138017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0844507"/>
        <c:crosses val="autoZero"/>
        <c:crossBetween val="midCat"/>
        <c:majorUnit val="1"/>
      </c:valAx>
      <c:valAx>
        <c:axId val="70844507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38017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17366531"/>
        <c:axId val="63245283"/>
      </c:scatterChart>
      <c:valAx>
        <c:axId val="17366531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3245283"/>
        <c:crosses val="autoZero"/>
        <c:crossBetween val="midCat"/>
        <c:majorUnit val="2"/>
        <c:minorUnit val="1"/>
      </c:valAx>
      <c:valAx>
        <c:axId val="63245283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7366531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76108250"/>
        <c:axId val="81358545"/>
      </c:scatterChart>
      <c:valAx>
        <c:axId val="7610825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1358545"/>
        <c:crosses val="autoZero"/>
        <c:crossBetween val="midCat"/>
        <c:majorUnit val="2"/>
        <c:minorUnit val="0.05"/>
      </c:valAx>
      <c:valAx>
        <c:axId val="8135854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10825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5484488"/>
        <c:axId val="42141444"/>
      </c:scatterChart>
      <c:valAx>
        <c:axId val="548448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2141444"/>
        <c:crosses val="autoZero"/>
        <c:crossBetween val="midCat"/>
        <c:majorUnit val="2"/>
        <c:minorUnit val="0.05"/>
      </c:valAx>
      <c:valAx>
        <c:axId val="4214144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8448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2375576"/>
        <c:axId val="13187864"/>
      </c:scatterChart>
      <c:valAx>
        <c:axId val="4237557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3187864"/>
        <c:crosses val="autoZero"/>
        <c:crossBetween val="midCat"/>
        <c:majorUnit val="2"/>
        <c:minorUnit val="0.05"/>
      </c:valAx>
      <c:valAx>
        <c:axId val="1318786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237557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1468802"/>
        <c:axId val="53446932"/>
      </c:scatterChart>
      <c:valAx>
        <c:axId val="6146880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3446932"/>
        <c:crosses val="autoZero"/>
        <c:crossBetween val="midCat"/>
        <c:majorUnit val="2"/>
      </c:valAx>
      <c:valAx>
        <c:axId val="53446932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1468802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8192172"/>
        <c:axId val="87516784"/>
      </c:scatterChart>
      <c:valAx>
        <c:axId val="4819217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516784"/>
        <c:crosses val="autoZero"/>
        <c:crossBetween val="midCat"/>
        <c:majorUnit val="2"/>
      </c:valAx>
      <c:valAx>
        <c:axId val="8751678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192172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89977087"/>
        <c:axId val="95092385"/>
      </c:scatterChart>
      <c:valAx>
        <c:axId val="8997708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092385"/>
        <c:crosses val="autoZero"/>
        <c:crossBetween val="midCat"/>
        <c:majorUnit val="2"/>
        <c:minorUnit val="0.05"/>
      </c:valAx>
      <c:valAx>
        <c:axId val="9509238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97708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20F656-211E-4057-AE1E-A4F63E706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5A746D-7C72-4831-8D4C-47E3B1636203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EA1982-C7FD-474B-918F-CEEADC0D470C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8E789D-460C-4AAD-BD23-316B23E3B9C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