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4134746"/>
        <c:axId val="4895945"/>
      </c:scatterChart>
      <c:valAx>
        <c:axId val="9413474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95945"/>
        <c:crosses val="autoZero"/>
        <c:crossBetween val="midCat"/>
        <c:majorUnit val="1"/>
      </c:valAx>
      <c:valAx>
        <c:axId val="4895945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13474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3348605"/>
        <c:axId val="69962628"/>
      </c:scatterChart>
      <c:valAx>
        <c:axId val="6334860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962628"/>
        <c:crosses val="autoZero"/>
        <c:crossBetween val="midCat"/>
        <c:majorUnit val="1"/>
      </c:valAx>
      <c:valAx>
        <c:axId val="69962628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34860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76751151"/>
        <c:axId val="57266799"/>
      </c:scatterChart>
      <c:valAx>
        <c:axId val="76751151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7266799"/>
        <c:crosses val="autoZero"/>
        <c:crossBetween val="midCat"/>
        <c:majorUnit val="2"/>
        <c:minorUnit val="1"/>
      </c:valAx>
      <c:valAx>
        <c:axId val="57266799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6751151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3382056"/>
        <c:axId val="99644134"/>
      </c:scatterChart>
      <c:valAx>
        <c:axId val="6338205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644134"/>
        <c:crosses val="autoZero"/>
        <c:crossBetween val="midCat"/>
        <c:majorUnit val="2"/>
        <c:minorUnit val="0.05"/>
      </c:valAx>
      <c:valAx>
        <c:axId val="9964413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38205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26914310"/>
        <c:axId val="37391395"/>
      </c:scatterChart>
      <c:valAx>
        <c:axId val="2691431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391395"/>
        <c:crosses val="autoZero"/>
        <c:crossBetween val="midCat"/>
        <c:majorUnit val="2"/>
        <c:minorUnit val="0.05"/>
      </c:valAx>
      <c:valAx>
        <c:axId val="3739139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91431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5866365"/>
        <c:axId val="80676191"/>
      </c:scatterChart>
      <c:valAx>
        <c:axId val="4586636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676191"/>
        <c:crosses val="autoZero"/>
        <c:crossBetween val="midCat"/>
        <c:majorUnit val="2"/>
        <c:minorUnit val="0.05"/>
      </c:valAx>
      <c:valAx>
        <c:axId val="8067619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86636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6911875"/>
        <c:axId val="42434391"/>
      </c:scatterChart>
      <c:valAx>
        <c:axId val="5691187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434391"/>
        <c:crosses val="autoZero"/>
        <c:crossBetween val="midCat"/>
        <c:majorUnit val="2"/>
      </c:valAx>
      <c:valAx>
        <c:axId val="4243439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91187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2472141"/>
        <c:axId val="13940641"/>
      </c:scatterChart>
      <c:valAx>
        <c:axId val="4247214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940641"/>
        <c:crosses val="autoZero"/>
        <c:crossBetween val="midCat"/>
        <c:majorUnit val="2"/>
      </c:valAx>
      <c:valAx>
        <c:axId val="1394064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47214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97158146"/>
        <c:axId val="93318918"/>
      </c:scatterChart>
      <c:valAx>
        <c:axId val="9715814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318918"/>
        <c:crosses val="autoZero"/>
        <c:crossBetween val="midCat"/>
        <c:majorUnit val="2"/>
        <c:minorUnit val="0.05"/>
      </c:valAx>
      <c:valAx>
        <c:axId val="9331891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15814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7810CE-79CC-4E98-8BC1-32A90E798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7EFDB3-AE70-45A4-AF89-72EFB2EE186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C4AB10-1AA8-41EF-A056-19FA356E7F3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F55DB5-5A8A-4527-BDE0-3229CF6785B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