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985-BB58-42A2-BC19-3B6F8660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4C9-2077-4A2D-902F-564F5DBF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52F-3D00-432F-9B2D-25AB1433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AFC-567B-4B7B-9A2A-169C0F7C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E17-15D1-4961-9B6C-E80CF6F5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E8F-DBFB-46FB-BE12-E68764F1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130-7258-4C99-AF04-9A28D71E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998-5442-410D-B4F2-9E76ABE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77F-A2A6-45B8-AFCB-9A089C2C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785-56F6-473A-B3E7-17E9359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744-11AB-4864-9AC3-5EA48CD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EE9-2080-4328-A04D-ABB809A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50B3-6177-4B49-BC48-33E3EBBD58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rostl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 Fungi: Chytri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 / 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380880" y="380880"/>
            <a:ext cx="8382240" cy="60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 i o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 (od chytridií odlišené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anaerob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8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604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2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C:\user\Houba\Škola-obrázky\nizsi_rostliny\chytridiomycota\synchytrium_zivotni_cyklus.jpg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C:\user\Houba\Škola-obrázky\nizsi_rostliny\chytridiomycota\synchytrium_endobioticum.jpg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7387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C:\user\Houba\Škola-obrázky\nizsi_rostliny\chytridiomycota\SYNCEN_01.jpg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C:\user\Houba\Škola-obrázky\nizsi_rostliny\chytridiomycota\SYNCEN_03.jpg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C:\user\Houba\Škola-obrázky\nizsi_rostliny\chytridiomycota\rhizophydium.jpg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0" descr="C:\user\Houba\Škola-obrázky\nizsi_rostliny\chytridiomycota\polyphagus_euglenae.jpg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1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02_gongronella_sporangia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9752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9878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user\Houba\Škola-obrázky\nizsi_rostliny\zygomycota\bot604.JPG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7701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794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380880"/>
            <a:ext cx="83822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7_mucorales_zygospores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06_mucor_zygospora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80880" y="1368360"/>
            <a:ext cx="5943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. druhů se v tekutých médiích vytvoří přehrádky nebo mycelium rozpadne na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nohosporová (až 1000 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typů méně spor ve sporangiu (až jed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saprofyté na půdě, trusu, potravi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ěchomršť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ití: fermentace cukrů a bílkovin, výroba různých organických kysel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 rot="16200000">
            <a:off x="6394320" y="3435120"/>
            <a:ext cx="44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med.ncku.edu.tw/HsuML/mycology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圖片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Zygospores_of_Mucorales_drawing.jp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2560" y="1341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CO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0700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\Houba\Škola-obrázky\nizsi_rostliny\zygomycota\08_SpinnelusFusiger2.jpg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\Houba\Škola-obrázky\nizsi_rostliny\zygomycota\11_pilobolus.jpg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6912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\Houba\Škola-obrázky\nizsi_rostliny\zygomycota\91_glomus.jpg"/>
          <p:cNvPicPr/>
          <p:nvPr/>
        </p:nvPicPr>
        <p:blipFill>
          <a:blip r:embed="rId1"/>
          <a:stretch/>
        </p:blipFill>
        <p:spPr>
          <a:xfrm>
            <a:off x="4648320" y="347760"/>
            <a:ext cx="4044960" cy="3995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user\Houba\Škola-obrázky\nizsi_rostliny\zygomycota\92_glomus_spore.jpg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209680"/>
            <a:ext cx="1096920" cy="142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\Houba\Škola-obrázky\nizsi_rostliny\zygomycota\93_glomeromycota_arbuscule.jpg"/>
          <p:cNvPicPr/>
          <p:nvPr/>
        </p:nvPicPr>
        <p:blipFill>
          <a:blip r:embed="rId3"/>
          <a:stretch/>
        </p:blipFill>
        <p:spPr>
          <a:xfrm>
            <a:off x="457200" y="3809880"/>
            <a:ext cx="1563840" cy="175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80880" y="40464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VAM; má ji asi 80 % cévnatých rostlin): mycelium proniká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200000">
            <a:off x="454680" y="2019600"/>
            <a:ext cx="160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3618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7304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e zde zmíněných je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80880"/>
            <a:ext cx="83822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380880"/>
            <a:ext cx="533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dogenně ve sporangiích – označovány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ogenně na hyfách (specializovaných odnožích zvaných konidiofory) – nazývají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id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\Houba\Škola-obrázky\nizsi_rostliny\zygomycota\01_sporangium.jpg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dál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 pohybliv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é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/to zde nebude dále zmíněno/ (jednobuněčné nebo tvoří cenocytické mycelium, bičíkaté zoosp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(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zde bude zmíněn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éž přehrádkované mycelium /příp. jednobuněčné – kvasink. typy/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380880" y="386064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typy_stelek_chytridiomycetes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380880" y="382680"/>
            <a:ext cx="56390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aková je vždy jednobuněčná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1382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19T20:49:15Z</dcterms:modified>
  <cp:revision>175</cp:revision>
  <dc:subject/>
  <dc:title>Snímek 1</dc:title>
</cp:coreProperties>
</file>