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1126341"/>
        <c:axId val="94067224"/>
      </c:scatterChart>
      <c:valAx>
        <c:axId val="81126341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067224"/>
        <c:crosses val="autoZero"/>
        <c:crossBetween val="midCat"/>
        <c:majorUnit val="1"/>
      </c:valAx>
      <c:valAx>
        <c:axId val="94067224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126341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61632879"/>
        <c:axId val="45946324"/>
      </c:scatterChart>
      <c:valAx>
        <c:axId val="6163287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946324"/>
        <c:crosses val="autoZero"/>
        <c:crossBetween val="midCat"/>
        <c:majorUnit val="1"/>
      </c:valAx>
      <c:valAx>
        <c:axId val="4594632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163287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8173370"/>
        <c:axId val="86360567"/>
      </c:scatterChart>
      <c:valAx>
        <c:axId val="98173370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6360567"/>
        <c:crosses val="autoZero"/>
        <c:crossBetween val="midCat"/>
        <c:majorUnit val="2"/>
        <c:minorUnit val="1"/>
      </c:valAx>
      <c:valAx>
        <c:axId val="86360567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8173370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8180015"/>
        <c:axId val="89215931"/>
      </c:scatterChart>
      <c:valAx>
        <c:axId val="6818001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215931"/>
        <c:crosses val="autoZero"/>
        <c:crossBetween val="midCat"/>
        <c:majorUnit val="2"/>
        <c:minorUnit val="0.05"/>
      </c:valAx>
      <c:valAx>
        <c:axId val="8921593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18001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43886038"/>
        <c:axId val="50611109"/>
      </c:scatterChart>
      <c:valAx>
        <c:axId val="4388603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611109"/>
        <c:crosses val="autoZero"/>
        <c:crossBetween val="midCat"/>
        <c:majorUnit val="2"/>
        <c:minorUnit val="0.05"/>
      </c:valAx>
      <c:valAx>
        <c:axId val="5061110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88603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2794011"/>
        <c:axId val="79756763"/>
      </c:scatterChart>
      <c:valAx>
        <c:axId val="7279401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756763"/>
        <c:crosses val="autoZero"/>
        <c:crossBetween val="midCat"/>
        <c:majorUnit val="2"/>
        <c:minorUnit val="0.05"/>
      </c:valAx>
      <c:valAx>
        <c:axId val="7975676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79401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3249156"/>
        <c:axId val="18539546"/>
      </c:scatterChart>
      <c:valAx>
        <c:axId val="8324915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8539546"/>
        <c:crosses val="autoZero"/>
        <c:crossBetween val="midCat"/>
        <c:majorUnit val="2"/>
      </c:valAx>
      <c:valAx>
        <c:axId val="1853954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24915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167827"/>
        <c:axId val="58235971"/>
      </c:scatterChart>
      <c:valAx>
        <c:axId val="216782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235971"/>
        <c:crosses val="autoZero"/>
        <c:crossBetween val="midCat"/>
        <c:majorUnit val="2"/>
      </c:valAx>
      <c:valAx>
        <c:axId val="5823597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6782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75648170"/>
        <c:axId val="28419768"/>
      </c:scatterChart>
      <c:valAx>
        <c:axId val="7564817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419768"/>
        <c:crosses val="autoZero"/>
        <c:crossBetween val="midCat"/>
        <c:majorUnit val="2"/>
        <c:minorUnit val="0.05"/>
      </c:valAx>
      <c:valAx>
        <c:axId val="2841976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64817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488D7B-AFA6-43DF-8EE6-FA0248F54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1E78D1-7E2E-4375-96A6-190DF9E6B1A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0C1570-2882-4616-96CA-73AB26EEA9B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0257FE-D7B0-4371-AA91-395001D7674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