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922144"/>
        <c:axId val="72113754"/>
      </c:scatterChart>
      <c:valAx>
        <c:axId val="5592214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113754"/>
        <c:crosses val="autoZero"/>
        <c:crossBetween val="midCat"/>
        <c:majorUnit val="1"/>
      </c:valAx>
      <c:valAx>
        <c:axId val="7211375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92214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261755"/>
        <c:axId val="60690981"/>
      </c:scatterChart>
      <c:valAx>
        <c:axId val="226175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690981"/>
        <c:crosses val="autoZero"/>
        <c:crossBetween val="midCat"/>
        <c:majorUnit val="1"/>
      </c:valAx>
      <c:valAx>
        <c:axId val="6069098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6175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5475107"/>
        <c:axId val="64296606"/>
      </c:scatterChart>
      <c:valAx>
        <c:axId val="5547510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4296606"/>
        <c:crosses val="autoZero"/>
        <c:crossBetween val="midCat"/>
        <c:majorUnit val="2"/>
        <c:minorUnit val="1"/>
      </c:valAx>
      <c:valAx>
        <c:axId val="6429660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47510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7146753"/>
        <c:axId val="27740348"/>
      </c:scatterChart>
      <c:valAx>
        <c:axId val="471467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740348"/>
        <c:crosses val="autoZero"/>
        <c:crossBetween val="midCat"/>
        <c:majorUnit val="2"/>
        <c:minorUnit val="0.05"/>
      </c:valAx>
      <c:valAx>
        <c:axId val="2774034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1467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5031223"/>
        <c:axId val="90063448"/>
      </c:scatterChart>
      <c:valAx>
        <c:axId val="3503122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063448"/>
        <c:crosses val="autoZero"/>
        <c:crossBetween val="midCat"/>
        <c:majorUnit val="2"/>
        <c:minorUnit val="0.05"/>
      </c:valAx>
      <c:valAx>
        <c:axId val="9006344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03122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2322914"/>
        <c:axId val="21990699"/>
      </c:scatterChart>
      <c:valAx>
        <c:axId val="123229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990699"/>
        <c:crosses val="autoZero"/>
        <c:crossBetween val="midCat"/>
        <c:majorUnit val="2"/>
        <c:minorUnit val="0.05"/>
      </c:valAx>
      <c:valAx>
        <c:axId val="2199069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3229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368940"/>
        <c:axId val="15139027"/>
      </c:scatterChart>
      <c:valAx>
        <c:axId val="563689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139027"/>
        <c:crosses val="autoZero"/>
        <c:crossBetween val="midCat"/>
        <c:majorUnit val="2"/>
      </c:valAx>
      <c:valAx>
        <c:axId val="151390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36894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15126"/>
        <c:axId val="29685107"/>
      </c:scatterChart>
      <c:valAx>
        <c:axId val="35151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685107"/>
        <c:crosses val="autoZero"/>
        <c:crossBetween val="midCat"/>
        <c:majorUnit val="2"/>
      </c:valAx>
      <c:valAx>
        <c:axId val="2968510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1512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9178482"/>
        <c:axId val="76362865"/>
      </c:scatterChart>
      <c:valAx>
        <c:axId val="591784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362865"/>
        <c:crosses val="autoZero"/>
        <c:crossBetween val="midCat"/>
        <c:majorUnit val="2"/>
        <c:minorUnit val="0.05"/>
      </c:valAx>
      <c:valAx>
        <c:axId val="763628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1784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A854A-6709-4F1D-8BF7-BB5B7EE0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84354B-C398-4547-8D88-C248DCA4601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2DDD6-81CC-4372-804A-F8ED70E686F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A20B74-66CE-4F13-B841-9939306AD9E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