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707176"/>
        <c:axId val="80791755"/>
      </c:scatterChart>
      <c:valAx>
        <c:axId val="5570717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791755"/>
        <c:crosses val="autoZero"/>
        <c:crossBetween val="midCat"/>
        <c:majorUnit val="1"/>
      </c:valAx>
      <c:valAx>
        <c:axId val="8079175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70717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521920"/>
        <c:axId val="80257465"/>
      </c:scatterChart>
      <c:valAx>
        <c:axId val="152192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257465"/>
        <c:crosses val="autoZero"/>
        <c:crossBetween val="midCat"/>
        <c:majorUnit val="1"/>
      </c:valAx>
      <c:valAx>
        <c:axId val="80257465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2192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8250728"/>
        <c:axId val="72478147"/>
      </c:scatterChart>
      <c:valAx>
        <c:axId val="8825072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2478147"/>
        <c:crosses val="autoZero"/>
        <c:crossBetween val="midCat"/>
        <c:majorUnit val="2"/>
        <c:minorUnit val="1"/>
      </c:valAx>
      <c:valAx>
        <c:axId val="72478147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825072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8802522"/>
        <c:axId val="64689114"/>
      </c:scatterChart>
      <c:valAx>
        <c:axId val="4880252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689114"/>
        <c:crosses val="autoZero"/>
        <c:crossBetween val="midCat"/>
        <c:majorUnit val="2"/>
        <c:minorUnit val="0.05"/>
      </c:valAx>
      <c:valAx>
        <c:axId val="6468911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80252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1131824"/>
        <c:axId val="99455386"/>
      </c:scatterChart>
      <c:valAx>
        <c:axId val="7113182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455386"/>
        <c:crosses val="autoZero"/>
        <c:crossBetween val="midCat"/>
        <c:majorUnit val="2"/>
        <c:minorUnit val="0.05"/>
      </c:valAx>
      <c:valAx>
        <c:axId val="9945538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13182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5869040"/>
        <c:axId val="83933057"/>
      </c:scatterChart>
      <c:valAx>
        <c:axId val="8586904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933057"/>
        <c:crosses val="autoZero"/>
        <c:crossBetween val="midCat"/>
        <c:majorUnit val="2"/>
        <c:minorUnit val="0.05"/>
      </c:valAx>
      <c:valAx>
        <c:axId val="8393305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86904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165037"/>
        <c:axId val="21247635"/>
      </c:scatterChart>
      <c:valAx>
        <c:axId val="931650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247635"/>
        <c:crosses val="autoZero"/>
        <c:crossBetween val="midCat"/>
        <c:majorUnit val="2"/>
      </c:valAx>
      <c:valAx>
        <c:axId val="2124763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16503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1223047"/>
        <c:axId val="39817915"/>
      </c:scatterChart>
      <c:valAx>
        <c:axId val="6122304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817915"/>
        <c:crosses val="autoZero"/>
        <c:crossBetween val="midCat"/>
        <c:majorUnit val="2"/>
      </c:valAx>
      <c:valAx>
        <c:axId val="3981791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22304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9773005"/>
        <c:axId val="80244058"/>
      </c:scatterChart>
      <c:valAx>
        <c:axId val="897730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244058"/>
        <c:crosses val="autoZero"/>
        <c:crossBetween val="midCat"/>
        <c:majorUnit val="2"/>
        <c:minorUnit val="0.05"/>
      </c:valAx>
      <c:valAx>
        <c:axId val="8024405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77300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7A3B1C-8F36-4AD2-B711-9D0A3F20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E49982-7809-4FFD-81FE-10C0B005C66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AD95B7-463D-47C8-B00C-0136DC988A4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6CC393-5AC0-4A7F-A6E1-3326675BEF1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