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4887522"/>
        <c:axId val="67569272"/>
      </c:scatterChart>
      <c:valAx>
        <c:axId val="2488752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569272"/>
        <c:crosses val="autoZero"/>
        <c:crossBetween val="midCat"/>
        <c:majorUnit val="1"/>
      </c:valAx>
      <c:valAx>
        <c:axId val="67569272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88752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9005707"/>
        <c:axId val="69781027"/>
      </c:scatterChart>
      <c:valAx>
        <c:axId val="4900570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781027"/>
        <c:crosses val="autoZero"/>
        <c:crossBetween val="midCat"/>
        <c:majorUnit val="1"/>
      </c:valAx>
      <c:valAx>
        <c:axId val="69781027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00570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8755858"/>
        <c:axId val="96604127"/>
      </c:scatterChart>
      <c:valAx>
        <c:axId val="6875585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6604127"/>
        <c:crosses val="autoZero"/>
        <c:crossBetween val="midCat"/>
        <c:majorUnit val="2"/>
        <c:minorUnit val="1"/>
      </c:valAx>
      <c:valAx>
        <c:axId val="96604127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875585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9148014"/>
        <c:axId val="13184503"/>
      </c:scatterChart>
      <c:valAx>
        <c:axId val="6914801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184503"/>
        <c:crosses val="autoZero"/>
        <c:crossBetween val="midCat"/>
        <c:majorUnit val="2"/>
        <c:minorUnit val="0.05"/>
      </c:valAx>
      <c:valAx>
        <c:axId val="1318450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14801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0347355"/>
        <c:axId val="35495565"/>
      </c:scatterChart>
      <c:valAx>
        <c:axId val="6034735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495565"/>
        <c:crosses val="autoZero"/>
        <c:crossBetween val="midCat"/>
        <c:majorUnit val="2"/>
        <c:minorUnit val="0.05"/>
      </c:valAx>
      <c:valAx>
        <c:axId val="3549556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34735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0361457"/>
        <c:axId val="87126129"/>
      </c:scatterChart>
      <c:valAx>
        <c:axId val="503614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126129"/>
        <c:crosses val="autoZero"/>
        <c:crossBetween val="midCat"/>
        <c:majorUnit val="2"/>
        <c:minorUnit val="0.05"/>
      </c:valAx>
      <c:valAx>
        <c:axId val="8712612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36145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7460061"/>
        <c:axId val="65619992"/>
      </c:scatterChart>
      <c:valAx>
        <c:axId val="1746006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619992"/>
        <c:crosses val="autoZero"/>
        <c:crossBetween val="midCat"/>
        <c:majorUnit val="2"/>
      </c:valAx>
      <c:valAx>
        <c:axId val="6561999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46006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5524224"/>
        <c:axId val="64056471"/>
      </c:scatterChart>
      <c:valAx>
        <c:axId val="8552422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056471"/>
        <c:crosses val="autoZero"/>
        <c:crossBetween val="midCat"/>
        <c:majorUnit val="2"/>
      </c:valAx>
      <c:valAx>
        <c:axId val="6405647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52422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5031014"/>
        <c:axId val="67327489"/>
      </c:scatterChart>
      <c:valAx>
        <c:axId val="5503101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327489"/>
        <c:crosses val="autoZero"/>
        <c:crossBetween val="midCat"/>
        <c:majorUnit val="2"/>
        <c:minorUnit val="0.05"/>
      </c:valAx>
      <c:valAx>
        <c:axId val="6732748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03101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BB70E0-E1F7-429F-A1D3-688E243FF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3F8F02-8143-4DBC-A723-1D1372CFB2B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6905B4-EE0A-4568-B25D-E773D01CEDE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BF55F6-B7F9-4392-BF56-B25259A87C5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