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1545008"/>
        <c:axId val="50434265"/>
      </c:scatterChart>
      <c:valAx>
        <c:axId val="9154500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434265"/>
        <c:crosses val="autoZero"/>
        <c:crossBetween val="midCat"/>
        <c:majorUnit val="1"/>
      </c:valAx>
      <c:valAx>
        <c:axId val="5043426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54500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7581208"/>
        <c:axId val="42391575"/>
      </c:scatterChart>
      <c:valAx>
        <c:axId val="2758120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391575"/>
        <c:crosses val="autoZero"/>
        <c:crossBetween val="midCat"/>
        <c:majorUnit val="1"/>
      </c:valAx>
      <c:valAx>
        <c:axId val="42391575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58120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1241888"/>
        <c:axId val="28743358"/>
      </c:scatterChart>
      <c:valAx>
        <c:axId val="3124188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8743358"/>
        <c:crosses val="autoZero"/>
        <c:crossBetween val="midCat"/>
        <c:majorUnit val="2"/>
        <c:minorUnit val="1"/>
      </c:valAx>
      <c:valAx>
        <c:axId val="28743358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124188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4949415"/>
        <c:axId val="83801341"/>
      </c:scatterChart>
      <c:valAx>
        <c:axId val="1494941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801341"/>
        <c:crosses val="autoZero"/>
        <c:crossBetween val="midCat"/>
        <c:majorUnit val="2"/>
        <c:minorUnit val="0.05"/>
      </c:valAx>
      <c:valAx>
        <c:axId val="8380134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94941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5999165"/>
        <c:axId val="9272469"/>
      </c:scatterChart>
      <c:valAx>
        <c:axId val="7599916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72469"/>
        <c:crosses val="autoZero"/>
        <c:crossBetween val="midCat"/>
        <c:majorUnit val="2"/>
        <c:minorUnit val="0.05"/>
      </c:valAx>
      <c:valAx>
        <c:axId val="927246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99916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4752805"/>
        <c:axId val="78015221"/>
      </c:scatterChart>
      <c:valAx>
        <c:axId val="8475280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015221"/>
        <c:crosses val="autoZero"/>
        <c:crossBetween val="midCat"/>
        <c:majorUnit val="2"/>
        <c:minorUnit val="0.05"/>
      </c:valAx>
      <c:valAx>
        <c:axId val="7801522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75280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4806088"/>
        <c:axId val="14351612"/>
      </c:scatterChart>
      <c:valAx>
        <c:axId val="548060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351612"/>
        <c:crosses val="autoZero"/>
        <c:crossBetween val="midCat"/>
        <c:majorUnit val="2"/>
      </c:valAx>
      <c:valAx>
        <c:axId val="1435161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80608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3941602"/>
        <c:axId val="76141624"/>
      </c:scatterChart>
      <c:valAx>
        <c:axId val="6394160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141624"/>
        <c:crosses val="autoZero"/>
        <c:crossBetween val="midCat"/>
        <c:majorUnit val="2"/>
      </c:valAx>
      <c:valAx>
        <c:axId val="7614162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94160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7075722"/>
        <c:axId val="6872723"/>
      </c:scatterChart>
      <c:valAx>
        <c:axId val="3707572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72723"/>
        <c:crosses val="autoZero"/>
        <c:crossBetween val="midCat"/>
        <c:majorUnit val="2"/>
        <c:minorUnit val="0.05"/>
      </c:valAx>
      <c:valAx>
        <c:axId val="687272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07572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936019-0AB3-4DB8-9D0B-762EFBD28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0CE1DA-565B-4CC4-A284-295B410FE8A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FF8068-6FFA-43D4-ABB3-494EFD1B598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3575D2-7BB9-4B69-84DD-AC62D88E6D1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