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E8EF9-F72D-4E2C-B854-05E66CE34835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60832-B337-4F19-9AD1-9FD892C5B9AA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1EC59-E2D2-4AF3-8C25-77DA0BD47189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9D2-F946-4618-AFEA-B14F01F4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456-51CC-4D8B-8E85-7AF0610C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312-1244-4937-BB49-4FCDB33D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6EA-BD0B-4CC5-8F03-00539FD0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6DF-098C-482B-94AE-28E97838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4FE-D64C-41C2-9D27-06C681B0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2BB-2D21-4249-B5C2-ADC45D63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A03-A14B-4224-B688-DA11CA9E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0E6-BC39-40F3-B257-C5CC5BF1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FA9-5A41-436B-9A8C-A2F6CC25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984-F039-4AB3-9F8B-5B2884FE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090F-248F-4F20-9717-4367BEDA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2661D0-10DB-4879-9944-42C3559EE3B6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ovnováha v jednosložkové soustav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75276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441360"/>
            <a:ext cx="777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2803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33640" y="190440"/>
            <a:ext cx="6876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11-03T11:26:48Z</dcterms:modified>
  <cp:revision>109</cp:revision>
  <dc:subject/>
  <dc:title>C6730 Fázové rovnováhy</dc:title>
</cp:coreProperties>
</file>