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33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0.jpeg" ContentType="image/jpeg"/>
  <Override PartName="/ppt/media/image3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4.png" ContentType="image/png"/>
  <Override PartName="/ppt/media/image17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35.wmf" ContentType="image/x-wmf"/>
  <Override PartName="/ppt/media/image5.wmf" ContentType="image/x-wmf"/>
  <Override PartName="/ppt/media/image27.jpeg" ContentType="image/jpeg"/>
  <Override PartName="/ppt/media/image2.gif" ContentType="image/gi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3A9B-D0A9-4A3E-B790-83B403AF1B3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1FE9-CAB4-4393-8688-FE556A18F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F92B-0F75-461B-A41D-C51060AC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FAB2-750B-49C4-91D6-6775D4D6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2DB1-67F4-4333-8FD8-8EDDC721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AB0B-CC12-4963-A280-A9B52A97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592C-1B47-4793-B7A8-6BAABD72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B34B-2839-4EF1-976F-BEF782A6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2728-57BF-4D97-94CC-87FB2D98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31B3-6C75-4340-8400-CC75F6A4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FBDD-DFDF-4F52-AA5E-992F1555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7E55-1346-4B4F-999F-C804779D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4F55-8DD1-4CDC-9DDD-E8712017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39CA-3971-419C-8961-B2E6170E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F2AB-2D77-4B4A-9170-40FE5FC9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F848-407F-4603-92CB-5C8DE571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1B20-A689-4CA8-879D-D71E6280F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2987-AD8D-4824-9803-F113D80A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67F7-3B17-4F57-B2BA-6B10A454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54F9-394B-43C6-8CCE-2C015E88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B10B-CC04-4962-B445-4DB9CE7D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8EFD-CAC8-478E-AD29-21B9E249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2D6F-23C4-40EB-A6C6-A1734CF3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B4EE-6FA9-4C69-BCA0-5550A630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C352-7633-4955-9AF3-EBEF856E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581E-E8C7-4C63-B63E-145CCE4BA2E2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B517-863E-48D6-BD5A-70D21A2D8EC6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google.cz/imgres?q=nucleation+centre&amp;hl=cs&amp;biw=996&amp;bih=522&amp;gbv=2&amp;tbm=isch&amp;tbnid=HX9uUSL_-sqqGM:&amp;imgrefurl=http://www.epj.org/news.html&amp;docid=uVTPgN-MOViRAM&amp;imgurl=http://www.epj.org/_img/news/news_2011-02_5.jpg&amp;w=150&amp;h=197&amp;ei=2KPTTobyFNSYsAbvvYSCBA&amp;zoom=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Kinetika vzniku vícefázových strukt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ychlost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838080"/>
            <a:ext cx="78483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NewRoman,Bold"/>
              </a:rPr>
              <a:t>Rychlost: r = 1 / t0.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Platí Arrheniova závislost: </a:t>
            </a: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r = A exp (-</a:t>
            </a:r>
            <a:r>
              <a:rPr b="1" lang="cs-CZ" sz="1800" spc="-1" strike="noStrike">
                <a:solidFill>
                  <a:srgbClr val="008100"/>
                </a:solidFill>
                <a:latin typeface="TimesNewRoman,Bold"/>
              </a:rPr>
              <a:t>QA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kT) = A exp (-</a:t>
            </a:r>
            <a:r>
              <a:rPr b="1" lang="cs-CZ" sz="1800" spc="-1" strike="noStrike">
                <a:solidFill>
                  <a:srgbClr val="3333cd"/>
                </a:solidFill>
                <a:latin typeface="TimesNewRoman,Bold"/>
              </a:rPr>
              <a:t>Qm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 R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94560" cy="397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krystalizace měd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805680"/>
            <a:ext cx="327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TT křivky Fe-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368520" cy="319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33920" y="235080"/>
            <a:ext cx="5132160" cy="662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5148360"/>
            <a:ext cx="1797120" cy="170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7400" y="6019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rlit Fe-0,8wt%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ikrostruktura a TTT křivk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607000" cy="4181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324480" y="1905120"/>
            <a:ext cx="2514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he thickness of the ferrite and cementite layers in pearli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s ~ 8:1. The absolute layer thickness depends on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 of the transformation. The higher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, the thicker the laye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aini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5085000" cy="5414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137160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f transformation temperature is low enough (</a:t>
            </a:r>
            <a:r>
              <a:rPr b="0" lang="cs-CZ" sz="1800" spc="-1" strike="noStrike">
                <a:solidFill>
                  <a:srgbClr val="000066"/>
                </a:solidFill>
                <a:latin typeface="SymbolMT"/>
              </a:rPr>
              <a:t>≤</a:t>
            </a: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540°C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bainite rather than fine pearlite form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542960" cy="1955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238880" y="2895480"/>
            <a:ext cx="1731960" cy="211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943600" y="5133960"/>
            <a:ext cx="2666880" cy="1724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5943600"/>
            <a:ext cx="167652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feritizace (700st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hrnutí difůzně řízených přemě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5341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family of S-shaped curves at different T are used to construct the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TTT diagrams are for the 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isothermal 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(constant T) transformations (material is cooled quickly to a given temperature before the transformation occurs, and then keep it at that temperature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low temperatures, the transformation occurs sooner (it is controlled by the rate of nucleation) and grain growth (that is controlled by diffusion) is reduc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Slow diffusion at low temperatures leads to fine-grained microstructure with thin-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fin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higher temperatures, high diffusion rates allow for larger grain growth and formation of thick 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coars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 At compositions other than eutectoid, a proeutectoid phase (ferrite or cementite) coexist with pearlite. Additional curves for proeutectoid transformation must be included on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ezdifúzní přemě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086080" cy="351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254560" y="3581280"/>
            <a:ext cx="3889440" cy="290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renzitické přeměny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85800"/>
            <a:ext cx="8686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forms when austenite is rapidly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quenched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 to room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The austenite-martensite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does not involve diffusion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no thermal activation is needed,this is called an </a:t>
            </a: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athermal transformation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Each atom displaces a small (sub-atomic) distance to transform FCC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Fe (austenite) to martensite which has a Body Centered Tetragonal (BCT) unit cell (like BCC, but one unit cell axis is longer than the other two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is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metastabl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can persist indefinitely at room temperature, but will transform to equilibrium phases on annealing at an elevated temperature. Martensite can coexist with other phases and/or microstructures in Fe-C systém. It does not appear in phase Fe-C phase diagra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248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79880" y="228600"/>
            <a:ext cx="5284800" cy="6477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47242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NewRoman"/>
              </a:rPr>
              <a:t>Austenite-to-martensite is diffusionless and very fast. The amount of martensite formed depends on temperature on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3180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3180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9440" y="3848040"/>
            <a:ext cx="23130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images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90920" cy="1940040"/>
          </a:xfrm>
          <a:prstGeom prst="rect">
            <a:avLst/>
          </a:prstGeom>
          <a:ln w="0">
            <a:noFill/>
          </a:ln>
        </p:spPr>
      </p:pic>
      <p:pic>
        <p:nvPicPr>
          <p:cNvPr id="217" name="martensite-1500x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1284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NewRoman"/>
              </a:rPr>
              <a:t>Tepelné zpracov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4849920" cy="6167160"/>
          </a:xfrm>
          <a:prstGeom prst="rect">
            <a:avLst/>
          </a:prstGeom>
          <a:ln w="0">
            <a:noFill/>
          </a:ln>
        </p:spPr>
      </p:pic>
      <p:pic>
        <p:nvPicPr>
          <p:cNvPr id="220" name="44" descr=""/>
          <p:cNvPicPr/>
          <p:nvPr/>
        </p:nvPicPr>
        <p:blipFill>
          <a:blip r:embed="rId2"/>
          <a:stretch/>
        </p:blipFill>
        <p:spPr>
          <a:xfrm>
            <a:off x="304920" y="16272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221" name="6100CT-heat%20treatment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1240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pracování Fe-C slit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ermodynamická podmínka vzniku nové f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kle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fúzní a bezdifúzní přemě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200" y="19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200" y="19526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680" y="31129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124080"/>
            <a:ext cx="26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56" name="Soda_bubbles_macro" descr=""/>
          <p:cNvPicPr/>
          <p:nvPr/>
        </p:nvPicPr>
        <p:blipFill>
          <a:blip r:embed="rId7"/>
          <a:stretch/>
        </p:blipFill>
        <p:spPr>
          <a:xfrm>
            <a:off x="5486400" y="116856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Další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85512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114800" y="4110120"/>
            <a:ext cx="4784760" cy="2747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30481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varová paměť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231120" y="1447920"/>
            <a:ext cx="70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hMYC-bLMLZQ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fsBHF_j2FJ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hase4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819680" cy="383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94360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iTi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ermodynamická podmínka vzniku nové fá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Energetika kuloviré části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91160" cy="391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867280" y="4716360"/>
            <a:ext cx="3021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ukleace nové fáz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511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5334120"/>
            <a:ext cx="3962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tastabilní stavy: přechlazení a přehřát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960" y="180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" y="1803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24560" y="3902040"/>
            <a:ext cx="2455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2440" y="2963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images" descr=""/>
          <p:cNvPicPr/>
          <p:nvPr/>
        </p:nvPicPr>
        <p:blipFill>
          <a:blip r:embed="rId2"/>
          <a:stretch/>
        </p:blipFill>
        <p:spPr>
          <a:xfrm>
            <a:off x="5181480" y="4216320"/>
            <a:ext cx="3219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ožnosti snížení nukleační bariér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ody usnadňující dosažení rovnovážného stav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189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4794120"/>
            <a:ext cx="7696080" cy="206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3657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aktory ovlivňující růst nové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sss7-29-08-2008" descr=""/>
          <p:cNvPicPr/>
          <p:nvPr/>
        </p:nvPicPr>
        <p:blipFill>
          <a:blip r:embed="rId3"/>
          <a:stretch/>
        </p:blipFill>
        <p:spPr>
          <a:xfrm>
            <a:off x="6019920" y="2590920"/>
            <a:ext cx="2590560" cy="22636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ázových transforma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76520"/>
            <a:ext cx="7924680" cy="34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bez změny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melting, solidification of pure metal, allotropic transformations, recrystallization, etc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se změnou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Eutectoid transformation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Bezdifúzní transformac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produces a metastable phase by cooperative small displacements of all atoms in structure (e.g. martensitic transformation discussed in later in this chapt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Nucleation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of the new phase - formation of stable small particles (nuclei) of the new phase. Nuclei are often formed at grain boundaries and other defec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Growth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new phase at the expense of the original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48261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54:39Z</dcterms:modified>
  <cp:revision>119</cp:revision>
  <dc:subject/>
  <dc:title>C6730 Fázové rovnováhy</dc:title>
</cp:coreProperties>
</file>