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95E9-398E-4A84-9574-0C1801066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48E7-F272-4FEA-AF2D-C1AE395E7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E630-A09D-4C2F-A83E-348A00847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FC9C-CB6F-421E-ABC3-D51A52B2E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E915A-DA46-44F0-BE41-E905FE0A4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8CC50-CA12-4556-B1FE-1EEFB86E0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064A4-0B72-4ACB-9FE7-9E8ED992E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CDB2F-1913-4104-97A1-CB4D9C616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01892-BF50-4277-B96A-A4C4E926F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66419-39B9-46FB-9E34-D9D90BA19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7058F-C4F5-4100-96F4-06141F418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16B1-8C72-462C-B18A-9241742A4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35C8B-4F04-4523-9339-C9E0F045B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DB700-8562-4BFF-BB1E-CB9E79EED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0759C-51A7-43B0-8BDB-09B994C33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AC76D-DB7F-4DCE-969B-6F90D2916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B6A2E-4D91-454F-8C4C-F0D79B9F4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C3DE-E343-43E5-BA5B-359892E0C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7DD4-7878-4DEA-9311-027C36F0E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92B0-32EC-4401-B3E7-F6A9A8C5F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19E9-E3A7-4EC3-B7AF-139E02583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EEFB-4753-4B67-B94C-149B368EF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0E5B-E0E8-4A0C-BD9D-3513ACF69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FCA5-CA9D-494F-AF58-1F3495337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1027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2" name="Freeform 1028"/>
              <p:cNvSpPr/>
              <p:nvPr/>
            </p:nvSpPr>
            <p:spPr>
              <a:xfrm flipH="1">
                <a:off x="66600" y="-4680"/>
                <a:ext cx="976320" cy="683280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1029"/>
              <p:cNvSpPr/>
              <p:nvPr/>
            </p:nvSpPr>
            <p:spPr>
              <a:xfrm flipH="1">
                <a:off x="61200" y="169740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1030"/>
              <p:cNvSpPr/>
              <p:nvPr/>
            </p:nvSpPr>
            <p:spPr>
              <a:xfrm flipH="1">
                <a:off x="67320" y="1281240"/>
                <a:ext cx="976680" cy="5029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1031"/>
              <p:cNvSpPr/>
              <p:nvPr/>
            </p:nvSpPr>
            <p:spPr>
              <a:xfrm flipH="1">
                <a:off x="67320" y="145800"/>
                <a:ext cx="976680" cy="302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1032"/>
              <p:cNvSpPr/>
              <p:nvPr/>
            </p:nvSpPr>
            <p:spPr>
              <a:xfrm flipH="1">
                <a:off x="61200" y="990000"/>
                <a:ext cx="976680" cy="3481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1033"/>
              <p:cNvSpPr/>
              <p:nvPr/>
            </p:nvSpPr>
            <p:spPr>
              <a:xfrm flipH="1">
                <a:off x="63000" y="679680"/>
                <a:ext cx="976680" cy="4327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34"/>
              <p:cNvSpPr/>
              <p:nvPr/>
            </p:nvSpPr>
            <p:spPr>
              <a:xfrm flipH="1">
                <a:off x="64440" y="37188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035"/>
              <p:cNvSpPr/>
              <p:nvPr/>
            </p:nvSpPr>
            <p:spPr>
              <a:xfrm flipH="1">
                <a:off x="47520" y="3930120"/>
                <a:ext cx="976320" cy="4993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036"/>
              <p:cNvSpPr/>
              <p:nvPr/>
            </p:nvSpPr>
            <p:spPr>
              <a:xfrm flipH="1">
                <a:off x="52920" y="353664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037"/>
              <p:cNvSpPr/>
              <p:nvPr/>
            </p:nvSpPr>
            <p:spPr>
              <a:xfrm flipH="1">
                <a:off x="53280" y="2397960"/>
                <a:ext cx="976680" cy="30420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038"/>
              <p:cNvSpPr/>
              <p:nvPr/>
            </p:nvSpPr>
            <p:spPr>
              <a:xfrm flipH="1">
                <a:off x="52920" y="3228480"/>
                <a:ext cx="976680" cy="34704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039"/>
              <p:cNvSpPr/>
              <p:nvPr/>
            </p:nvSpPr>
            <p:spPr>
              <a:xfrm flipH="1">
                <a:off x="52920" y="293148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040"/>
              <p:cNvSpPr/>
              <p:nvPr/>
            </p:nvSpPr>
            <p:spPr>
              <a:xfrm flipH="1">
                <a:off x="53280" y="261576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041"/>
              <p:cNvSpPr/>
              <p:nvPr/>
            </p:nvSpPr>
            <p:spPr>
              <a:xfrm flipH="1">
                <a:off x="48240" y="4962600"/>
                <a:ext cx="976680" cy="4993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042"/>
              <p:cNvSpPr/>
              <p:nvPr/>
            </p:nvSpPr>
            <p:spPr>
              <a:xfrm flipH="1">
                <a:off x="55440" y="4547520"/>
                <a:ext cx="976320" cy="5029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043"/>
              <p:cNvSpPr/>
              <p:nvPr/>
            </p:nvSpPr>
            <p:spPr>
              <a:xfrm flipH="1">
                <a:off x="47520" y="5654520"/>
                <a:ext cx="976320" cy="30276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1044"/>
              <p:cNvSpPr/>
              <p:nvPr/>
            </p:nvSpPr>
            <p:spPr>
              <a:xfrm flipH="1" rot="16200000">
                <a:off x="361440" y="6191280"/>
                <a:ext cx="345960" cy="97812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78120"/>
                  <a:gd name="textAreaBottom" fmla="*/ 978480 h 97812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1045"/>
              <p:cNvSpPr/>
              <p:nvPr/>
            </p:nvSpPr>
            <p:spPr>
              <a:xfrm flipH="1">
                <a:off x="40680" y="619344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1046"/>
              <p:cNvSpPr/>
              <p:nvPr/>
            </p:nvSpPr>
            <p:spPr>
              <a:xfrm flipH="1">
                <a:off x="40680" y="588312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1047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1048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D440C-2DE7-4BB5-B905-8A43C3B5AB2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7360"/>
              <a:chOff x="-3240" y="2479680"/>
              <a:chExt cx="9146880" cy="101736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880" y="-1575000"/>
                <a:ext cx="990720" cy="9118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9118800"/>
                  <a:gd name="textAreaBottom" fmla="*/ 9119160 h 9118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088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8980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1480" y="2786760"/>
                <a:ext cx="990360" cy="40428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4160" y="275112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6600" y="2697120"/>
                <a:ext cx="990720" cy="574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4200"/>
                  <a:gd name="textAreaBottom" fmla="*/ 574560 h 5742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2280" y="2745360"/>
                <a:ext cx="1003320" cy="4996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6040" y="2643480"/>
                <a:ext cx="990360" cy="6681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520" y="264168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808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098960" y="274320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4280" y="2691360"/>
                <a:ext cx="990360" cy="57240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400"/>
                  <a:gd name="textAreaBottom" fmla="*/ 572760 h 5724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120" y="2731680"/>
                <a:ext cx="1003320" cy="50112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80840" y="2650320"/>
                <a:ext cx="990720" cy="667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7800"/>
                  <a:gd name="textAreaBottom" fmla="*/ 668160 h 6678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68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840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92160"/>
              </a:xfrm>
              <a:custGeom>
                <a:avLst/>
                <a:gdLst>
                  <a:gd name="textAreaLeft" fmla="*/ 360 w 461520"/>
                  <a:gd name="textAreaRight" fmla="*/ 462240 w 46152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4240" y="2691360"/>
                <a:ext cx="990360" cy="5727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760"/>
                  <a:gd name="textAreaBottom" fmla="*/ 573120 h 5727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280" y="2731680"/>
                <a:ext cx="1003320" cy="5014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custGeom>
              <a:avLst/>
              <a:gdLst>
                <a:gd name="textAreaLeft" fmla="*/ -360 w 9144360"/>
                <a:gd name="textAreaRight" fmla="*/ 9144360 w 914436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FA6AD-6036-491B-A30F-A34403DC0AF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ndat.org/photo-6593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06280"/>
            <a:ext cx="7772400" cy="230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4e3b30"/>
                </a:solidFill>
                <a:latin typeface="Times New Roman"/>
              </a:rPr>
              <a:t>Matematický milionář </a:t>
            </a:r>
            <a:endParaRPr b="0" lang="en-US" sz="7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357360" y="5857920"/>
            <a:ext cx="21430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Foto: a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8"/>
          <p:cNvSpPr/>
          <p:nvPr/>
        </p:nvSpPr>
        <p:spPr>
          <a:xfrm>
            <a:off x="123840" y="27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5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4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3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61">
            <a:hlinkClick r:id="rId1"/>
          </p:cNvPr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bdélník 12"/>
          <p:cNvSpPr/>
          <p:nvPr/>
        </p:nvSpPr>
        <p:spPr>
          <a:xfrm>
            <a:off x="0" y="63961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Dostupné z Metodického portálu www.rvp.cz, ISSN: 1802-4785, financovaného z ESF a státního rozpočtu ČR.</a:t>
            </a:r>
            <a:br>
              <a:rPr sz="1200"/>
            </a:b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 Provozováno Výzkumným ústavem pedagogickým v Pra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17" descr="C:\Katka\Studium Vysoká škola\Foto disertačka\100OLYMP\Pocity z matematiky-fotky\11a - Kopie.JPG"/>
          <p:cNvPicPr/>
          <p:nvPr/>
        </p:nvPicPr>
        <p:blipFill>
          <a:blip r:embed="rId2"/>
          <a:stretch/>
        </p:blipFill>
        <p:spPr>
          <a:xfrm>
            <a:off x="2786040" y="3571920"/>
            <a:ext cx="328608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89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7" descr=""/>
          <p:cNvPicPr/>
          <p:nvPr/>
        </p:nvPicPr>
        <p:blipFill>
          <a:blip r:embed="rId2"/>
          <a:stretch/>
        </p:blipFill>
        <p:spPr>
          <a:xfrm>
            <a:off x="1857240" y="257184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9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10" descr=""/>
          <p:cNvPicPr/>
          <p:nvPr/>
        </p:nvPicPr>
        <p:blipFill>
          <a:blip r:embed="rId3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12" descr=""/>
          <p:cNvPicPr/>
          <p:nvPr/>
        </p:nvPicPr>
        <p:blipFill>
          <a:blip r:embed="rId4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" descr=""/>
          <p:cNvPicPr/>
          <p:nvPr/>
        </p:nvPicPr>
        <p:blipFill>
          <a:blip r:embed="rId2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2" descr=""/>
          <p:cNvPicPr/>
          <p:nvPr/>
        </p:nvPicPr>
        <p:blipFill>
          <a:blip r:embed="rId3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4"/>
          <a:stretch/>
        </p:blipFill>
        <p:spPr>
          <a:xfrm>
            <a:off x="1857240" y="2571840"/>
            <a:ext cx="525600" cy="5713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6786720" y="328284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6" descr=""/>
          <p:cNvPicPr/>
          <p:nvPr/>
        </p:nvPicPr>
        <p:blipFill>
          <a:blip r:embed="rId2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2"/>
          <a:stretch/>
        </p:blipFill>
        <p:spPr>
          <a:xfrm>
            <a:off x="6786720" y="328608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8"/>
          <p:cNvSpPr/>
          <p:nvPr/>
        </p:nvSpPr>
        <p:spPr>
          <a:xfrm>
            <a:off x="0" y="6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0" y="7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2T08:41:51Z</dcterms:created>
  <dc:creator>Kateřina Crháková</dc:creator>
  <dc:description>Dostupné z Metodického portálu www.rvp.cz, ISSN: 1802-4785, financovaného z ESF a státního rozpočtu ČR. Provozováno Výzkumným ústavem pedagogickým v Praze.</dc:description>
  <dc:language>en-US</dc:language>
  <cp:lastModifiedBy>Štěpánka</cp:lastModifiedBy>
  <dcterms:modified xsi:type="dcterms:W3CDTF">2010-01-31T19:46:09Z</dcterms:modified>
  <cp:revision>44</cp:revision>
  <dc:subject/>
  <dc:title>Matematický milionář</dc:title>
</cp:coreProperties>
</file>