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011871"/>
        <c:axId val="94353148"/>
      </c:scatterChart>
      <c:valAx>
        <c:axId val="4801187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353148"/>
        <c:crosses val="autoZero"/>
        <c:crossBetween val="midCat"/>
        <c:majorUnit val="1"/>
      </c:valAx>
      <c:valAx>
        <c:axId val="9435314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01187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5888707"/>
        <c:axId val="59791661"/>
      </c:scatterChart>
      <c:valAx>
        <c:axId val="7588870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791661"/>
        <c:crosses val="autoZero"/>
        <c:crossBetween val="midCat"/>
        <c:majorUnit val="1"/>
      </c:valAx>
      <c:valAx>
        <c:axId val="5979166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88870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9987866"/>
        <c:axId val="23694456"/>
      </c:scatterChart>
      <c:valAx>
        <c:axId val="3998786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3694456"/>
        <c:crosses val="autoZero"/>
        <c:crossBetween val="midCat"/>
        <c:majorUnit val="2"/>
        <c:minorUnit val="1"/>
      </c:valAx>
      <c:valAx>
        <c:axId val="2369445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998786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8722317"/>
        <c:axId val="91410218"/>
      </c:scatterChart>
      <c:valAx>
        <c:axId val="887223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410218"/>
        <c:crosses val="autoZero"/>
        <c:crossBetween val="midCat"/>
        <c:majorUnit val="2"/>
        <c:minorUnit val="0.05"/>
      </c:valAx>
      <c:valAx>
        <c:axId val="914102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72231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0920907"/>
        <c:axId val="34852153"/>
      </c:scatterChart>
      <c:valAx>
        <c:axId val="2092090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852153"/>
        <c:crosses val="autoZero"/>
        <c:crossBetween val="midCat"/>
        <c:majorUnit val="2"/>
        <c:minorUnit val="0.05"/>
      </c:valAx>
      <c:valAx>
        <c:axId val="3485215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92090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2718121"/>
        <c:axId val="66559554"/>
      </c:scatterChart>
      <c:valAx>
        <c:axId val="727181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559554"/>
        <c:crosses val="autoZero"/>
        <c:crossBetween val="midCat"/>
        <c:majorUnit val="2"/>
        <c:minorUnit val="0.05"/>
      </c:valAx>
      <c:valAx>
        <c:axId val="6655955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71812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751792"/>
        <c:axId val="13034066"/>
      </c:scatterChart>
      <c:valAx>
        <c:axId val="357517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034066"/>
        <c:crosses val="autoZero"/>
        <c:crossBetween val="midCat"/>
        <c:majorUnit val="2"/>
      </c:valAx>
      <c:valAx>
        <c:axId val="1303406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75179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9779152"/>
        <c:axId val="7314299"/>
      </c:scatterChart>
      <c:valAx>
        <c:axId val="3977915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14299"/>
        <c:crosses val="autoZero"/>
        <c:crossBetween val="midCat"/>
        <c:majorUnit val="2"/>
      </c:valAx>
      <c:valAx>
        <c:axId val="731429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77915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2432591"/>
        <c:axId val="87817184"/>
      </c:scatterChart>
      <c:valAx>
        <c:axId val="824325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817184"/>
        <c:crosses val="autoZero"/>
        <c:crossBetween val="midCat"/>
        <c:majorUnit val="2"/>
        <c:minorUnit val="0.05"/>
      </c:valAx>
      <c:valAx>
        <c:axId val="8781718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43259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FA491-A450-4937-8B73-72A4DF6B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6FEF32-AEC2-4EF5-80BF-92533744698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BB3E03-F7D6-4EFE-9B6D-2F96903925E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917B1C-3E75-4435-B038-F4465F2F2A3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