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8070734"/>
        <c:axId val="86932276"/>
      </c:scatterChart>
      <c:valAx>
        <c:axId val="48070734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6932276"/>
        <c:crosses val="autoZero"/>
        <c:crossBetween val="midCat"/>
        <c:majorUnit val="1"/>
      </c:valAx>
      <c:valAx>
        <c:axId val="86932276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070734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41674227"/>
        <c:axId val="5770571"/>
      </c:scatterChart>
      <c:valAx>
        <c:axId val="41674227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770571"/>
        <c:crosses val="autoZero"/>
        <c:crossBetween val="midCat"/>
        <c:majorUnit val="1"/>
      </c:valAx>
      <c:valAx>
        <c:axId val="5770571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674227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83797593"/>
        <c:axId val="70706656"/>
      </c:scatterChart>
      <c:valAx>
        <c:axId val="83797593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0706656"/>
        <c:crosses val="autoZero"/>
        <c:crossBetween val="midCat"/>
        <c:majorUnit val="2"/>
        <c:minorUnit val="1"/>
      </c:valAx>
      <c:valAx>
        <c:axId val="70706656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83797593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23998263"/>
        <c:axId val="5207069"/>
      </c:scatterChart>
      <c:valAx>
        <c:axId val="2399826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207069"/>
        <c:crosses val="autoZero"/>
        <c:crossBetween val="midCat"/>
        <c:majorUnit val="2"/>
        <c:minorUnit val="0.05"/>
      </c:valAx>
      <c:valAx>
        <c:axId val="520706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399826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93669830"/>
        <c:axId val="89851144"/>
      </c:scatterChart>
      <c:valAx>
        <c:axId val="9366983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851144"/>
        <c:crosses val="autoZero"/>
        <c:crossBetween val="midCat"/>
        <c:majorUnit val="2"/>
        <c:minorUnit val="0.05"/>
      </c:valAx>
      <c:valAx>
        <c:axId val="8985114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366983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0258872"/>
        <c:axId val="93473143"/>
      </c:scatterChart>
      <c:valAx>
        <c:axId val="9025887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3473143"/>
        <c:crosses val="autoZero"/>
        <c:crossBetween val="midCat"/>
        <c:majorUnit val="2"/>
        <c:minorUnit val="0.05"/>
      </c:valAx>
      <c:valAx>
        <c:axId val="9347314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025887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5716109"/>
        <c:axId val="88034199"/>
      </c:scatterChart>
      <c:valAx>
        <c:axId val="3571610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8034199"/>
        <c:crosses val="autoZero"/>
        <c:crossBetween val="midCat"/>
        <c:majorUnit val="2"/>
      </c:valAx>
      <c:valAx>
        <c:axId val="88034199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5716109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0347726"/>
        <c:axId val="17304531"/>
      </c:scatterChart>
      <c:valAx>
        <c:axId val="3034772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7304531"/>
        <c:crosses val="autoZero"/>
        <c:crossBetween val="midCat"/>
        <c:majorUnit val="2"/>
      </c:valAx>
      <c:valAx>
        <c:axId val="17304531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347726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51963385"/>
        <c:axId val="56570812"/>
      </c:scatterChart>
      <c:valAx>
        <c:axId val="5196338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570812"/>
        <c:crosses val="autoZero"/>
        <c:crossBetween val="midCat"/>
        <c:majorUnit val="2"/>
        <c:minorUnit val="0.05"/>
      </c:valAx>
      <c:valAx>
        <c:axId val="5657081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196338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B3541D-EA1D-41AE-A3EC-87A9426F0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DD7727-C4BD-477D-819F-9B792E26DDD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4C4694-17B4-46FB-A392-29CADB76DAFC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4A8544-61A8-435A-99AA-F53A72556D46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